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1F6-3060-4FFA-A3EB-81854604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CC9-CD13-4ED8-92CA-9770C6AB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A5B-22F3-4279-B500-A183429F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3FE-A3C0-4B7E-9067-1CBFDD82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25B-C1C5-4407-AFEB-202EBB09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004-0F50-44B5-9F3C-82789B49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409-78FB-4AAD-8764-26B18D2E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893-FC84-48E7-A617-839D8147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514-A54D-4AB0-81E1-058D9633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FC6-001D-4F4C-9152-93FD5389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CA0-FDC6-4AF2-B307-6B2B4195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E9F-7178-41FF-8B1E-66640B51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BDF4-C687-470A-BD57-A6F83C3FA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apter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28600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dpoint of a segment divides it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_____ _____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8380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idpoint of a segment divides it into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wo congruent seg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62120" y="3733920"/>
            <a:ext cx="411480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920" y="5791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2400" y="358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8680" y="47242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1814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403848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7120" y="449568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  =  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6640" y="434340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457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457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site rays share the same 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site rays share the sam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endpoi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600200" y="3429000"/>
            <a:ext cx="4648320" cy="2209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044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800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4880" y="365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2800" y="520056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2578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 The Follow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2209680"/>
            <a:ext cx="7239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 1. Line 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 2. Ray 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 3. Segment 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 4. Length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8195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038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648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33720" y="2043000"/>
            <a:ext cx="4300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2-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3-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4-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7524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 l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t intersect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copla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arallel li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t intersect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copla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191120"/>
            <a:ext cx="6324840" cy="1828800"/>
          </a:xfrm>
          <a:prstGeom prst="parallelogram">
            <a:avLst>
              <a:gd name="adj" fmla="val 86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480060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48640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648320"/>
            <a:ext cx="304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86040" y="48006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257440" y="54864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__ l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t intersect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NOT copla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kew li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not intersect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NOT copla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752480"/>
            <a:ext cx="7848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3 undefined te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ometry a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______, ______ and 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350532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+ NS = 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____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057400" y="533520"/>
            <a:ext cx="4495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0600" y="26668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7480" y="1981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30492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egment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following angle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                      3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                     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58128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295280" y="1980720"/>
            <a:ext cx="6098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79132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905120" y="41907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54864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486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5053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791320" y="1981080"/>
            <a:ext cx="1447560" cy="1524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5638680"/>
            <a:ext cx="3276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800" y="495288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5238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btu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2.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3.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cu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4.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a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9810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pendicular lines intersect to form ______ ang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914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pendicular lines intersect to form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6483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200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6240" y="43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1480" y="57913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5600" y="4191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4267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4572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426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AB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_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266688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981080" y="380880"/>
            <a:ext cx="1905120" cy="22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86200" y="609120"/>
            <a:ext cx="320040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5000" y="1981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67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2520" y="68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9400" y="2666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6280" y="2590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4956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038480" y="44956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714640" y="4495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gle Addition Postu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point Formul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447920" y="2057400"/>
            <a:ext cx="5029200" cy="396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86728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4419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24560" y="1752480"/>
            <a:ext cx="151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840" y="38098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( _____ , _____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 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br>
              <a:rPr sz="4400"/>
            </a:b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2362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362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5360" y="2438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800" y="2362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2400" y="16765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560" y="1905120"/>
            <a:ext cx="28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dpoint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1752480"/>
            <a:ext cx="76320" cy="155412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1676520"/>
            <a:ext cx="75960" cy="1554120"/>
          </a:xfrm>
          <a:custGeom>
            <a:avLst/>
            <a:gdLst>
              <a:gd name="textAreaLeft" fmla="*/ 0 w 75960"/>
              <a:gd name="textAreaRight" fmla="*/ 53280 w 7596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920" y="457200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791320" y="3581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3 undefined te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ometry a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i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midpoint of segment AB where A (-6, -5) and B (-4,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23623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6 + -4    -5 + 3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5053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35053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6400" y="350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1160" y="350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8920" y="3124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9360" y="3048120"/>
            <a:ext cx="116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3048120"/>
            <a:ext cx="17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-5, -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20800" y="289548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819520"/>
            <a:ext cx="76320" cy="155412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2819520"/>
            <a:ext cx="76320" cy="1554120"/>
          </a:xfrm>
          <a:custGeom>
            <a:avLst/>
            <a:gdLst>
              <a:gd name="textAreaLeft" fmla="*/ 0 w 76320"/>
              <a:gd name="textAreaRight" fmla="*/ 53640 w 76320"/>
              <a:gd name="textAreaTop" fmla="*/ 64440 h 1554120"/>
              <a:gd name="textAreaBottom" fmla="*/ 1489680 h 155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L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447920" y="2361960"/>
            <a:ext cx="510516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86360" y="5638680"/>
            <a:ext cx="1910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91880" y="2057400"/>
            <a:ext cx="1956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=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74320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971440" y="2514600"/>
            <a:ext cx="30492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514600"/>
            <a:ext cx="457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9400" y="4495680"/>
            <a:ext cx="41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Distance Formul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RECTANG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2438280"/>
            <a:ext cx="7162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 = 2( ____ ) + 2( _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049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lw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l +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505320"/>
            <a:ext cx="4267080" cy="198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19112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dth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55627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ngth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QUARE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971800"/>
            <a:ext cx="6324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 ( ____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057400" y="1066680"/>
            <a:ext cx="4495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4800" spc="-1" strike="noStrike" baseline="30000">
                <a:solidFill>
                  <a:srgbClr val="ff0000"/>
                </a:solidFill>
                <a:latin typeface="Times New Roman"/>
              </a:rPr>
              <a:t>2        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3581280"/>
            <a:ext cx="175248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9400" y="5159520"/>
            <a:ext cx="13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ide 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CIRCL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6720" y="2901960"/>
            <a:ext cx="325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=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95680" y="2946240"/>
            <a:ext cx="325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 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16520" y="2889360"/>
            <a:ext cx="222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 = </a:t>
            </a:r>
            <a:r>
              <a:rPr b="0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0" lang="en-US" sz="4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5680" y="2933640"/>
            <a:ext cx="21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 =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r</a:t>
            </a:r>
            <a:r>
              <a:rPr b="0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ways, Sometimes or N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040" y="2437920"/>
            <a:ext cx="7467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points are _____ col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are _____ copla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_____ lie on exactly on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_____ lie on exactly on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s are performed using only  a ____________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 _____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s are performed using only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p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aighted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S TO KNOW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Copy Seg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Bisect Seg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Copy Ang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Bisect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7652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points a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lli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a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pla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e on exactly on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points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e on exactly on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5146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AB  =  X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_____ = 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21880" y="281952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=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2670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0600" y="373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0840" y="373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880" y="4343400"/>
            <a:ext cx="7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760" y="42670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N = 15 – (-10)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43:24Z</dcterms:created>
  <dc:creator>D. Mark Frankum</dc:creator>
  <dc:description/>
  <dc:language>en-US</dc:language>
  <cp:lastModifiedBy>D. Mark Frankum</cp:lastModifiedBy>
  <dcterms:modified xsi:type="dcterms:W3CDTF">2009-11-24T22:30:36Z</dcterms:modified>
  <cp:revision>110</cp:revision>
  <dc:subject/>
  <dc:title>Chapter One</dc:title>
</cp:coreProperties>
</file>