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326-7D18-4DBC-AB08-445A6555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33E-B1ED-497F-A7A0-A71858DC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1C9-2F5E-492C-863A-6F7E462A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5BC-0646-40D8-AFF8-02380907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D84-9AA2-44DF-B108-C5402F60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1E3-0862-44DB-878B-120E7664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6EE-5DD3-49D7-B1A6-353D6C3F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65B-BA17-4F9A-8F86-49B7765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BD3-CE1F-42F7-9A24-2E11F181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910-FFB3-4A9F-83D2-6E5320B5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FE6-DC30-4C10-9872-08102C24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8D9-DC94-4325-B990-487FD76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171D-E448-44AF-8777-3445D92E6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hapter 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2286000"/>
            <a:ext cx="7924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dpoint of a segment divides it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_____ _____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83808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dpoint of a segment divides it into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wo congruent seg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62120" y="3733920"/>
            <a:ext cx="411480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920" y="57913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2400" y="358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8680" y="47242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1814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40384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7120" y="449568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  =  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6640" y="434340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4572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4572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site rays share the same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site rays share the sam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endpoi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600200" y="3429000"/>
            <a:ext cx="4648320" cy="2209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0440" y="510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8000" y="44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4880" y="365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2800" y="520056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2578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 The Follow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2209680"/>
            <a:ext cx="7239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 1. Line 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 2. Ray 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 3. Segment 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 4. Length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8195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038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648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33720" y="2043000"/>
            <a:ext cx="4300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2-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3-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4-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7524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 l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ot intersect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copla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arallel li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ot intersect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copla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191120"/>
            <a:ext cx="6324840" cy="1828800"/>
          </a:xfrm>
          <a:prstGeom prst="parallelogram">
            <a:avLst>
              <a:gd name="adj" fmla="val 86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480060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48640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64832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86040" y="48006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257440" y="54864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_ l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ot intersect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NOT copla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kew li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ot intersect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NOT copla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752480"/>
            <a:ext cx="7848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3 undefined te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ometry a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______, ______ and 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3505320"/>
            <a:ext cx="761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 + NS = 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______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057400" y="533520"/>
            <a:ext cx="4495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0600" y="26668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7480" y="1981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30492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egment Addition Postu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angle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                      3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                     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358128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295280" y="1980720"/>
            <a:ext cx="60984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7913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905120" y="41907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5486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486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505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791320" y="1981080"/>
            <a:ext cx="144756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5638680"/>
            <a:ext cx="3276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800" y="495288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5238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btu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2.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3.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cu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4.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9810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pendicular lines intersect to form ______ ang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914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pendicular lines intersect to form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6483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200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6240" y="43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1480" y="57913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5600" y="4191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4267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4572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426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B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___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26668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981080" y="380880"/>
            <a:ext cx="1905120" cy="22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86200" y="609120"/>
            <a:ext cx="320040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5000" y="1981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67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2520" y="685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9400" y="2666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6280" y="2590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4956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038480" y="44956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714640" y="4495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gle Addition Postu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point Formul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447920" y="2057400"/>
            <a:ext cx="5029200" cy="396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86728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44197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24560" y="1752480"/>
            <a:ext cx="151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840" y="38098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( _____ , _____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2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br>
              <a:rPr sz="4400"/>
            </a:b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2362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362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5360" y="2438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800" y="2362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2400" y="16765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560" y="1905120"/>
            <a:ext cx="28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dpoint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1752480"/>
            <a:ext cx="76320" cy="1554120"/>
          </a:xfrm>
          <a:custGeom>
            <a:avLst/>
            <a:gdLst>
              <a:gd name="textAreaLeft" fmla="*/ 22320 w 76320"/>
              <a:gd name="textAreaRight" fmla="*/ 76320 w 7632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1676520"/>
            <a:ext cx="75960" cy="1554120"/>
          </a:xfrm>
          <a:custGeom>
            <a:avLst/>
            <a:gdLst>
              <a:gd name="textAreaLeft" fmla="*/ 0 w 75960"/>
              <a:gd name="textAreaRight" fmla="*/ 53280 w 7596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920" y="4572000"/>
            <a:ext cx="18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79132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3 undefined te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ometry a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oi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midpoint of segment AB where A (-6, -5) and B (-4,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6 + -4    -5 + 3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35053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35053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6400" y="350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1160" y="350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78920" y="3124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9360" y="3048120"/>
            <a:ext cx="116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3048120"/>
            <a:ext cx="17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-5, -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20800" y="289548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819520"/>
            <a:ext cx="76320" cy="1554120"/>
          </a:xfrm>
          <a:custGeom>
            <a:avLst/>
            <a:gdLst>
              <a:gd name="textAreaLeft" fmla="*/ 22320 w 76320"/>
              <a:gd name="textAreaRight" fmla="*/ 76320 w 7632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2819520"/>
            <a:ext cx="76320" cy="1554120"/>
          </a:xfrm>
          <a:custGeom>
            <a:avLst/>
            <a:gdLst>
              <a:gd name="textAreaLeft" fmla="*/ 0 w 76320"/>
              <a:gd name="textAreaRight" fmla="*/ 53640 w 7632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L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447920" y="2361960"/>
            <a:ext cx="510516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86360" y="5638680"/>
            <a:ext cx="1910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91880" y="2057400"/>
            <a:ext cx="1956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 =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743200"/>
            <a:ext cx="22860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971440" y="2514600"/>
            <a:ext cx="30492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514600"/>
            <a:ext cx="457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9400" y="4495680"/>
            <a:ext cx="41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istance Formul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RECT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2438280"/>
            <a:ext cx="7162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( ____ )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 = 2( ____ ) + 2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049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lw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l +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3505320"/>
            <a:ext cx="4267080" cy="198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419112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dth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562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ngth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QUARE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971800"/>
            <a:ext cx="6324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( ____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057400" y="1066680"/>
            <a:ext cx="4495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4800" spc="-1" strike="noStrike" baseline="30000">
                <a:solidFill>
                  <a:srgbClr val="ff0000"/>
                </a:solidFill>
                <a:latin typeface="Times New Roman"/>
              </a:rPr>
              <a:t>2        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3581280"/>
            <a:ext cx="175248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9400" y="515952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ide 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CIRCL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6720" y="2901960"/>
            <a:ext cx="325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95680" y="2946240"/>
            <a:ext cx="325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 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16520" y="2889360"/>
            <a:ext cx="222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r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5680" y="2933640"/>
            <a:ext cx="21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 =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r</a:t>
            </a:r>
            <a:r>
              <a:rPr b="0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ways, Sometimes or N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040" y="2437920"/>
            <a:ext cx="7467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points are _____ col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are _____ copla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_____ lie on exactly on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_____ lie on exactly on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s are performed using only  a ____________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 __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s are performed using only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mp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aighted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S TO KNOW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Copy Seg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Bisect Seg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Copy Ang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Bisect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7652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points a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l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a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pla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e on exactly on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e on exactly on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5146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AB  =  X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_____ = 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21880" y="281952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 =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2670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0600" y="373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0840" y="373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880" y="4343400"/>
            <a:ext cx="7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760" y="42670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 = 15 – (-10)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43:24Z</dcterms:created>
  <dc:creator>D. Mark Frankum</dc:creator>
  <dc:description/>
  <dc:language>en-US</dc:language>
  <cp:lastModifiedBy>D. Mark Frankum</cp:lastModifiedBy>
  <dcterms:modified xsi:type="dcterms:W3CDTF">2009-11-24T22:30:36Z</dcterms:modified>
  <cp:revision>110</cp:revision>
  <dc:subject/>
  <dc:title>Chapter One</dc:title>
</cp:coreProperties>
</file>