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180-AD0D-430E-ACF0-A0F721B2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F2A-2801-4490-9AEA-02EB96B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F20-0BC0-4317-9729-A61410FC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26C-352B-458C-8D70-3CF5EE3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9D6-0328-4157-8833-2125367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FB8-6A6F-406B-8851-6D70E5E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231-2A92-42C4-B3F8-AE5F301C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ED0-E13F-4F11-88F9-C742AC6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1C8-5E90-4350-AEDC-203CA21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560-9D19-4C24-881D-0B1FC22B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7F6-6B80-46A6-994A-3409BDD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640-7FA8-44E2-9A78-497B615F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212-3E53-4B1F-B7C5-5FFC317D7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2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h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 2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6160" y="320040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( ____ )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47920" y="27432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0574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191120"/>
            <a:ext cx="2590920" cy="990360"/>
          </a:xfrm>
          <a:prstGeom prst="parallelogram">
            <a:avLst>
              <a:gd name="adj" fmla="val 6540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4680" y="2357280"/>
            <a:ext cx="50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5480" y="2362320"/>
            <a:ext cx="152424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2362320"/>
            <a:ext cx="838440" cy="1828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362320"/>
            <a:ext cx="10666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2438280"/>
            <a:ext cx="3808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572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438280"/>
            <a:ext cx="76176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6560" y="2743200"/>
            <a:ext cx="60948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2160" y="5638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quare Pyram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419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9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267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76920" y="3124080"/>
            <a:ext cx="914400" cy="533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31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01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581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94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lateral edge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apothem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5- bas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½ ( ___ )( ___ ) +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A = ½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l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8480" y="335232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0720" y="411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92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000" y="4038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048120" y="3352680"/>
                <a:ext cx="25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Chapter 7,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formulas f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i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pezoid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ex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438280"/>
                <a:ext cx="254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4876920" y="3123720"/>
            <a:ext cx="304560" cy="838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1680" y="38098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3200" y="2362320"/>
            <a:ext cx="17524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438280"/>
            <a:ext cx="152424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724280"/>
            <a:ext cx="3276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438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952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10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radius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35053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 )( __ )( __ ) + 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 l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+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1/3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V = 1/3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8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35812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400" y="4572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ume of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053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char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98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514600"/>
          <a:ext cx="6095880" cy="1751040"/>
        </p:xfrm>
        <a:graphic>
          <a:graphicData uri="http://schemas.openxmlformats.org/drawingml/2006/table">
            <a:tbl>
              <a:tblPr/>
              <a:tblGrid>
                <a:gridCol w="1600200"/>
                <a:gridCol w="246384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19920" y="3124080"/>
                <a:ext cx="19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2120" y="2590920"/>
          <a:ext cx="7391160" cy="249372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  <a:gridCol w="190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½ (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)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53080" y="3276720"/>
                <a:ext cx="190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3962520"/>
                <a:ext cx="190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= ( ___ )( ___ )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8120"/>
            <a:ext cx="495288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47242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724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238520" y="3886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76560" y="251460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25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0000" y="548640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Rectangular Pr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581280"/>
            <a:ext cx="7617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5809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2440" y="46134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V 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r</a:t>
            </a:r>
            <a:r>
              <a:rPr b="0" lang="en-US" sz="6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67080" y="236232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sol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/Similarity Ratio 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soli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/Similarity Ratio 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4: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Ratio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8: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 of the following lin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15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-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= -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15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   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343400" y="3276720"/>
                <a:ext cx="31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715000" y="3276720"/>
                <a:ext cx="787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802240" y="489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lope (3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657600" y="4191120"/>
            <a:ext cx="685800" cy="838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5029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y-intercept (-15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172200" y="4190760"/>
            <a:ext cx="457200" cy="99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0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13372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- lateral edge (height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- lateral face (side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- base (top/botto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3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10 = 0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5)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2) = 0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5,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" y="3352680"/>
            <a:ext cx="76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__ )( ____ ) + 2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SA =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ph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+ 2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3733560"/>
            <a:ext cx="1219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544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19720" y="36576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240" y="4470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19920" y="3657600"/>
            <a:ext cx="3045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4495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=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B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4267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67080" y="350532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00" y="4343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62360" y="350532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 = 2( __ )( __ )( __ ) + 2( __ )( __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2:35:53Z</dcterms:created>
  <dc:creator>dfrankum</dc:creator>
  <dc:description/>
  <dc:language>en-US</dc:language>
  <cp:lastModifiedBy>D. Mark Frankum</cp:lastModifiedBy>
  <dcterms:modified xsi:type="dcterms:W3CDTF">2009-11-24T22:40:51Z</dcterms:modified>
  <cp:revision>55</cp:revision>
  <dc:subject/>
  <dc:title>Chapter 12</dc:title>
</cp:coreProperties>
</file>