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2E9-A9E5-4218-BA7A-BF5A5954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A9C-78BB-4C54-AEE4-623AACD1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28C-2173-442D-9507-4FFEE08E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A36-A506-4B6E-A286-1BB2F3E8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DF7-A9E4-4750-AE2B-D2A593F4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667-E551-4C37-B701-23666BF0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214-3E48-4E96-A6F3-5DCDBD34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53D-8DEE-4D77-9B7B-79C9E548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01F-7E84-40BB-B4EE-DEE78260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F50-6294-45E8-819C-A3F6C9D2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579-08FD-47CA-BDF2-729CD55D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58A-C0EC-42F0-A83F-471FC734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237E-2CC0-45AB-B529-7349EE5F1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A = 2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h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+ 2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CYLIND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6160" y="3200400"/>
            <a:ext cx="650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( ____ )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V =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447920" y="2743200"/>
          <a:ext cx="6095880" cy="1981080"/>
        </p:xfrm>
        <a:graphic>
          <a:graphicData uri="http://schemas.openxmlformats.org/drawingml/2006/table">
            <a:tbl>
              <a:tblPr/>
              <a:tblGrid>
                <a:gridCol w="1752480"/>
                <a:gridCol w="2209680"/>
                <a:gridCol w="2133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+ 2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523880" y="2057400"/>
          <a:ext cx="6095880" cy="1981080"/>
        </p:xfrm>
        <a:graphic>
          <a:graphicData uri="http://schemas.openxmlformats.org/drawingml/2006/table">
            <a:tbl>
              <a:tblPr/>
              <a:tblGrid>
                <a:gridCol w="1752480"/>
                <a:gridCol w="2209680"/>
                <a:gridCol w="2133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+ 2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 +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4191120"/>
            <a:ext cx="2590920" cy="990360"/>
          </a:xfrm>
          <a:prstGeom prst="parallelogram">
            <a:avLst>
              <a:gd name="adj" fmla="val 6540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4680" y="2357280"/>
            <a:ext cx="5040" cy="221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895480" y="2362320"/>
            <a:ext cx="152424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0920" y="2362320"/>
            <a:ext cx="838440" cy="1828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2362320"/>
            <a:ext cx="106668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2438280"/>
            <a:ext cx="38088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4572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2438280"/>
            <a:ext cx="76176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76560" y="2743200"/>
            <a:ext cx="60948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2160" y="56386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quare Pyram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419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419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05520" y="4267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2670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876920" y="3124080"/>
            <a:ext cx="914400" cy="5335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31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5012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581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94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1- lateral edge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2- slant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3- apothem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4-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5- base 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80880" y="31237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½ ( ___ )( ___ ) + ( 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A = ½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pl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038480" y="335232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0720" y="411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 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019920" y="327672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000" y="40384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  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048120" y="3352680"/>
                <a:ext cx="253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MPORTANT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Chapter 7,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formulas for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riangle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ctangle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rapezoid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exa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  B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724280" y="2438280"/>
                <a:ext cx="254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4876920" y="3123720"/>
            <a:ext cx="304560" cy="838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11680" y="38098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743200" y="2362320"/>
            <a:ext cx="175248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438280"/>
            <a:ext cx="152424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724280"/>
            <a:ext cx="32767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24382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1814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952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952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10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9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1-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2- radius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3- slant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35053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( __ )( __ )( __ ) + ( __ )( 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A = 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r l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+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6840" y="32767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 = 1/3 ( ___ )( ___ )( 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V = 1/3 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8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358128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4400" y="45720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lume of a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3505320"/>
            <a:ext cx="1219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char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984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47920" y="2514600"/>
          <a:ext cx="6095880" cy="1751040"/>
        </p:xfrm>
        <a:graphic>
          <a:graphicData uri="http://schemas.openxmlformats.org/drawingml/2006/table">
            <a:tbl>
              <a:tblPr/>
              <a:tblGrid>
                <a:gridCol w="1600200"/>
                <a:gridCol w="2463840"/>
                <a:gridCol w="203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am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pl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019920" y="3124080"/>
                <a:ext cx="19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62120" y="2590920"/>
          <a:ext cx="7391160" cy="2493720"/>
        </p:xfrm>
        <a:graphic>
          <a:graphicData uri="http://schemas.openxmlformats.org/drawingml/2006/table">
            <a:tbl>
              <a:tblPr/>
              <a:tblGrid>
                <a:gridCol w="1676160"/>
                <a:gridCol w="3810240"/>
                <a:gridCol w="1904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am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pl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½ (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)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+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53080" y="3276720"/>
                <a:ext cx="190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77120" y="3962520"/>
                <a:ext cx="190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HER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= ( ___ )( ___ )( 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048120"/>
            <a:ext cx="4952880" cy="22096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048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47242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286000" y="4724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7238520" y="38862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2670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76560" y="251460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9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225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0000" y="5486400"/>
            <a:ext cx="34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ght Rectangular Pr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4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3581280"/>
            <a:ext cx="7617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038480" y="3580920"/>
            <a:ext cx="9144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12440" y="46134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a of a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HE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 = ( ___ )( ___ )( 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V 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r</a:t>
            </a:r>
            <a:r>
              <a:rPr b="0" lang="en-US" sz="6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267080" y="2362320"/>
                <a:ext cx="622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8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7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25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8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7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3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25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for similar soli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971800"/>
            <a:ext cx="7467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 Factor/Similarity Ratio  =  2 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Ratio =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Ratio =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for similar soli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971800"/>
            <a:ext cx="7467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 Factor/Similarity Ratio  =  2 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Ratio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4: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Ratio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8: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slope and y-intercept of the following lin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8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8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15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-8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= -6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15</a:t>
            </a:r>
            <a:br>
              <a:rPr sz="4400"/>
            </a:b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   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+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343400" y="3276720"/>
                <a:ext cx="31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715000" y="3276720"/>
                <a:ext cx="7873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2802240" y="48960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lope (3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657600" y="4191120"/>
            <a:ext cx="685800" cy="838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5029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y-intercept (-15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172200" y="4190760"/>
            <a:ext cx="457200" cy="990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by factoring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10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2133720"/>
            <a:ext cx="6324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- lateral edge (height)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- lateral face (side)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- base (top/botto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3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10 = 0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5)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2) = 0</a:t>
            </a:r>
            <a:br>
              <a:rPr sz="4400"/>
            </a:b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5,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RIS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" y="3352680"/>
            <a:ext cx="768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( ____ )( ____ ) + 2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SA =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ph  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+ 2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3733560"/>
            <a:ext cx="1219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5440" y="47242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419720" y="36576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3240" y="44704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019920" y="3657600"/>
            <a:ext cx="3045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44956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RIS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=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V = B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8520" y="42670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267080" y="3505320"/>
            <a:ext cx="6098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8000" y="43434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562360" y="3505320"/>
            <a:ext cx="5331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CYLIND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 = 2( __ )( __ )( __ ) + 2( __ )( __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22:35:53Z</dcterms:created>
  <dc:creator>dfrankum</dc:creator>
  <dc:description/>
  <dc:language>en-US</dc:language>
  <cp:lastModifiedBy>D. Mark Frankum</cp:lastModifiedBy>
  <dcterms:modified xsi:type="dcterms:W3CDTF">2009-11-24T22:40:51Z</dcterms:modified>
  <cp:revision>55</cp:revision>
  <dc:subject/>
  <dc:title>Chapter 12</dc:title>
</cp:coreProperties>
</file>