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559-E829-4DDE-A48C-08AC3642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384-6416-4492-8218-5470144B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0E1-CE0C-4F58-AEF0-28B21F01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D33-C3B1-47F0-8FB7-27F59015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877-2330-4E0A-9072-4E25D94A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1CF-82CD-43C0-A5C3-455B645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6FE-8ABB-4E18-98EB-FE0A24C0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A57-066B-44BD-8711-5BEC6FE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59E-7EE6-4FFE-ACC9-84BF3074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70A-EF9A-4666-8D78-59DAD14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07E-12B6-43BF-AF46-3451F65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1F3-96B0-470F-9F72-3655323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8E20-3DFA-46AB-BF51-FFB1C5A4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reate a right triang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209680"/>
            <a:ext cx="3809880" cy="3733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029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9625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2116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2209680"/>
            <a:ext cx="3809880" cy="3733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9625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116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4038480"/>
            <a:ext cx="160020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line that is tangent to each of 2 coplanar circles is a 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ommon tang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mmon tang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the following circles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8954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8954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8195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8195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7242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47242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46483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495680"/>
            <a:ext cx="1447920" cy="1371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7720" y="29624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5520" y="288612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2520" y="49021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4120" y="479124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3040" y="-450360"/>
            <a:ext cx="3886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21932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11430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3716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3716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03848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1148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114800"/>
            <a:ext cx="91440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962520"/>
            <a:ext cx="1447920" cy="1371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960" y="14479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2760" y="144792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920" y="40384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5040" y="4114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9320" y="1066680"/>
            <a:ext cx="2590560" cy="152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1980720"/>
            <a:ext cx="2514600" cy="228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914400"/>
            <a:ext cx="1447560" cy="1676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880" y="838080"/>
            <a:ext cx="1447920" cy="1676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34120" y="1295280"/>
            <a:ext cx="2666880" cy="152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2860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838080"/>
            <a:ext cx="0" cy="19051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038480"/>
            <a:ext cx="2361960" cy="152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876920"/>
            <a:ext cx="2057400" cy="228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334120" y="3352680"/>
            <a:ext cx="1218960" cy="1981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0600" y="243828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5880" y="251136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6560" y="52578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9600" y="5410080"/>
            <a:ext cx="9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radius is ________ to a tangent at the point of tang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10552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2286000"/>
            <a:ext cx="281952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5200" y="317808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8098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4876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angent segments from a point outside a circle are 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ongru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590920"/>
            <a:ext cx="3200400" cy="3200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9480" y="1904760"/>
            <a:ext cx="457200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962520"/>
            <a:ext cx="4800600" cy="236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6576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5640" y="48006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148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6240" y="2514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3080" y="556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31200" y="388620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 = 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f 2 sides of a triangle are radii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n the triangle is ____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ides of an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INSCRIBED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POLYGON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are _________ of a circ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ho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362320"/>
            <a:ext cx="3733560" cy="3581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2578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00400" y="2362320"/>
            <a:ext cx="129528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2362320"/>
            <a:ext cx="160020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vertex of a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s on the ______ and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ides contain 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enter… radi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335304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520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03848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572000" y="2971440"/>
            <a:ext cx="12952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2362320"/>
            <a:ext cx="335304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520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03848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572000" y="2971440"/>
            <a:ext cx="12952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76720" y="106632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572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2240" y="3886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7160" y="396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362320"/>
            <a:ext cx="335304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520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03848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2971440"/>
            <a:ext cx="12952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809880" y="106632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1447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960" y="38098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1880" y="3886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388620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8720" y="83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vertex of an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INSCRIBED ANGLE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s on the ______ and th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ides contain 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circle… chor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2590920"/>
            <a:ext cx="33526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19520" y="2971800"/>
            <a:ext cx="26668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4267080"/>
            <a:ext cx="2895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2360" y="3276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2590920"/>
            <a:ext cx="33526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2971800"/>
            <a:ext cx="26668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267080"/>
            <a:ext cx="2895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2360" y="3276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71800" y="11426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8160" y="398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9960" y="3886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  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2590920"/>
            <a:ext cx="33526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19520" y="2971800"/>
            <a:ext cx="266688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4267080"/>
            <a:ext cx="28954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2360" y="327672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429000" y="11426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800" y="3987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3280" y="40384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75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8560" y="91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8880" y="6858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7480" y="685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7480" y="129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904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209680"/>
            <a:ext cx="4267080" cy="4038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8880" y="36576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4267080"/>
            <a:ext cx="144756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971800" y="4267080"/>
            <a:ext cx="1447920" cy="144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57150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48006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952520" y="48006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1447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742840" y="1143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666880"/>
            <a:ext cx="3200400" cy="312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2666880"/>
            <a:ext cx="1752480" cy="358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666880" y="33526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656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560" y="5105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4048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479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80920" y="11430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2666880"/>
            <a:ext cx="3200400" cy="312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2666880"/>
            <a:ext cx="1752480" cy="3581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666880" y="33526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920" y="4648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840" y="52038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137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9240" y="762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2200" y="7621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8880" y="11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3640" y="838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1371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743200" y="106632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590920"/>
            <a:ext cx="3353040" cy="3429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048120" y="3200040"/>
            <a:ext cx="281916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3352680"/>
            <a:ext cx="251460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48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5160" y="3809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25920" y="39625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5880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30840" y="397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1 =      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106632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590920"/>
            <a:ext cx="3353040" cy="3429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200040"/>
            <a:ext cx="281916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3352680"/>
            <a:ext cx="251460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4480" y="3976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6200" y="38098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5560" y="39625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5880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9440" y="38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685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7621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800" y="1295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60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1 = 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123720" y="106668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362320"/>
            <a:ext cx="320040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752480" y="2666880"/>
            <a:ext cx="541044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038480"/>
            <a:ext cx="57150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37339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24160" y="365760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376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1 =     (x - y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123720" y="106668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362320"/>
            <a:ext cx="320040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752480" y="2666880"/>
            <a:ext cx="541044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038480"/>
            <a:ext cx="571500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3733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80640" y="3733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71680" y="37339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30640" y="762120"/>
            <a:ext cx="3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 angle inscribed in a semicircle is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_______ 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2514600"/>
            <a:ext cx="3352680" cy="3429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42670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5200" y="35179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895120" y="2743200"/>
            <a:ext cx="76212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2819520"/>
            <a:ext cx="25146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0481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733920" y="297144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opposite angles of an INSCRIBED QUADRILATERAL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1905120"/>
            <a:ext cx="3276720" cy="3047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048120" y="1905120"/>
            <a:ext cx="16761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3048120"/>
            <a:ext cx="19810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1905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29200" y="2590920"/>
            <a:ext cx="914400" cy="23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38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45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24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99840" y="4927680"/>
            <a:ext cx="510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1 +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3 = 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3040" y="5715000"/>
            <a:ext cx="517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    2 + 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4 = 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123720" y="51814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5562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5562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257440" y="52578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6324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971440" y="60199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6324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105520" y="6019920"/>
            <a:ext cx="30456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planar circles with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same center are _________ circ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3886200"/>
            <a:ext cx="7696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___ )( ___ ) = ( ___ ) 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14600" y="228600"/>
            <a:ext cx="4191120" cy="3809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1066680"/>
            <a:ext cx="34290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95480" y="761760"/>
            <a:ext cx="312444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2720" y="91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9600" y="2057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8160" y="2057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8720" y="83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a )( b ) = ( c )( d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2133720"/>
            <a:ext cx="4191120" cy="3809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34290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914400" y="2514240"/>
            <a:ext cx="31240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1280" y="3048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6560" y="274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4080" y="4038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1480" y="4038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251136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(4)(6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___ )( ___ ) = 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304920"/>
            <a:ext cx="3429000" cy="32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33520" y="609120"/>
            <a:ext cx="50292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2362320"/>
            <a:ext cx="5486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2000" y="1295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7640" y="53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4280" y="2387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2560" y="2590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a)(a + b) = (c)(c + 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28600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80880" y="2742840"/>
            <a:ext cx="396252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419720"/>
            <a:ext cx="4038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2160" y="3429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0600" y="2743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6360" y="4343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5160" y="4267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1720" y="2819520"/>
            <a:ext cx="368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(12) = 6 (6 +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 = 36 + 6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24 = 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___ )( ___ ) = ( ___ 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685800"/>
            <a:ext cx="3581280" cy="3352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914400" y="990360"/>
            <a:ext cx="563868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590920"/>
            <a:ext cx="41148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11480" y="1549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0640" y="787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5520" y="2921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a)(a + b) = (c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895480"/>
            <a:ext cx="281952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57200" y="3352320"/>
            <a:ext cx="41911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4495680"/>
            <a:ext cx="2819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963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5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2680" y="4876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8280" y="3276720"/>
            <a:ext cx="273816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(3 + 9)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6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baseline="30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=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ate the center and the radius of the following circle: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8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= 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nter (4, -8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dius =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ite the equation of a circle with center (-1, 3) and passing through (-4, -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= 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oncentr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3886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590920"/>
            <a:ext cx="281916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3200400"/>
            <a:ext cx="1600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6576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350532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iven:   3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- 4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+ 6</a:t>
            </a: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3</a:t>
            </a: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-4</a:t>
            </a:r>
            <a:br>
              <a:rPr sz="6000"/>
            </a:b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                                   QUADRATIC FORMULA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br>
              <a:rPr sz="6000"/>
            </a:b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2971800"/>
            <a:ext cx="4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33920" y="2895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038120" y="2819520"/>
            <a:ext cx="3049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43400" y="28195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9200" y="297180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600" y="3352680"/>
            <a:ext cx="113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br>
              <a:rPr sz="6000"/>
            </a:b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2680" y="2971800"/>
            <a:ext cx="4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289548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038120" y="2819520"/>
            <a:ext cx="3049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28195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9200" y="297180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600" y="3352680"/>
            <a:ext cx="113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71360" y="2892600"/>
            <a:ext cx="221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 4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0600" y="3886200"/>
            <a:ext cx="52704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6000"/>
            <a:ext cx="784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________ arc is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ss than 18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12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mino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diameter that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is ______to a chord bisects that chor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2209680"/>
            <a:ext cx="3809880" cy="3733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5029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2209680"/>
            <a:ext cx="0" cy="3733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800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1160" y="32767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8:02:52Z</dcterms:created>
  <dc:creator>mfrankum</dc:creator>
  <dc:description/>
  <dc:language>en-US</dc:language>
  <cp:lastModifiedBy>D. Mark Frankum</cp:lastModifiedBy>
  <dcterms:modified xsi:type="dcterms:W3CDTF">2009-11-24T22:41:43Z</dcterms:modified>
  <cp:revision>80</cp:revision>
  <dc:subject/>
  <dc:title>CHAPTER 10</dc:title>
</cp:coreProperties>
</file>