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2F9-B3DB-482B-9632-C8A65CA6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1E9-FB46-48F4-AAC1-972AF484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E2D-B928-4504-ABFE-AB0FB10E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DDE-BF82-4F29-9B39-309235CC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FF7-4C4B-48C0-9B4C-CAEF9F51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AD1-DA79-4C5D-8792-C9F7E55C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E1E-A411-4DBD-92BF-70DB4C3D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7B9-33CE-4CC5-B936-696579E8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ADB-C6E3-49C0-9381-3C06EC9A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ADA-9759-4EF2-9E8C-746A56A5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673-9AC7-44D8-93C8-6936BBE9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D87-10C6-40CE-82BB-7B3E5E44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15F0-B9BF-49B2-808C-FFEA8C605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A = 2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h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+ 2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CYLIN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6160" y="3200400"/>
            <a:ext cx="650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( ____ )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V =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47920" y="2743200"/>
          <a:ext cx="6095880" cy="1981080"/>
        </p:xfrm>
        <a:graphic>
          <a:graphicData uri="http://schemas.openxmlformats.org/drawingml/2006/table">
            <a:tbl>
              <a:tblPr/>
              <a:tblGrid>
                <a:gridCol w="1752480"/>
                <a:gridCol w="2209680"/>
                <a:gridCol w="2133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+ 2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23880" y="2057400"/>
          <a:ext cx="6095880" cy="1981080"/>
        </p:xfrm>
        <a:graphic>
          <a:graphicData uri="http://schemas.openxmlformats.org/drawingml/2006/table">
            <a:tbl>
              <a:tblPr/>
              <a:tblGrid>
                <a:gridCol w="1752480"/>
                <a:gridCol w="2209680"/>
                <a:gridCol w="2133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+ 2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4191120"/>
            <a:ext cx="2590920" cy="990360"/>
          </a:xfrm>
          <a:prstGeom prst="parallelogram">
            <a:avLst>
              <a:gd name="adj" fmla="val 6540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4680" y="2357280"/>
            <a:ext cx="5040" cy="221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95480" y="2362320"/>
            <a:ext cx="152424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0920" y="2362320"/>
            <a:ext cx="838440" cy="1828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2362320"/>
            <a:ext cx="106668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2438280"/>
            <a:ext cx="38088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4572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2438280"/>
            <a:ext cx="76176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76560" y="2743200"/>
            <a:ext cx="60948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2160" y="5638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quare Pyram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419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419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05520" y="4267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267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76920" y="3124080"/>
            <a:ext cx="914400" cy="5335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31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501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581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94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1- lateral edge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- slant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3- apothem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4-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5- base 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088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½ ( ___ )( ___ ) + 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A = ½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pl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038480" y="335232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0720" y="411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 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19920" y="327672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000" y="40384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  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048120" y="3352680"/>
                <a:ext cx="253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MPORTANT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Chapter 11,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formulas for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iang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ctang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apezoid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ex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  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24280" y="2438280"/>
                <a:ext cx="254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4876920" y="3123720"/>
            <a:ext cx="304560" cy="838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11680" y="38098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43200" y="2362320"/>
            <a:ext cx="175248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438280"/>
            <a:ext cx="152424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724280"/>
            <a:ext cx="32767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4382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1814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952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952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10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9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1-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- radius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3- slant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35053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( __ )( __ )( __ ) + ( __ )( 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A = 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r l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+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3276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 = 1/3 ( ___ )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V = 1/3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8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358128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4400" y="4572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lume of a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505320"/>
            <a:ext cx="1219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char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984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2514600"/>
          <a:ext cx="6095880" cy="1751040"/>
        </p:xfrm>
        <a:graphic>
          <a:graphicData uri="http://schemas.openxmlformats.org/drawingml/2006/table">
            <a:tbl>
              <a:tblPr/>
              <a:tblGrid>
                <a:gridCol w="1600200"/>
                <a:gridCol w="2463840"/>
                <a:gridCol w="203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am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l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19920" y="3124080"/>
                <a:ext cx="19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62120" y="2590920"/>
          <a:ext cx="7391160" cy="2493720"/>
        </p:xfrm>
        <a:graphic>
          <a:graphicData uri="http://schemas.openxmlformats.org/drawingml/2006/table">
            <a:tbl>
              <a:tblPr/>
              <a:tblGrid>
                <a:gridCol w="1676160"/>
                <a:gridCol w="3810240"/>
                <a:gridCol w="1904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am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l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½ (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)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+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53080" y="3276720"/>
                <a:ext cx="190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3962520"/>
                <a:ext cx="190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HER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= ( ___ )( ___ )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048120"/>
            <a:ext cx="4952880" cy="2209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048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47242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286000" y="4724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238520" y="38862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2670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76560" y="251460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9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225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0000" y="5486400"/>
            <a:ext cx="34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ht Rectangular Pr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4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3581280"/>
            <a:ext cx="7617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038480" y="358092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12440" y="46134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a of a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HE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 = ( ___ )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V 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r</a:t>
            </a:r>
            <a:r>
              <a:rPr b="0" lang="en-US" sz="6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267080" y="2362320"/>
                <a:ext cx="622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8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7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25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8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7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3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25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slope and y-intercept of the following lin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8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8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15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-8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= -6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15</a:t>
            </a:r>
            <a:br>
              <a:rPr sz="4400"/>
            </a:b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   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+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343400" y="3276720"/>
                <a:ext cx="31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715000" y="3276720"/>
                <a:ext cx="7873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02240" y="48960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lope (3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657600" y="4191120"/>
            <a:ext cx="685800" cy="838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5029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y-intercept (-15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172200" y="4190760"/>
            <a:ext cx="457200" cy="990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by factoring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10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3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10 = 0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5)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2) = 0</a:t>
            </a:r>
            <a:br>
              <a:rPr sz="4400"/>
            </a:b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5,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13372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- lateral edge (height)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- lateral face (side)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- base (top/botto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RIS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" y="3352680"/>
            <a:ext cx="768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( ____ )( ____ ) + 2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SA =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ph 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+ 2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3733560"/>
            <a:ext cx="1219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5440" y="47242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419720" y="36576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3240" y="4470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019920" y="3657600"/>
            <a:ext cx="3045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44956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RIS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=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V = B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8520" y="42670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267080" y="350532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00" y="43434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62360" y="3505320"/>
            <a:ext cx="5331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CYLIN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 = 2( __ )( __ )( __ ) + 2( __ )( __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22:35:53Z</dcterms:created>
  <dc:creator>dfrankum</dc:creator>
  <dc:description/>
  <dc:language>en-US</dc:language>
  <cp:lastModifiedBy>D. Mark Frankum</cp:lastModifiedBy>
  <dcterms:modified xsi:type="dcterms:W3CDTF">2009-11-24T22:42:09Z</dcterms:modified>
  <cp:revision>51</cp:revision>
  <dc:subject/>
  <dc:title>Chapter 12</dc:title>
</cp:coreProperties>
</file>