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BE2D-6AEB-4892-814F-D8FC25DAB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474C-C4A6-4A14-A602-719B4D0B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FF36-1AF8-4E54-BE08-52850053D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B390-DCE1-4295-A148-CCC3769DE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44C1-6473-4A6A-9F1A-16AB83C4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CC01-818B-4D6C-B654-D7AB46F9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C7DA-BB99-4449-8D0B-3BCA1B29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7F6F-15F4-47D0-B7CB-04081357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BF4C-6BE5-4436-AB15-782683A3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59CD-837C-46FA-9C5C-2A15A2ED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E50B-0B6F-4148-8ED2-DC79E584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08A2-C6DB-452B-A112-A0C7FEE2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1212-E2DB-49CD-9744-0E87E8FAD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tical angles are ____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tical angles ar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ongru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3124080"/>
            <a:ext cx="4114800" cy="297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437920" y="3124080"/>
            <a:ext cx="3581640" cy="30481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95680" y="426708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11320" y="42670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49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m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= 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5181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4340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361960" y="4952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4343040" y="4952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3505320"/>
            <a:ext cx="6324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495680" y="1066680"/>
            <a:ext cx="2210040" cy="2438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92560" y="2997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2040" y="2997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011360" y="4419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30280" y="2971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426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m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= 18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__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95280" y="3048120"/>
            <a:ext cx="6477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95680" y="685800"/>
            <a:ext cx="1981440" cy="2362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15880" y="2438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78000" y="2438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06800" y="3962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43200" y="4648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742840" y="44197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723920" y="44197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ngle Addition Postul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1066320"/>
            <a:ext cx="86868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   1 and    2 are complementary angles the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1 +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2 =  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2666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990360" y="24382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590560" y="24382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8120" y="3276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047760" y="30481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723920" y="30481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64000" y="2666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05704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   4 and    5 are supplementary angles then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4  +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5 =  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2895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9903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6665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718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5288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971440" y="32767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952880" y="32767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92960" y="2895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the underlined portion of the following statemen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the sun is shin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n it is not rain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8120" y="4495680"/>
            <a:ext cx="3352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66680" y="1752480"/>
            <a:ext cx="7086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or the following slides,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ell WHY each given statement is true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62120" y="1676520"/>
            <a:ext cx="77724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    1 and    2 are supp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3 and    1 are supp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then    2       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123720" y="2666880"/>
            <a:ext cx="22860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29718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876560" y="2590920"/>
            <a:ext cx="15228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76920" y="28954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123720" y="3276720"/>
            <a:ext cx="22860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35812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952880" y="3276720"/>
            <a:ext cx="15264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52880" y="35812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123720" y="3962520"/>
            <a:ext cx="22860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42670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3886200"/>
            <a:ext cx="47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88000" y="3581280"/>
            <a:ext cx="49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19720" y="426708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419360" y="3962520"/>
            <a:ext cx="22860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3520" y="2209680"/>
            <a:ext cx="77724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upps of the same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6629040" y="2971800"/>
            <a:ext cx="30492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629400" y="327672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78720" y="335268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76920" y="3124080"/>
            <a:ext cx="54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~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33520" y="4191120"/>
            <a:ext cx="7772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 BX bisects    ABC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then   1       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743200" y="456840"/>
            <a:ext cx="2819520" cy="2590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43200" y="3048120"/>
            <a:ext cx="426708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743200" y="1981080"/>
            <a:ext cx="3962520" cy="1067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97840" y="685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64120" y="281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17160" y="3581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9440" y="1752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5448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30800" y="274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4419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809520" y="45720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9880" y="4876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438280" y="52578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382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920" y="50292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8120" y="4800600"/>
            <a:ext cx="54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733560" y="52578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33920" y="5486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2666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f of      bise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343040" y="3048120"/>
            <a:ext cx="22860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33526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5800" y="175248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   1 and     2 are supp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then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1 +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2 = 1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742840" y="2743200"/>
            <a:ext cx="22860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43200" y="30481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571640" y="2743200"/>
            <a:ext cx="22860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30481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3428640" y="3429000"/>
            <a:ext cx="22860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37339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5181120" y="3429000"/>
            <a:ext cx="22860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37339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3933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09480" y="2666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f of supp    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638320" y="3124080"/>
            <a:ext cx="228600" cy="304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638680" y="3429000"/>
            <a:ext cx="304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09480" y="1905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C = BC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       1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t ceter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3276720" y="3581280"/>
            <a:ext cx="3045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7672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040280" y="34290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040280" y="3200400"/>
            <a:ext cx="53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723920" y="36576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2428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762120" y="152388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Reflexive Pr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33520" y="41911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   M is the midpoint of AB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hen   AM    MB (AM =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43000" y="1828800"/>
            <a:ext cx="6629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2880" y="1828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39920" y="18288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545600" y="1828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10280" y="43434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5029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657600" y="5029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49920" y="495288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920" y="4648320"/>
            <a:ext cx="53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09480" y="2362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f of mid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350532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   AM    MB (AM = MB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 M is the midpoint of 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14600" y="41911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86200" y="41911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78520" y="41148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78520" y="3809880"/>
            <a:ext cx="53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86600" y="48769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1981080"/>
            <a:ext cx="6324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6884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54120" y="19810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39332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762120" y="2895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f of mid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762120" y="1676520"/>
            <a:ext cx="7772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    5 and    6 are comp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then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5 +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6 = 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819160" y="2666880"/>
            <a:ext cx="15228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19520" y="28954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571640" y="266688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28954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352680" y="3352680"/>
            <a:ext cx="1526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52680" y="35812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105160" y="335268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05520" y="358128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98040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2590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f of comp    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5790960" y="3048120"/>
            <a:ext cx="22860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335268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33520" y="411480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     1 is a right/9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g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then  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      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047760" y="4648320"/>
            <a:ext cx="15228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8120" y="49528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56386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81080" y="2362320"/>
            <a:ext cx="5181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19720" y="304920"/>
            <a:ext cx="0" cy="35812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21520" y="190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239960" y="21337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21520" y="3581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85800" y="2666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f o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15000" y="342900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19920" y="2971800"/>
            <a:ext cx="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838080" y="44197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 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      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then      1 is a right/9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g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38480" y="5105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48006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428640" y="5410080"/>
            <a:ext cx="22860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29000" y="57150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981080" y="2514600"/>
            <a:ext cx="49532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457200"/>
            <a:ext cx="0" cy="3505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2152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35400" y="2286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9784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2743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f o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029200" y="35053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4120" y="3048120"/>
            <a:ext cx="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685800" y="41911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      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1 =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352320" y="4572000"/>
            <a:ext cx="2286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352680" y="49528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92920" y="4419720"/>
            <a:ext cx="52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92920" y="4191120"/>
            <a:ext cx="49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800240" y="4648320"/>
            <a:ext cx="22860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00600" y="49528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3428640" y="5257800"/>
            <a:ext cx="22860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29000" y="5562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257440" y="5257800"/>
            <a:ext cx="22860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57800" y="5562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33720" y="762120"/>
            <a:ext cx="5029200" cy="2895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361960" y="685800"/>
            <a:ext cx="4343400" cy="2895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11680" y="190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8720" y="190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e the converse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f today is Saturday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n we are not in schoo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838080" y="2666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Vert    s 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571640" y="3048120"/>
            <a:ext cx="30492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0" y="342900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7680" y="2971800"/>
            <a:ext cx="52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7680" y="2743200"/>
            <a:ext cx="49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~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85800" y="4495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 + BC = 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1905120" y="1447560"/>
            <a:ext cx="594360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75464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800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98240" y="144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762120" y="2819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egment Addition Postul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85800" y="4191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1 +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2 =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AB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2209320" y="4648320"/>
            <a:ext cx="22860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09680" y="49528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4114440" y="4648320"/>
            <a:ext cx="22860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114800" y="49528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5866920" y="4648320"/>
            <a:ext cx="30492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867280" y="49528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57600" y="373392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1676160" y="761760"/>
            <a:ext cx="1981080" cy="297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3657600" y="1447920"/>
            <a:ext cx="3276720" cy="228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54640" y="1219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3080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555240" y="3733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071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1166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685800" y="2666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ngle Addition Postul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If we are not in school</a:t>
            </a:r>
            <a:br>
              <a:rPr sz="4400"/>
            </a:b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then today is Saturd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9140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the following statements true?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 LN = LN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 If AB = BC and BC = 10 then AB =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21337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 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Reflexive Property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 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ubstitution Property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the following angl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4419720"/>
            <a:ext cx="38102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362320" y="2666880"/>
            <a:ext cx="1371600" cy="17528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2666880"/>
            <a:ext cx="2438280" cy="297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6019560" y="2666880"/>
            <a:ext cx="2057400" cy="28195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5920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868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55488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884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752120"/>
            <a:ext cx="85345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les 1 and 2:       Angles 3 and 4:   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djacent Angles      Vertical Ang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1T13:36:03Z</dcterms:created>
  <dc:creator>D. Mark Frankum</dc:creator>
  <dc:description/>
  <dc:language>en-US</dc:language>
  <cp:lastModifiedBy>D. Mark Frankum</cp:lastModifiedBy>
  <dcterms:modified xsi:type="dcterms:W3CDTF">2009-11-24T22:38:03Z</dcterms:modified>
  <cp:revision>81</cp:revision>
  <dc:subject/>
  <dc:title>Chapter 2</dc:title>
</cp:coreProperties>
</file>