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E275E-C77C-498E-B183-7757BDE3B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03A31-98EA-4BBA-8A30-CF4C1BA4A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FCC42-B550-499F-A8CF-5ADFB3A88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6B6F6-6F23-464F-84CC-78963BE21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F3874-F199-4382-B8E3-FE41AC458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0D138-2946-4F9C-8C82-D3DEA605B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CC91C-5B09-40AD-ACC8-EE315432F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FB088-7150-4D9A-A28B-D7234B6D8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5E0B5-2BDF-494B-9D07-85C7737FE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9E547-57CB-446D-BE62-B448D8163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2F743-4E4A-4642-B00C-76AF46D74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D6573-F3B7-4F84-A15B-2462DA8BB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909D4-1A01-4F9B-A2C8-6E0ED93CD5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pter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52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ertical angles are ___________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ertical angles are 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congruen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286000" y="3124080"/>
            <a:ext cx="4114800" cy="29718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2437920" y="3124080"/>
            <a:ext cx="3581640" cy="30481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495680" y="4267080"/>
            <a:ext cx="30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11320" y="4267080"/>
            <a:ext cx="31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449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m 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 m 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 = ______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51814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343400" y="51814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2361960" y="49528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4343040" y="49528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371600" y="3505320"/>
            <a:ext cx="632448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4495680" y="1066680"/>
            <a:ext cx="2210040" cy="2438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192560" y="29973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802040" y="29973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011360" y="44197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2971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18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030280" y="29718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09480" y="4266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m 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 m 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 = 180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cause _________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295280" y="3048120"/>
            <a:ext cx="647712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4495680" y="685800"/>
            <a:ext cx="1981440" cy="2362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115880" y="24382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878000" y="24382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706800" y="39625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743200" y="46483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724280" y="46483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2742840" y="44197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4723920" y="44197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212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Angle Addition Postul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1066320"/>
            <a:ext cx="86868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f    1 and    2 are complementary angles then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  1 +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  2 =  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90720" y="2666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590920" y="26668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990360" y="24382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2590560" y="24382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048120" y="3276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724280" y="33526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3047760" y="30481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4723920" y="304812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164000" y="26668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808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9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2057040"/>
            <a:ext cx="86104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f    4 and    5 are supplementary angles then 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  4  + 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  5 =  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990720" y="28954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666880" y="28954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990360" y="26668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2666520" y="26668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971800" y="35053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952880" y="35053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2971440" y="32767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4952880" y="3276720"/>
            <a:ext cx="1526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392960" y="28954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18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8487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ame the underlined portion of the following statement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f the sun is shining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n it is not raining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048120" y="4495680"/>
            <a:ext cx="33526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066680" y="1752480"/>
            <a:ext cx="70866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For the following slides,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tell WHY each given statement is true…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762120" y="1676520"/>
            <a:ext cx="777240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f     1 and    2 are supp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              3 and    1 are supp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   then    2        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3123720" y="2666880"/>
            <a:ext cx="22860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124080" y="297180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4876560" y="2590920"/>
            <a:ext cx="152280" cy="304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876920" y="289548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3123720" y="3276720"/>
            <a:ext cx="228600" cy="304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124080" y="358128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4952880" y="3276720"/>
            <a:ext cx="152640" cy="304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952880" y="358128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3123720" y="3962520"/>
            <a:ext cx="228600" cy="304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124080" y="426708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886200" y="3886200"/>
            <a:ext cx="473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888000" y="3581280"/>
            <a:ext cx="497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~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419720" y="4267080"/>
            <a:ext cx="3045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4419360" y="3962520"/>
            <a:ext cx="228600" cy="304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33520" y="2209680"/>
            <a:ext cx="777240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Supps of the same 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6629040" y="2971800"/>
            <a:ext cx="304920" cy="3049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629400" y="3276720"/>
            <a:ext cx="3808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878720" y="3352680"/>
            <a:ext cx="57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=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76920" y="3124080"/>
            <a:ext cx="54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~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533520" y="4191120"/>
            <a:ext cx="77724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f  BX bisects    ABC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then   1       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2743200" y="456840"/>
            <a:ext cx="2819520" cy="2590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743200" y="3048120"/>
            <a:ext cx="4267080" cy="7617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2743200" y="1981080"/>
            <a:ext cx="3962520" cy="10670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497840" y="6858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364120" y="28195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717160" y="35812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69440" y="17524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354480" y="2362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430800" y="2743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371600" y="44197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3809520" y="457200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809880" y="48769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2438280" y="5257800"/>
            <a:ext cx="1526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438280" y="5486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049920" y="5029200"/>
            <a:ext cx="57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048120" y="4800600"/>
            <a:ext cx="54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~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3733560" y="525780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33920" y="54864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2666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Def of      bisect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4343040" y="3048120"/>
            <a:ext cx="22860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343400" y="3352680"/>
            <a:ext cx="3808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685800" y="1752480"/>
            <a:ext cx="77724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f    1 and     2 are supp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 then 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1 +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2 = 18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2742840" y="2743200"/>
            <a:ext cx="22860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743200" y="304812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4571640" y="2743200"/>
            <a:ext cx="22860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572000" y="304812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3428640" y="3429000"/>
            <a:ext cx="22860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29000" y="373392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5181120" y="3429000"/>
            <a:ext cx="22860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181480" y="373392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393320" y="3124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609480" y="2666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Def of supp    </a:t>
            </a:r>
            <a:r>
              <a:rPr b="0" i="1" lang="en-US" sz="36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5638320" y="3124080"/>
            <a:ext cx="228600" cy="3049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638680" y="3429000"/>
            <a:ext cx="3049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609480" y="1905120"/>
            <a:ext cx="77724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C = BC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        1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et cetera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3276720" y="3581280"/>
            <a:ext cx="30456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276720" y="3962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040280" y="3429000"/>
            <a:ext cx="57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040280" y="3200400"/>
            <a:ext cx="537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~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4723920" y="365760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724280" y="3962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762120" y="1523880"/>
            <a:ext cx="77724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Reflexive Pro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533520" y="4191120"/>
            <a:ext cx="77724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f    M is the midpoint of AB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then   AM    MB (AM =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143000" y="1828800"/>
            <a:ext cx="6629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92880" y="18288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039920" y="1828800"/>
            <a:ext cx="4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545600" y="18288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010280" y="4343400"/>
            <a:ext cx="533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362320" y="502920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657600" y="502920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049920" y="4952880"/>
            <a:ext cx="57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049920" y="4648320"/>
            <a:ext cx="537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~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212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hypothe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609480" y="2362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Def of midpoi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609480" y="3505320"/>
            <a:ext cx="77724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f    AM    MB (AM = MB)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n  M is the midpoint of A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514600" y="419112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886200" y="419112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278520" y="4114800"/>
            <a:ext cx="57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278520" y="3809880"/>
            <a:ext cx="537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~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086600" y="4876920"/>
            <a:ext cx="533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295280" y="1981080"/>
            <a:ext cx="63248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068840" y="19810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254120" y="1981080"/>
            <a:ext cx="4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393320" y="19810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762120" y="2895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Def of midpoi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762120" y="1676520"/>
            <a:ext cx="777240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f     5 and    6 are comp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then 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5 +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6 = 9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H="1">
            <a:off x="2819160" y="2666880"/>
            <a:ext cx="15228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819520" y="289548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H="1">
            <a:off x="4571640" y="2666880"/>
            <a:ext cx="22860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572000" y="289548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3352680" y="3352680"/>
            <a:ext cx="15264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352680" y="358128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5105160" y="3352680"/>
            <a:ext cx="22860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105520" y="3581280"/>
            <a:ext cx="3045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980400" y="3048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685800" y="2590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Def of comp    </a:t>
            </a:r>
            <a:r>
              <a:rPr b="0" i="1" lang="en-US" sz="36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5790960" y="3048120"/>
            <a:ext cx="228600" cy="3045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3352680"/>
            <a:ext cx="3045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533520" y="4114800"/>
            <a:ext cx="77724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f      1 is a right/90</a:t>
            </a:r>
            <a:r>
              <a:rPr b="0" lang="en-US" sz="4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angl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  then   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l      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3047760" y="4648320"/>
            <a:ext cx="152280" cy="304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048120" y="495288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429000" y="563868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657600" y="5334120"/>
            <a:ext cx="0" cy="304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981080" y="2362320"/>
            <a:ext cx="518184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419720" y="304920"/>
            <a:ext cx="0" cy="358128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421520" y="1905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239960" y="213372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421520" y="3581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685800" y="2666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Def of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715000" y="3429000"/>
            <a:ext cx="6094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019920" y="2971800"/>
            <a:ext cx="0" cy="4572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838080" y="4419720"/>
            <a:ext cx="77724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f   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m      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   then      1 is a right/90</a:t>
            </a:r>
            <a:r>
              <a:rPr b="0" lang="en-US" sz="4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ang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038480" y="510552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267080" y="48006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3428640" y="5410080"/>
            <a:ext cx="22860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429000" y="571500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981080" y="2514600"/>
            <a:ext cx="495324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457200"/>
            <a:ext cx="0" cy="35053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21520" y="2057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935400" y="228600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497840" y="36576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685800" y="2743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                 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Def of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029200" y="3505320"/>
            <a:ext cx="6094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334120" y="3048120"/>
            <a:ext cx="0" cy="4572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685800" y="4191120"/>
            <a:ext cx="77724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        2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   (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1 =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3352320" y="4572000"/>
            <a:ext cx="22860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352680" y="4952880"/>
            <a:ext cx="381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192920" y="4419720"/>
            <a:ext cx="528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92920" y="4191120"/>
            <a:ext cx="497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~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4800240" y="4648320"/>
            <a:ext cx="228600" cy="304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800600" y="495288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3428640" y="5257800"/>
            <a:ext cx="22860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429000" y="556272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>
            <a:off x="5257440" y="5257800"/>
            <a:ext cx="22860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257800" y="556272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133720" y="762120"/>
            <a:ext cx="5029200" cy="289548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H="1">
            <a:off x="2361960" y="685800"/>
            <a:ext cx="4343400" cy="289548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811680" y="1905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878720" y="1905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rite the converse: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If today is Saturday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then we are not in school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838080" y="2666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Vert    s 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4571640" y="3048120"/>
            <a:ext cx="304920" cy="3808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572000" y="3429000"/>
            <a:ext cx="3808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097680" y="2971800"/>
            <a:ext cx="528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=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97680" y="2743200"/>
            <a:ext cx="497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~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685800" y="44956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B + BC = A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1905120" y="1447560"/>
            <a:ext cx="5943600" cy="1143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754640" y="26668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888000" y="2286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698240" y="1447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762120" y="2819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Segment Addition Postul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685800" y="41911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1 +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2 =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AB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2209320" y="4648320"/>
            <a:ext cx="228600" cy="304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209680" y="4952880"/>
            <a:ext cx="381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 flipH="1">
            <a:off x="4114440" y="4648320"/>
            <a:ext cx="228600" cy="304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114800" y="495288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H="1">
            <a:off x="5866920" y="4648320"/>
            <a:ext cx="304920" cy="304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867280" y="4952880"/>
            <a:ext cx="381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657600" y="3733920"/>
            <a:ext cx="3886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1676160" y="761760"/>
            <a:ext cx="1981080" cy="2971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3657600" y="1447920"/>
            <a:ext cx="3276720" cy="2286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754640" y="12193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430800" y="3657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555240" y="3733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507120" y="3124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116600" y="3276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685800" y="2666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Angle Addition Postul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14400" y="182844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0000"/>
                </a:solidFill>
                <a:latin typeface="Times New Roman"/>
              </a:rPr>
              <a:t>If we are not in school</a:t>
            </a:r>
            <a:br>
              <a:rPr sz="4400"/>
            </a:br>
            <a:r>
              <a:rPr b="0" i="1" lang="en-US" sz="4400" spc="-1" strike="noStrike">
                <a:solidFill>
                  <a:srgbClr val="ff0000"/>
                </a:solidFill>
                <a:latin typeface="Times New Roman"/>
              </a:rPr>
              <a:t>then today is Saturday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91404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are the following statements true?</a:t>
            </a:r>
            <a:br>
              <a:rPr sz="4400"/>
            </a:b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.  LN = LN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.  If AB = BC and BC = 10 then AB = 1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213372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.   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Reflexive Property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.   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Substitution Property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ame the following angle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38080" y="4419720"/>
            <a:ext cx="381024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2362320" y="2666880"/>
            <a:ext cx="1371600" cy="175284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791320" y="2666880"/>
            <a:ext cx="2438280" cy="29718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6019560" y="2666880"/>
            <a:ext cx="2057400" cy="28195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059200" y="3962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668680" y="3962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554880" y="3886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088400" y="3886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240" y="1752120"/>
            <a:ext cx="853452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gles 1 and 2:       Angles 3 and 4:    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Adjacent Angles      Vertical Ang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1T13:36:03Z</dcterms:created>
  <dc:creator>D. Mark Frankum</dc:creator>
  <dc:description/>
  <dc:language>en-US</dc:language>
  <cp:lastModifiedBy>D. Mark Frankum</cp:lastModifiedBy>
  <dcterms:modified xsi:type="dcterms:W3CDTF">2009-11-24T22:38:03Z</dcterms:modified>
  <cp:revision>81</cp:revision>
  <dc:subject/>
  <dc:title>Chapter 2</dc:title>
</cp:coreProperties>
</file>