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457-E2BB-4FFD-B3BE-0CF9E665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A9CA-9335-4C68-983B-30E99252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F99-C55C-42D7-B21B-C382196C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7814-12AC-4E3B-9958-D1927024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CC3-9224-4BF7-9A9F-B507213A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84E7-EFA5-4873-8EC4-70DA5E76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149-58E8-47A0-BB9A-18704FB6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D601-6478-4E3A-8CFB-5C28FF2E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B667-121A-4022-8141-B4FC0ECD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F14C-099B-473E-B93C-5CD3CFA8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4B46-63D6-47A4-8FD2-136CEDA6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D37B-7E16-4DF1-BD67-830B4327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5492-4791-4578-86A6-ABF4D3F5C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following ang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3200400"/>
            <a:ext cx="52578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495288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2286000"/>
            <a:ext cx="914400" cy="388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4480" y="342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9400" y="441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Same-Side Interior Angles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(s-s int  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181480" y="342900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365760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lines are parall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then s-s int   s are 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962160" y="35812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lines are parall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con-int   s are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supplem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09880" y="18288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2057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3352680"/>
            <a:ext cx="541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4572000"/>
            <a:ext cx="541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320040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400440" y="3352680"/>
            <a:ext cx="22860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441972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400440" y="457200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05320" y="2514600"/>
            <a:ext cx="1904760" cy="29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1168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520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19760" y="5638680"/>
            <a:ext cx="332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1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2 = 1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581280" y="5867280"/>
            <a:ext cx="15264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60199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876560" y="5867280"/>
            <a:ext cx="1522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601992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5032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20574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(n) __________ triangle has no congruent s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cale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iangle has no congruent s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243828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(n) _________ triangle has at least 2 congruent sid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243828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sosce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iangle has at least 2 congruent sid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2120" y="14479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gruent sides of an isosceles triangle are called 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1447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gruent sides of an isosceles triangle are calle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g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following ang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2819520"/>
            <a:ext cx="563904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371600" y="4876920"/>
            <a:ext cx="6019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1905120"/>
            <a:ext cx="1523880" cy="419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7280" y="2514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3080" y="441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82880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(n) __________ triangle has 3 congruent s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quilat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iangle has 3 congruent s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(n) __________ triangle has 3 angles less than 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30840" y="304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22096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cu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iangle has 3 angles less than 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9200" y="3124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54920" y="1708200"/>
            <a:ext cx="7634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ometim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quilateral triangle 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_____ an isosceles tri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17524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quilateral triangle i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 isosceles tri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06480" y="838080"/>
            <a:ext cx="7445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ometim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sosceles triangle 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___ an equilateral tri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22860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sosceles triangle i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ometim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 equilateral tri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sid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3048120"/>
            <a:ext cx="4495680" cy="243828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14600" y="2057400"/>
            <a:ext cx="4495680" cy="243828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3560" y="312408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5880" y="449568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89320" y="2438280"/>
            <a:ext cx="20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ypote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Corresponding Angles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(corr  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419112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44197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2120" y="16765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m of the interior angles of ANY triangle = 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16640" y="3124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62120" y="1219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m of the interior angles of ANY triangle =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9440" y="1905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4267080"/>
            <a:ext cx="3962520" cy="19814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53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92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71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5240" y="4572000"/>
            <a:ext cx="52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1 +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2  +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3  = 1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495288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495288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495288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962160" y="472428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333760" y="472428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933960" y="472428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536320" y="44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09480" y="15238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4  = ______ + 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904760" y="2209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5715000"/>
            <a:ext cx="502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361960" y="3276720"/>
            <a:ext cx="1981080" cy="24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276720"/>
            <a:ext cx="1447920" cy="24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92000" y="5159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5880" y="3330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2560" y="5159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2400" y="5159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948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4 =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1  + 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2209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220968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220968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437920" y="1905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266720" y="1905120"/>
            <a:ext cx="3049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324120" y="1905120"/>
            <a:ext cx="3049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066320" y="3352680"/>
            <a:ext cx="259092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638680"/>
            <a:ext cx="563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3352680"/>
            <a:ext cx="160020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51600" y="5181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41760" y="5181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41360" y="5181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9876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the following polygon convex or conca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312408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31240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502920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495680" y="3124080"/>
            <a:ext cx="198144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4114800"/>
            <a:ext cx="83844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62120" y="274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Times New Roman"/>
              </a:rPr>
              <a:t>conca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ometim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2362320"/>
            <a:ext cx="7162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 A triangle is ___________ conv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A quadrilateral is __________ conv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5800" y="9907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  A triangle is 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vex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A quadrilateral is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sometim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vex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047760" y="4343400"/>
            <a:ext cx="144756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5410080"/>
            <a:ext cx="190476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038480" y="4343400"/>
            <a:ext cx="45720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5181480"/>
            <a:ext cx="91440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1523880" y="1397160"/>
          <a:ext cx="6096240" cy="47894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of Polyg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523880" y="1035000"/>
          <a:ext cx="6096240" cy="47894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of Polyg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iang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adrilater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entag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exag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ctag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lines are parallel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corr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re 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419076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18288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gular polygon is _________ and _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1676520"/>
            <a:ext cx="7772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gular polygon is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equilat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equiang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ERIOR angles of a convex polygon total 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09480" y="2209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ERIOR angles of a convex polygon total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(n – 2)1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91480" y="4343400"/>
            <a:ext cx="24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umber of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638680" y="3429000"/>
            <a:ext cx="38124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15238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XTERIOR angles of a convex polygon total 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73840" y="2895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5238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XTERIOR angles of a convex polygon total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3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92960" y="2895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slope using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ope Formul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676520" y="2819520"/>
            <a:ext cx="4114800" cy="3047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96000" y="3276720"/>
            <a:ext cx="1731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38600" y="4876920"/>
            <a:ext cx="1709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09480" y="1828800"/>
            <a:ext cx="76964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48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4800" spc="-1" strike="noStrike" baseline="-25000">
                <a:solidFill>
                  <a:srgbClr val="ff0000"/>
                </a:solidFill>
                <a:latin typeface="Times New Roman"/>
              </a:rPr>
              <a:t>2          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rise</a:t>
            </a:r>
            <a:br>
              <a:rPr sz="4800"/>
            </a:b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                     x</a:t>
            </a:r>
            <a:r>
              <a:rPr b="0" lang="en-US" sz="48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800" spc="-1" strike="noStrike" baseline="-25000">
                <a:solidFill>
                  <a:srgbClr val="ff0000"/>
                </a:solidFill>
                <a:latin typeface="Times New Roman"/>
              </a:rPr>
              <a:t>2          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run</a:t>
            </a:r>
            <a:br>
              <a:rPr sz="4800"/>
            </a:br>
            <a:br>
              <a:rPr sz="4400"/>
            </a:br>
            <a:br>
              <a:rPr sz="44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2971800"/>
            <a:ext cx="1523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53080" y="297180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29718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640" y="2514600"/>
            <a:ext cx="306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Slope (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)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0948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 the slop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 1/3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1/3</a:t>
            </a: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03520" y="4724280"/>
            <a:ext cx="20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lope = 1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419720" y="34290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lines are parallel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corr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congru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733560" y="19810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37339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5257800"/>
            <a:ext cx="617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5812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629040" y="373392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510552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781680" y="525780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2819520"/>
            <a:ext cx="2743200" cy="358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7800" y="32004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20800" y="47242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62120" y="1905120"/>
            <a:ext cx="7772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arallel lines have the _______ slop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2133720"/>
            <a:ext cx="7848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rallel lines have the </a:t>
            </a:r>
            <a:br>
              <a:rPr sz="5400"/>
            </a:b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same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slop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838080" y="266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lope of horizont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s is 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lope of horizont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s is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9240" y="3276720"/>
            <a:ext cx="9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68520" y="365760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0" y="350532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58680" y="350532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3886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343400" y="3580920"/>
            <a:ext cx="8380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97120" y="28954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5760" y="3505320"/>
            <a:ext cx="73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82880" y="3505320"/>
            <a:ext cx="163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l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533412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62120" y="21337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lope of vertic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s is 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5800" y="6094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lope of vertic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s is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defin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12040" y="3429000"/>
            <a:ext cx="9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11320" y="388620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01680" y="3733920"/>
            <a:ext cx="305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=  undefine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49720" y="3733920"/>
            <a:ext cx="217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lope 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4114800"/>
            <a:ext cx="7621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886200" y="41148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39920" y="4343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99072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09480" y="2362320"/>
            <a:ext cx="7848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lopes of perpendicular lines are ___________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14400" y="2209680"/>
            <a:ext cx="7620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lopes of perpendicular lines are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opposite reciprocal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3080" y="4876920"/>
            <a:ext cx="33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4/5  and –5/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3808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 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2/3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341360" y="1401840"/>
          <a:ext cx="609624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1360" y="1401840"/>
                    <a:ext cx="609624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371600" y="685800"/>
          <a:ext cx="6095880" cy="51750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990720" y="3276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19720" y="304920"/>
            <a:ext cx="0" cy="6095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926120" y="29718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3440" y="60199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990720" y="1828800"/>
            <a:ext cx="6858000" cy="3962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68520" y="312408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7320" y="213372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following ang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2971800"/>
            <a:ext cx="640080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371600" y="4800600"/>
            <a:ext cx="6172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962520" y="2209680"/>
            <a:ext cx="129528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68160" y="3276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44956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slope and y-intercept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-4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20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4/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-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7440" y="44956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l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39040" y="4495680"/>
            <a:ext cx="172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-inter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733920" y="37339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5638680" y="37339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the equation of a l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slope 2/3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passing through (-1,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4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m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/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– 4 = 2/3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+ 2/3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– 12 = 2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+ 2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– 3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= -14</a:t>
            </a:r>
            <a:br>
              <a:rPr sz="4800"/>
            </a:br>
            <a:br>
              <a:rPr sz="4800"/>
            </a:b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Standard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495680" y="457164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3 Constru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1600200"/>
            <a:ext cx="716256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struct a perpendicular through a point on a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struct a perpendicular through a point NOT on a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struct a parallel through a point not on a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Alternate Interior Angles</a:t>
            </a:r>
            <a:br>
              <a:rPr sz="4800"/>
            </a:br>
            <a:br>
              <a:rPr sz="48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(alt-int  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105160" y="380988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40384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lines are parall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alt-int   s are 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114440" y="3352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lines are parall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alt-int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congru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65724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4191120"/>
            <a:ext cx="579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5562720"/>
            <a:ext cx="571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200400" y="3124080"/>
            <a:ext cx="2209680" cy="335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3600" y="5029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2200" y="40384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5334120"/>
            <a:ext cx="3049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71840" y="5562720"/>
            <a:ext cx="3049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3962520"/>
            <a:ext cx="3049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324120" y="419112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5:26:49Z</dcterms:created>
  <dc:creator>D. Mark Frankum</dc:creator>
  <dc:description/>
  <dc:language>en-US</dc:language>
  <cp:lastModifiedBy>D. Mark Frankum</cp:lastModifiedBy>
  <dcterms:modified xsi:type="dcterms:W3CDTF">2009-11-24T22:38:33Z</dcterms:modified>
  <cp:revision>211</cp:revision>
  <dc:subject/>
  <dc:title>Chapter 3</dc:title>
</cp:coreProperties>
</file>