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993B8-8656-4543-84C3-FB127AB38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07949-B032-4FCF-8A3A-3372493D1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30A9E-C648-4547-97B2-5E8F4DE18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9828F-3D93-42AD-85E3-8318E8E1D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004F4-E73F-4D11-B359-0CBD59E7C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17C8B-DD03-4357-8531-C43D6ECB0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432BF-42D0-4E08-9E0E-01E666CF0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EBB84-3119-4581-9150-C1223EA9B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D8923-10A7-4FF9-AD3D-8CE8C366F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852AB-147E-4F14-824C-C110D4AD9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86096-CC49-4480-BD8D-FC80EB507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D619D-F049-489B-AF35-CBB6188D4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FE87B-BAAB-4D25-863C-B261F48D9B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971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Chapter 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52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ame the following angle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133720" y="3200400"/>
            <a:ext cx="5257800" cy="685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828800" y="4952880"/>
            <a:ext cx="5334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038480" y="2286000"/>
            <a:ext cx="914400" cy="3886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344480" y="3429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649400" y="44197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0000"/>
                </a:solidFill>
                <a:latin typeface="Times New Roman"/>
              </a:rPr>
              <a:t>Same-Side Interior Angles</a:t>
            </a:r>
            <a:br>
              <a:rPr sz="4400"/>
            </a:br>
            <a:br>
              <a:rPr sz="4400"/>
            </a:br>
            <a:r>
              <a:rPr b="0" i="1" lang="en-US" sz="4400" spc="-1" strike="noStrike">
                <a:solidFill>
                  <a:srgbClr val="ff0000"/>
                </a:solidFill>
                <a:latin typeface="Times New Roman"/>
              </a:rPr>
              <a:t>(s-s int   </a:t>
            </a:r>
            <a:r>
              <a:rPr b="0" i="1" lang="en-US" sz="3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i="1" lang="en-US" sz="4400" spc="-1" strike="noStrike">
                <a:solidFill>
                  <a:srgbClr val="ff0000"/>
                </a:solidFill>
                <a:latin typeface="Times New Roman"/>
              </a:rPr>
              <a:t>)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5181480" y="3429000"/>
            <a:ext cx="1526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181480" y="3657600"/>
            <a:ext cx="2286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480" y="205704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f lines are paralle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then s-s int   s are _________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3962160" y="358128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962520" y="3809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f lines are paralle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n con-int   s are </a:t>
            </a:r>
            <a:r>
              <a:rPr b="0" i="1" lang="en-US" sz="4400" spc="-1" strike="noStrike">
                <a:solidFill>
                  <a:srgbClr val="ff0000"/>
                </a:solidFill>
                <a:latin typeface="Times New Roman"/>
              </a:rPr>
              <a:t>supplement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3809880" y="1828800"/>
            <a:ext cx="1526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09880" y="205740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981080" y="3352680"/>
            <a:ext cx="5410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981080" y="4572000"/>
            <a:ext cx="5410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400800" y="3200400"/>
            <a:ext cx="22860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6400440" y="3352680"/>
            <a:ext cx="228600" cy="152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400800" y="4419720"/>
            <a:ext cx="22860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6400440" y="4572000"/>
            <a:ext cx="22860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505320" y="2514600"/>
            <a:ext cx="1904760" cy="297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811680" y="3352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345200" y="4114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119760" y="5638680"/>
            <a:ext cx="3320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  1 +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  2 = 18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3581280" y="5867280"/>
            <a:ext cx="15264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6019920"/>
            <a:ext cx="2286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4876560" y="5867280"/>
            <a:ext cx="1522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876920" y="6019920"/>
            <a:ext cx="1522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250320" y="5562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685800" y="2057400"/>
            <a:ext cx="77724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(n) __________ triangle has no congruent s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685800" y="2438280"/>
            <a:ext cx="777240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scalen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triangle has no congruent s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2438280"/>
            <a:ext cx="77724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(n) _________ triangle has at least 2 congruent side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685800" y="2438280"/>
            <a:ext cx="77724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isoscele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triangle has at least 2 congruent side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762120" y="1447920"/>
            <a:ext cx="77724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congruent sides of an isosceles triangle are called _________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685800" y="1447920"/>
            <a:ext cx="77724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congruent sides of an isosceles triangle are called 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leg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ame the following angle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523880" y="2819520"/>
            <a:ext cx="5639040" cy="609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flipV="1">
            <a:off x="1371600" y="4876920"/>
            <a:ext cx="601992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962520" y="1905120"/>
            <a:ext cx="1523880" cy="4190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87280" y="25146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573080" y="44197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685800" y="1828800"/>
            <a:ext cx="777240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(n) __________ triangle has 3 congruent s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609480" y="190512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equilateral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triangle has 3 congruent s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685800" y="1981080"/>
            <a:ext cx="77724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(n) __________ triangle has 3 angles less than 9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630840" y="30481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533520" y="2209680"/>
            <a:ext cx="77724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acut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triangle has 3 angles less than 9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659200" y="31240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754920" y="1708200"/>
            <a:ext cx="76345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alway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sometime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never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?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 equilateral triangle i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__________ an isosceles triang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838080" y="17524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 equilateral triangle is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alway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an isosceles triang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906480" y="838080"/>
            <a:ext cx="744552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alway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sometime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never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?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 isosceles triangle i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________ an equilateral triang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685800" y="2286000"/>
            <a:ext cx="77724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 isosceles triangle is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sometime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an equilateral triang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685800" y="9144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ame the side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514600" y="3048120"/>
            <a:ext cx="4495680" cy="2438280"/>
          </a:xfrm>
          <a:prstGeom prst="rtTriangl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514600" y="5105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895480" y="51055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2514600" y="2057400"/>
            <a:ext cx="4495680" cy="2438280"/>
          </a:xfrm>
          <a:prstGeom prst="rtTriangl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53560" y="3124080"/>
            <a:ext cx="67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le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115880" y="4495680"/>
            <a:ext cx="67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le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189320" y="2438280"/>
            <a:ext cx="204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hypoten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514600" y="4114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819520" y="41148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2209680"/>
            <a:ext cx="77724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0000"/>
                </a:solidFill>
                <a:latin typeface="Times New Roman"/>
              </a:rPr>
              <a:t>Corresponding Angles</a:t>
            </a:r>
            <a:br>
              <a:rPr sz="4400"/>
            </a:br>
            <a:br>
              <a:rPr sz="4400"/>
            </a:br>
            <a:r>
              <a:rPr b="0" i="1" lang="en-US" sz="4400" spc="-1" strike="noStrike">
                <a:solidFill>
                  <a:srgbClr val="ff0000"/>
                </a:solidFill>
                <a:latin typeface="Times New Roman"/>
              </a:rPr>
              <a:t>(corr   </a:t>
            </a:r>
            <a:r>
              <a:rPr b="0" i="1" lang="en-US" sz="3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i="1" lang="en-US" sz="4400" spc="-1" strike="noStrike">
                <a:solidFill>
                  <a:srgbClr val="ff0000"/>
                </a:solidFill>
                <a:latin typeface="Times New Roman"/>
              </a:rPr>
              <a:t>)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4191120"/>
            <a:ext cx="15228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29200" y="4419720"/>
            <a:ext cx="2286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762120" y="1676520"/>
            <a:ext cx="77724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sum of the interior angles of ANY triangle = ________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316640" y="31240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762120" y="1219320"/>
            <a:ext cx="77724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sum of the interior angles of ANY triangle = 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18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859440" y="19051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28600" y="4267080"/>
            <a:ext cx="3962520" cy="198144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35320" y="5791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059200" y="4343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507120" y="5791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495240" y="4572000"/>
            <a:ext cx="522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   1 + 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   2  + 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   3  = 18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962520" y="4952880"/>
            <a:ext cx="3045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4120" y="4952880"/>
            <a:ext cx="3045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934320" y="4952880"/>
            <a:ext cx="3045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3962160" y="4724280"/>
            <a:ext cx="22860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5333760" y="4724280"/>
            <a:ext cx="22860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6933960" y="4724280"/>
            <a:ext cx="22860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536320" y="4495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609480" y="1523880"/>
            <a:ext cx="77724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4  = ______ + _______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905120" y="25146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1904760" y="220968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362320" y="5715000"/>
            <a:ext cx="5029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2361960" y="3276720"/>
            <a:ext cx="1981080" cy="2438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343400" y="3276720"/>
            <a:ext cx="1447920" cy="2438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592000" y="51595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115880" y="33307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182560" y="51595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792400" y="51595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609480" y="1447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4 = </a:t>
            </a:r>
            <a:r>
              <a:rPr b="0" i="1" lang="en-US" sz="44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    1  +  </a:t>
            </a:r>
            <a:r>
              <a:rPr b="0" i="1" lang="en-US" sz="44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    2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438280" y="22096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267080" y="2209680"/>
            <a:ext cx="3812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324480" y="2209680"/>
            <a:ext cx="3812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2437920" y="1905120"/>
            <a:ext cx="30492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4266720" y="1905120"/>
            <a:ext cx="3049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6324120" y="1905120"/>
            <a:ext cx="3049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1066320" y="3352680"/>
            <a:ext cx="2590920" cy="228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638680"/>
            <a:ext cx="56390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657600" y="3352680"/>
            <a:ext cx="1600200" cy="228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151600" y="518148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541760" y="51814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41360" y="51814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398760" y="34290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609480" y="380880"/>
            <a:ext cx="77724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s the following polygon convex or concav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743200" y="3124080"/>
            <a:ext cx="3809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3124080"/>
            <a:ext cx="0" cy="1905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743200" y="5029200"/>
            <a:ext cx="2590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495680" y="3124080"/>
            <a:ext cx="1981440" cy="99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495680" y="4114800"/>
            <a:ext cx="838440" cy="914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762120" y="2743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ff0000"/>
                </a:solidFill>
                <a:latin typeface="Times New Roman"/>
              </a:rPr>
              <a:t>concav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609480" y="7621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Alway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sometime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never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990720" y="2362320"/>
            <a:ext cx="716256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   A triangle is ___________ convex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 A quadrilateral is __________ convex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685800" y="990720"/>
            <a:ext cx="77724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.   A triangle is  </a:t>
            </a:r>
            <a:r>
              <a:rPr b="0" i="1" lang="en-US" sz="3600" spc="-1" strike="noStrike">
                <a:solidFill>
                  <a:srgbClr val="ff0000"/>
                </a:solidFill>
                <a:latin typeface="Times New Roman"/>
              </a:rPr>
              <a:t>alway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convex.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.  A quadrilateral is </a:t>
            </a:r>
            <a:r>
              <a:rPr b="0" i="1" lang="en-US" sz="3600" spc="-1" strike="noStrike">
                <a:solidFill>
                  <a:srgbClr val="ff0000"/>
                </a:solidFill>
                <a:latin typeface="Times New Roman"/>
              </a:rPr>
              <a:t>sometime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convex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3047760" y="4343400"/>
            <a:ext cx="1447560" cy="1066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048120" y="5410080"/>
            <a:ext cx="1904760" cy="381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H="1">
            <a:off x="4038480" y="4343400"/>
            <a:ext cx="457200" cy="838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038480" y="5181480"/>
            <a:ext cx="914400" cy="609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0" name=""/>
          <p:cNvGraphicFramePr/>
          <p:nvPr/>
        </p:nvGraphicFramePr>
        <p:xfrm>
          <a:off x="1523880" y="1397160"/>
          <a:ext cx="6096240" cy="4789440"/>
        </p:xfrm>
        <a:graphic>
          <a:graphicData uri="http://schemas.openxmlformats.org/drawingml/2006/table">
            <a:tbl>
              <a:tblPr/>
              <a:tblGrid>
                <a:gridCol w="3048120"/>
                <a:gridCol w="3048120"/>
              </a:tblGrid>
              <a:tr h="663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ber of Sid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me of Polyg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1" name=""/>
          <p:cNvGraphicFramePr/>
          <p:nvPr/>
        </p:nvGraphicFramePr>
        <p:xfrm>
          <a:off x="1523880" y="1035000"/>
          <a:ext cx="6096240" cy="4789440"/>
        </p:xfrm>
        <a:graphic>
          <a:graphicData uri="http://schemas.openxmlformats.org/drawingml/2006/table">
            <a:tbl>
              <a:tblPr/>
              <a:tblGrid>
                <a:gridCol w="3048120"/>
                <a:gridCol w="3048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ber of Sid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me of Polyg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Triangl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2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Quadrilateral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Pentagon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Hexagon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Octagon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400" y="1447560"/>
            <a:ext cx="777240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f lines are parallel,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n corr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are _______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4190760" y="289548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191120" y="3124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685800" y="182880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regular polygon is _________ and ___________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685800" y="1676520"/>
            <a:ext cx="777240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regular polygon is </a:t>
            </a:r>
            <a:r>
              <a:rPr b="0" i="1" lang="en-US" sz="4400" spc="-1" strike="noStrike">
                <a:solidFill>
                  <a:srgbClr val="ff0000"/>
                </a:solidFill>
                <a:latin typeface="Times New Roman"/>
              </a:rPr>
              <a:t>equilateral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4400" spc="-1" strike="noStrike">
                <a:solidFill>
                  <a:srgbClr val="ff0000"/>
                </a:solidFill>
                <a:latin typeface="Times New Roman"/>
              </a:rPr>
              <a:t>equiangul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685800" y="2590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INTERIOR angles of a convex polygon total ________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609480" y="22096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INTERIOR angles of a convex polygon total 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(n – 2)18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191480" y="4343400"/>
            <a:ext cx="245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umber of si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5638680" y="3429000"/>
            <a:ext cx="381240" cy="9907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685800" y="1523880"/>
            <a:ext cx="77724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EXTERIOR angles of a convex polygon total ________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773840" y="28954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685800" y="1523880"/>
            <a:ext cx="77724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EXTERIOR angles of a convex polygon total 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36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392960" y="28954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685800" y="609480"/>
            <a:ext cx="77724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nd the slope using th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lope Formula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>
            <a:off x="1676520" y="2819520"/>
            <a:ext cx="4114800" cy="30477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896000" y="3276720"/>
            <a:ext cx="17319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838600" y="4876920"/>
            <a:ext cx="17092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 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609480" y="1828800"/>
            <a:ext cx="769644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i="1" lang="en-US" sz="48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0" lang="en-US" sz="4800" spc="-1" strike="noStrike" baseline="-25000">
                <a:solidFill>
                  <a:srgbClr val="ff0000"/>
                </a:solidFill>
                <a:latin typeface="Times New Roman"/>
              </a:rPr>
              <a:t>1 </a:t>
            </a: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– </a:t>
            </a:r>
            <a:r>
              <a:rPr b="0" i="1" lang="en-US" sz="48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0" lang="en-US" sz="4800" spc="-1" strike="noStrike" baseline="-25000">
                <a:solidFill>
                  <a:srgbClr val="ff0000"/>
                </a:solidFill>
                <a:latin typeface="Times New Roman"/>
              </a:rPr>
              <a:t>2           </a:t>
            </a:r>
            <a:r>
              <a:rPr b="0" i="1" lang="en-US" sz="4800" spc="-1" strike="noStrike">
                <a:solidFill>
                  <a:srgbClr val="ff0000"/>
                </a:solidFill>
                <a:latin typeface="Times New Roman"/>
              </a:rPr>
              <a:t>rise</a:t>
            </a:r>
            <a:br>
              <a:rPr sz="4800"/>
            </a:br>
            <a:r>
              <a:rPr b="0" i="1" lang="en-US" sz="4800" spc="-1" strike="noStrike">
                <a:solidFill>
                  <a:srgbClr val="ff0000"/>
                </a:solidFill>
                <a:latin typeface="Times New Roman"/>
              </a:rPr>
              <a:t>                     x</a:t>
            </a:r>
            <a:r>
              <a:rPr b="0" lang="en-US" sz="4800" spc="-1" strike="noStrike" baseline="-25000">
                <a:solidFill>
                  <a:srgbClr val="ff0000"/>
                </a:solidFill>
                <a:latin typeface="Times New Roman"/>
              </a:rPr>
              <a:t>1 </a:t>
            </a: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– </a:t>
            </a:r>
            <a:r>
              <a:rPr b="0" i="1" lang="en-US" sz="4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4800" spc="-1" strike="noStrike" baseline="-25000">
                <a:solidFill>
                  <a:srgbClr val="ff0000"/>
                </a:solidFill>
                <a:latin typeface="Times New Roman"/>
              </a:rPr>
              <a:t>2           </a:t>
            </a:r>
            <a:r>
              <a:rPr b="0" i="1" lang="en-US" sz="4800" spc="-1" strike="noStrike">
                <a:solidFill>
                  <a:srgbClr val="ff0000"/>
                </a:solidFill>
                <a:latin typeface="Times New Roman"/>
              </a:rPr>
              <a:t>run</a:t>
            </a:r>
            <a:br>
              <a:rPr sz="4800"/>
            </a:br>
            <a:br>
              <a:rPr sz="4400"/>
            </a:br>
            <a:br>
              <a:rPr sz="44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6200" y="2971800"/>
            <a:ext cx="15238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553080" y="2971800"/>
            <a:ext cx="990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15000" y="2971800"/>
            <a:ext cx="5335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11640" y="2514600"/>
            <a:ext cx="3063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Slope (</a:t>
            </a:r>
            <a:r>
              <a:rPr b="0" i="1" lang="en-US" sz="48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) =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609480" y="1295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te the slope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295280" y="29718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= 1/3</a:t>
            </a: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+ 4</a:t>
            </a: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68580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2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7200" spc="-1" strike="noStrike">
                <a:solidFill>
                  <a:srgbClr val="ff0000"/>
                </a:solidFill>
                <a:latin typeface="Times New Roman"/>
              </a:rPr>
              <a:t>1/3</a:t>
            </a:r>
            <a:r>
              <a:rPr b="0" i="1" lang="en-US" sz="7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 + 4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503520" y="4724280"/>
            <a:ext cx="206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Slope = 1/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4419720" y="3429000"/>
            <a:ext cx="0" cy="1295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f lines are parallel,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n corr 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are </a:t>
            </a:r>
            <a:r>
              <a:rPr b="0" i="1" lang="en-US" sz="4400" spc="-1" strike="noStrike">
                <a:solidFill>
                  <a:srgbClr val="ff0000"/>
                </a:solidFill>
                <a:latin typeface="Times New Roman"/>
              </a:rPr>
              <a:t>congruen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733560" y="198108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733920" y="22096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00200" y="3733920"/>
            <a:ext cx="5943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523880" y="5257800"/>
            <a:ext cx="6172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581280"/>
            <a:ext cx="152280" cy="152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6629040" y="3733920"/>
            <a:ext cx="15228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781680" y="5105520"/>
            <a:ext cx="15264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6781680" y="5257800"/>
            <a:ext cx="15264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124080" y="2819520"/>
            <a:ext cx="2743200" cy="3581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277800" y="3200400"/>
            <a:ext cx="31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420800" y="4724280"/>
            <a:ext cx="31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762120" y="1905120"/>
            <a:ext cx="777240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Parallel lines have the _______ slop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685800" y="2133720"/>
            <a:ext cx="784872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Parallel lines have the </a:t>
            </a:r>
            <a:br>
              <a:rPr sz="5400"/>
            </a:b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same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slope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838080" y="2666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slope of horizontal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nes is ___________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slope of horizontal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nes is 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269240" y="3276720"/>
            <a:ext cx="91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ri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268520" y="3657600"/>
            <a:ext cx="858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ru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335200" y="3505320"/>
            <a:ext cx="46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=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658680" y="3505320"/>
            <a:ext cx="46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=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267080" y="38862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V="1">
            <a:off x="4343400" y="3580920"/>
            <a:ext cx="83808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497120" y="289548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945760" y="3505320"/>
            <a:ext cx="730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982880" y="3505320"/>
            <a:ext cx="163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Slop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676520" y="5334120"/>
            <a:ext cx="60958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762120" y="2133720"/>
            <a:ext cx="77724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slope of vertical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nes is ________________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685800" y="609480"/>
            <a:ext cx="777240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slope of vertical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nes is 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undefined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812040" y="3429000"/>
            <a:ext cx="91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ri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811320" y="3886200"/>
            <a:ext cx="858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ru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801680" y="3733920"/>
            <a:ext cx="3050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=  undefined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449720" y="3733920"/>
            <a:ext cx="2174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Slope  =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809880" y="4114800"/>
            <a:ext cx="76212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3886200" y="4114800"/>
            <a:ext cx="68580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039920" y="434340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762120" y="990720"/>
            <a:ext cx="0" cy="49528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609480" y="2362320"/>
            <a:ext cx="784872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slopes of perpendicular lines are _______________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914400" y="2209680"/>
            <a:ext cx="762012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slopes of perpendicular lines are </a:t>
            </a: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opposite reciprocals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43080" y="4876920"/>
            <a:ext cx="335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E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4/5  and –5/4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838080" y="2514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raph   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= 2/3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-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4" name=""/>
          <p:cNvGraphicFramePr/>
          <p:nvPr/>
        </p:nvGraphicFramePr>
        <p:xfrm>
          <a:off x="1341360" y="1401840"/>
          <a:ext cx="6096240" cy="406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41360" y="1401840"/>
                    <a:ext cx="6096240" cy="40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6" name=""/>
          <p:cNvGraphicFramePr/>
          <p:nvPr/>
        </p:nvGraphicFramePr>
        <p:xfrm>
          <a:off x="1371600" y="685800"/>
          <a:ext cx="6095880" cy="5175000"/>
        </p:xfrm>
        <a:graphic>
          <a:graphicData uri="http://schemas.openxmlformats.org/drawingml/2006/table">
            <a:tbl>
              <a:tblPr/>
              <a:tblGrid>
                <a:gridCol w="609480"/>
                <a:gridCol w="609480"/>
                <a:gridCol w="609480"/>
                <a:gridCol w="609840"/>
                <a:gridCol w="609480"/>
                <a:gridCol w="609480"/>
                <a:gridCol w="609840"/>
                <a:gridCol w="609480"/>
                <a:gridCol w="609480"/>
                <a:gridCol w="6098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7" name=""/>
          <p:cNvSpPr/>
          <p:nvPr/>
        </p:nvSpPr>
        <p:spPr>
          <a:xfrm>
            <a:off x="990720" y="3276720"/>
            <a:ext cx="685800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419720" y="304920"/>
            <a:ext cx="0" cy="609588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926120" y="297180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573440" y="601992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H="1">
            <a:off x="990720" y="1828800"/>
            <a:ext cx="6858000" cy="396252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268520" y="3124080"/>
            <a:ext cx="352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097320" y="2133720"/>
            <a:ext cx="352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ame the following angle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00200" y="2971800"/>
            <a:ext cx="6400800" cy="838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1371600" y="4800600"/>
            <a:ext cx="6172200" cy="533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3962520" y="2209680"/>
            <a:ext cx="1295280" cy="3505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268160" y="32767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343400" y="4495680"/>
            <a:ext cx="38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nd the slope and y-intercept: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– 5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= 2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– 5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= 20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-5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= -4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+ 20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4/5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- 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277440" y="4495680"/>
            <a:ext cx="93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lo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639040" y="4495680"/>
            <a:ext cx="172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y-intercep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 flipV="1">
            <a:off x="3733920" y="3733920"/>
            <a:ext cx="6094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H="1" flipV="1">
            <a:off x="5638680" y="3733920"/>
            <a:ext cx="45720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rite the equation of a lin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th slope 2/3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d passing through (-1,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48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0" lang="en-US" sz="4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4800" spc="-1" strike="noStrike">
                <a:solidFill>
                  <a:srgbClr val="ff0000"/>
                </a:solidFill>
                <a:latin typeface="Times New Roman"/>
              </a:rPr>
              <a:t>m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4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4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4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4800"/>
            </a:b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2/3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4800"/>
            </a:b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– 4 = 2/3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+ 2/3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– 12 = 2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+ 2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– 3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= -14</a:t>
            </a:r>
            <a:br>
              <a:rPr sz="4800"/>
            </a:br>
            <a:br>
              <a:rPr sz="4800"/>
            </a:br>
            <a:r>
              <a:rPr b="0" i="1" lang="en-US" sz="4800" spc="-1" strike="noStrike">
                <a:solidFill>
                  <a:srgbClr val="ff0000"/>
                </a:solidFill>
                <a:latin typeface="Times New Roman"/>
              </a:rPr>
              <a:t>Standard For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4495680" y="4571640"/>
            <a:ext cx="0" cy="6858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53352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pter 3 Constru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990720" y="1600200"/>
            <a:ext cx="7162560" cy="480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Construct a perpendicular through a point on a l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Construct a perpendicular through a point NOT on a l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Construct a parallel through a point not on a l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62120" y="160020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0000"/>
                </a:solidFill>
                <a:latin typeface="Times New Roman"/>
              </a:rPr>
              <a:t>Alternate Interior Angles</a:t>
            </a:r>
            <a:br>
              <a:rPr sz="4800"/>
            </a:br>
            <a:br>
              <a:rPr sz="4800"/>
            </a:br>
            <a:r>
              <a:rPr b="0" i="1" lang="en-US" sz="4400" spc="-1" strike="noStrike">
                <a:solidFill>
                  <a:srgbClr val="ff0000"/>
                </a:solidFill>
                <a:latin typeface="Times New Roman"/>
              </a:rPr>
              <a:t>(alt-int   </a:t>
            </a:r>
            <a:r>
              <a:rPr b="0" i="1" lang="en-US" sz="3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i="1" lang="en-US" sz="4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5105160" y="3809880"/>
            <a:ext cx="15228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4038480"/>
            <a:ext cx="2286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2120" y="1980720"/>
            <a:ext cx="77724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f lines are paralle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n alt-int   s are ________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4114440" y="335268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114800" y="3581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218960"/>
            <a:ext cx="7772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f lines are paralle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n alt-int  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e </a:t>
            </a:r>
            <a:r>
              <a:rPr b="0" i="1" lang="en-US" sz="4400" spc="-1" strike="noStrike">
                <a:solidFill>
                  <a:srgbClr val="ff0000"/>
                </a:solidFill>
                <a:latin typeface="Times New Roman"/>
              </a:rPr>
              <a:t>congruen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657240" y="24382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2666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752480" y="4191120"/>
            <a:ext cx="5791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752480" y="5562720"/>
            <a:ext cx="5715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200400" y="3124080"/>
            <a:ext cx="2209680" cy="3353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963600" y="5029200"/>
            <a:ext cx="31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192200" y="4038480"/>
            <a:ext cx="31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72200" y="5334120"/>
            <a:ext cx="30492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171840" y="5562720"/>
            <a:ext cx="30492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324480" y="3962520"/>
            <a:ext cx="30492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6324120" y="4191120"/>
            <a:ext cx="22860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5:26:49Z</dcterms:created>
  <dc:creator>D. Mark Frankum</dc:creator>
  <dc:description/>
  <dc:language>en-US</dc:language>
  <cp:lastModifiedBy>D. Mark Frankum</cp:lastModifiedBy>
  <dcterms:modified xsi:type="dcterms:W3CDTF">2009-11-24T22:38:33Z</dcterms:modified>
  <cp:revision>211</cp:revision>
  <dc:subject/>
  <dc:title>Chapter 3</dc:title>
</cp:coreProperties>
</file>