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F1D-8EBF-498B-9786-58338155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732-53C8-4F6C-819C-4D0C6A51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C4A-7151-416C-8788-D095FD7C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EC8-7E27-471A-B4A6-50C703FD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36F-270A-4475-9AF2-6DCC4D49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375-8A5A-4E96-BD8B-BBF6CA61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E89-7B00-4FAF-AEB7-53DFCE8C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C15-A6BD-4A29-A21C-2487C3AD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633-ECBC-4982-B1F3-B13F478F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A72-70D7-4076-B56A-F9674482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679-F57E-4532-866D-31A09637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F46-B0B2-468C-92AE-F986D20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9A60-E675-4D2F-B07A-4A0D3263D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514600"/>
            <a:ext cx="2819520" cy="3429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114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028840" y="40384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42960" y="297180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9760" y="5410080"/>
            <a:ext cx="4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1143000"/>
            <a:ext cx="2819160" cy="3429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666880"/>
            <a:ext cx="4572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971800" y="259092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65320" y="16002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1680" y="40384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0745000">
            <a:off x="1295280" y="350496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2128400">
            <a:off x="3049560" y="373212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16002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 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2666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9600" y="27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9080" y="342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16765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2 angles of a triangle 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then the opposite sides are 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3320" y="2514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2240" y="228600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6765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2 angles of a triangle 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then the opposite sides 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3320" y="32004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2240" y="236232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2240" y="297180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3320" y="25909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18288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quiangular triangle is also 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2057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quiangular triangle is also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quilat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16002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327672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7960" y="703440"/>
            <a:ext cx="752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7)        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9   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+ 4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=  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3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lution (-1,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1143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 DOG           CAT th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G        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       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G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1523880"/>
            <a:ext cx="38088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523880"/>
            <a:ext cx="38088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4320" y="1371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4680" y="10810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666520" y="38098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4191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9760" y="26668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9760" y="35053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6080" y="42670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9400" y="28954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9400" y="37339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5720" y="44956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6483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G       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T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G          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OGD         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T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1600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27432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657600"/>
            <a:ext cx="533520" cy="457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16002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57440" y="2743200"/>
            <a:ext cx="3049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2004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657600"/>
            <a:ext cx="533520" cy="457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5238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40640" y="251460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40640" y="32767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40280" y="17524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40280" y="275760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350532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  BAD        F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then   BD     F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ecause 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2057400"/>
            <a:ext cx="38124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2057400"/>
            <a:ext cx="38124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64480" y="19051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5200" y="25909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50440" y="169056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5560" y="23623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Def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2514600"/>
            <a:ext cx="533160" cy="457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7120" y="25146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7120" y="2236680"/>
            <a:ext cx="4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5160" y="3352680"/>
            <a:ext cx="235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PCT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4 ways to prove triangles congru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SSS</a:t>
            </a:r>
            <a:br>
              <a:rPr sz="6000"/>
            </a:b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SAS</a:t>
            </a:r>
            <a:br>
              <a:rPr sz="6000"/>
            </a:b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ASA</a:t>
            </a:r>
            <a:br>
              <a:rPr sz="6000"/>
            </a:b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A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2 sides of a triangle 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the opposite angles are 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3320" y="2514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2240" y="228600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2 sides of a triangle 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the opposite angles a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5600" y="1371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28120" y="20574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4520" y="114300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43960" y="182880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962520"/>
            <a:ext cx="1819440" cy="1600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886200"/>
            <a:ext cx="1752480" cy="1600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3809880"/>
            <a:ext cx="1819440" cy="1600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6483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45720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181480"/>
            <a:ext cx="75960" cy="457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05120" y="4572000"/>
            <a:ext cx="4572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67080" y="5257800"/>
            <a:ext cx="76320" cy="3808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238880" y="4572000"/>
            <a:ext cx="4572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9520" y="5029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8480" y="5029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5720" y="4952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21600">
            <a:off x="4024440" y="39002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21000">
            <a:off x="6791760" y="39067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2:16:27Z</dcterms:created>
  <dc:creator>Mark Frankum</dc:creator>
  <dc:description/>
  <dc:language>en-US</dc:language>
  <cp:lastModifiedBy>D. Mark Frankum</cp:lastModifiedBy>
  <dcterms:modified xsi:type="dcterms:W3CDTF">2009-11-24T22:38:52Z</dcterms:modified>
  <cp:revision>52</cp:revision>
  <dc:subject/>
  <dc:title>Chapter 4</dc:title>
</cp:coreProperties>
</file>