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A05-760E-435D-9BD5-6C2343DF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FACA-5D6F-4D38-9CF0-5965CA92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42B-74E1-4C15-95F2-DED3B37A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A7F9-75C9-40BB-83EA-6600C1CA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1590-8B75-4C57-BE3E-7599FBD5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A3A-27ED-420F-AAC6-11454D58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F99-BEB5-4D85-B9B8-CF5C5D67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1EF-F207-4492-AD93-0CFD5FDB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B93D-C4AF-4A55-A87F-418E2DCD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BB3A-66CB-42FF-B2B8-CF707379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FC6-4A81-478B-9386-188D9594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9270-9A8B-46D3-97D6-45C22422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779E-0610-4229-B0E2-6070FF3EF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2514600"/>
            <a:ext cx="2819520" cy="3429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4114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028840" y="40384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42960" y="2971800"/>
            <a:ext cx="6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9760" y="5410080"/>
            <a:ext cx="4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1143000"/>
            <a:ext cx="2819160" cy="3429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2666880"/>
            <a:ext cx="45720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971800" y="2590920"/>
            <a:ext cx="45720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65320" y="16002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11680" y="403848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20745000">
            <a:off x="1295280" y="3504960"/>
            <a:ext cx="45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2128400">
            <a:off x="3049560" y="3732120"/>
            <a:ext cx="45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160020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 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2666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9600" y="2743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9080" y="3429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1676520"/>
            <a:ext cx="8458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2 angles of a triangle a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then the opposite sides are 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93320" y="251460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92240" y="2286000"/>
            <a:ext cx="48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1676520"/>
            <a:ext cx="8458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2 angles of a triangle a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then the opposite sides a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93320" y="320040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2240" y="2362320"/>
            <a:ext cx="48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2240" y="2971800"/>
            <a:ext cx="48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3320" y="259092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18288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quiangular triangle is also 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520" y="20574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quiangular triangle is also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quilat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16002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-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327672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7960" y="703440"/>
            <a:ext cx="7520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-7)         2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-1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3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9    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+ 4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=   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-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-1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3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olution (-1,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1143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1752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15200" y="3429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  DOG           CAT th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8960" y="2819520"/>
            <a:ext cx="64767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G         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        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G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1523880"/>
            <a:ext cx="380880" cy="3049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1523880"/>
            <a:ext cx="380880" cy="3049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4320" y="137160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4680" y="108108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2895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666520" y="3809880"/>
            <a:ext cx="2286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4191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9760" y="266688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9760" y="350532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6080" y="426708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9400" y="289548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9400" y="373392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5720" y="449568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648320"/>
            <a:ext cx="380880" cy="3045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G       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T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   G          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OGD         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T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1600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90920" y="274320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3200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657600"/>
            <a:ext cx="533520" cy="4572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16002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257440" y="2743200"/>
            <a:ext cx="30492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32004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3657600"/>
            <a:ext cx="533520" cy="4572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40640" y="152388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40640" y="251460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40640" y="327672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40280" y="1752480"/>
            <a:ext cx="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40280" y="2757600"/>
            <a:ext cx="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40280" y="3505320"/>
            <a:ext cx="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   BAD        F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then   BD     F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because 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2057400"/>
            <a:ext cx="381240" cy="3049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2057400"/>
            <a:ext cx="381240" cy="3049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64480" y="190512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5200" y="259092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50440" y="169056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5560" y="236232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Def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2514600"/>
            <a:ext cx="533160" cy="4572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7120" y="25146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97120" y="2236680"/>
            <a:ext cx="47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5160" y="3352680"/>
            <a:ext cx="235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CPCT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4 ways to prove triangles congru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SSS</a:t>
            </a:r>
            <a:br>
              <a:rPr sz="6000"/>
            </a:b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SAS</a:t>
            </a:r>
            <a:br>
              <a:rPr sz="6000"/>
            </a:b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ASA</a:t>
            </a:r>
            <a:br>
              <a:rPr sz="6000"/>
            </a:b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A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2 sides of a triangle a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the opposite angles are 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3320" y="251460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92240" y="2286000"/>
            <a:ext cx="48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2 sides of a triangle a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the opposite angles ar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5600" y="137160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28120" y="20574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44520" y="1143000"/>
            <a:ext cx="48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43960" y="1828800"/>
            <a:ext cx="4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962520"/>
            <a:ext cx="1819440" cy="1600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3886200"/>
            <a:ext cx="1752480" cy="1600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3809880"/>
            <a:ext cx="1819440" cy="1600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4648320"/>
            <a:ext cx="45720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45720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5181480"/>
            <a:ext cx="75960" cy="4572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905120" y="4572000"/>
            <a:ext cx="45720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267080" y="5257800"/>
            <a:ext cx="76320" cy="3808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238880" y="4572000"/>
            <a:ext cx="4572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9520" y="5029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8480" y="502920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5720" y="49528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21600">
            <a:off x="4024440" y="39002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21000">
            <a:off x="6791760" y="39067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22:16:27Z</dcterms:created>
  <dc:creator>Mark Frankum</dc:creator>
  <dc:description/>
  <dc:language>en-US</dc:language>
  <cp:lastModifiedBy>D. Mark Frankum</cp:lastModifiedBy>
  <dcterms:modified xsi:type="dcterms:W3CDTF">2009-11-24T22:38:52Z</dcterms:modified>
  <cp:revision>52</cp:revision>
  <dc:subject/>
  <dc:title>Chapter 4</dc:title>
</cp:coreProperties>
</file>