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2A3-29C0-4CE8-8964-7AF25803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9F3-C7E0-4B80-ADF8-EB6D6D2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3A3-0527-43B1-9775-74A8D284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347-F9B2-4DF1-8A47-B890EF7A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988-A878-4398-A76C-A5A7A193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4F8-53C1-48A5-AC8E-CE799F4D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A6E-3CE1-49A1-99B7-C94C42B3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8B0-3DF0-4B00-BA13-DB0C0982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9CD-E751-4235-ABC0-BF20DC0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670-4E7A-4D24-8C09-58AC1B1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D89-F979-424F-B11D-C379E2F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857-EDA7-4143-9981-60B3AFE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F43C-5667-477D-983B-AEB6D8407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hombus are __________ and 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hombus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rpendic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sect opposite ang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200400"/>
            <a:ext cx="2286000" cy="32004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800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200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572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4120" y="34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58280" y="3489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9000" y="4479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900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412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58280" y="571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3400" y="4479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3400" y="4724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ectangle are _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rectangle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124080"/>
            <a:ext cx="358128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37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436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288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1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124080"/>
            <a:ext cx="358128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3124080"/>
            <a:ext cx="358128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520" y="531180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H = 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sides of the following trapezo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971800"/>
            <a:ext cx="3881160" cy="1752480"/>
          </a:xfrm>
          <a:custGeom>
            <a:avLst/>
            <a:gdLst>
              <a:gd name="textAreaLeft" fmla="*/ 801360 w 3881160"/>
              <a:gd name="textAreaRight" fmla="*/ 3079800 w 388116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27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520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76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52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le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bas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leg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__________ of a trapezoid connects the midpoints of the le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idseg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a trapezoid connects the midpoints of the leg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2666880" y="3276720"/>
            <a:ext cx="3881520" cy="1752480"/>
          </a:xfrm>
          <a:custGeom>
            <a:avLst/>
            <a:gdLst>
              <a:gd name="textAreaLeft" fmla="*/ 801360 w 3881520"/>
              <a:gd name="textAreaRight" fmla="*/ 3080160 w 388152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11480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length of the midseg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666880" y="3276720"/>
            <a:ext cx="3881520" cy="1752480"/>
          </a:xfrm>
          <a:custGeom>
            <a:avLst/>
            <a:gdLst>
              <a:gd name="textAreaLeft" fmla="*/ 801360 w 3881520"/>
              <a:gd name="textAreaRight" fmla="*/ 3080160 w 3881520"/>
              <a:gd name="textAreaTop" fmla="*/ 361800 h 1752480"/>
              <a:gd name="textAreaBottom" fmla="*/ 1390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23" y="21600"/>
                </a:lnTo>
                <a:lnTo>
                  <a:pt x="4877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88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4840" y="4952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segment = ½ (10 + 20)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sides of a parallelogram are __________ and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oint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057400"/>
            <a:ext cx="5029200" cy="39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86728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9080" y="4419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752480"/>
            <a:ext cx="151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840" y="38098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( _____ , _____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5360" y="2438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6800" y="2362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2400" y="1676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560" y="190512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dpoint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75248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1676520"/>
            <a:ext cx="75960" cy="1554120"/>
          </a:xfrm>
          <a:custGeom>
            <a:avLst/>
            <a:gdLst>
              <a:gd name="textAreaLeft" fmla="*/ 0 w 75960"/>
              <a:gd name="textAreaRight" fmla="*/ 53280 w 7596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920" y="45720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79132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L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2361960"/>
            <a:ext cx="510516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86360" y="5638680"/>
            <a:ext cx="191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91880" y="2057400"/>
            <a:ext cx="195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7432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514600"/>
            <a:ext cx="3049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5146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449568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istance Formul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 shapes in Geometry have “legs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5760" y="13716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2080" y="13716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sceles Tri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4479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0" cy="1676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3720"/>
            <a:ext cx="167652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76360" y="2057400"/>
            <a:ext cx="106668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057400"/>
            <a:ext cx="11430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80988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819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600" y="28195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43828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5812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324120" y="2438280"/>
            <a:ext cx="38124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1880" y="2438280"/>
            <a:ext cx="30492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each sha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4240" y="150192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743200"/>
            <a:ext cx="2286000" cy="685800"/>
          </a:xfrm>
          <a:prstGeom prst="parallelogram">
            <a:avLst>
              <a:gd name="adj" fmla="val 83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86200"/>
            <a:ext cx="13716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76720"/>
            <a:ext cx="909720" cy="15951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648320"/>
            <a:ext cx="914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1676520"/>
            <a:ext cx="1214640" cy="6858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1600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600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20574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752120" y="20574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37920" y="3505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33526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572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81120" y="44197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8564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each shap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4240" y="150192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743200"/>
            <a:ext cx="2286000" cy="685800"/>
          </a:xfrm>
          <a:prstGeom prst="parallelogram">
            <a:avLst>
              <a:gd name="adj" fmla="val 83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3886200"/>
            <a:ext cx="13716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276720"/>
            <a:ext cx="909720" cy="15951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648320"/>
            <a:ext cx="9144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1676520"/>
            <a:ext cx="1214640" cy="6858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1600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1600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05740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120" y="20574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37920" y="35053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33526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4572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44197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8564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232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18760" y="44956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7200" y="34290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362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7320" y="4800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9560" y="5562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66320" y="24382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hombus is _______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is _______ a parallel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allelogram is _______ a trapez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152388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hombus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parallel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allelogram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trapez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sides of a parallelogram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ll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809880"/>
            <a:ext cx="4496040" cy="1828800"/>
          </a:xfrm>
          <a:prstGeom prst="parallelogram">
            <a:avLst>
              <a:gd name="adj" fmla="val 6146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4560" y="3505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9560" y="5334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4480" y="5334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8672000">
            <a:off x="2658600" y="425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554400">
            <a:off x="5874840" y="441216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657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seg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286000"/>
            <a:ext cx="4648320" cy="2666880"/>
          </a:xfrm>
          <a:prstGeom prst="triangle">
            <a:avLst>
              <a:gd name="adj" fmla="val 28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657600"/>
            <a:ext cx="243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419112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648320" y="2743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0024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19920" y="3962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17184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idse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094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2743200"/>
            <a:ext cx="4647960" cy="2666880"/>
          </a:xfrm>
          <a:prstGeom prst="triangle">
            <a:avLst>
              <a:gd name="adj" fmla="val 283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0384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4648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3080" y="3406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6240" y="4168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the following parallelogram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3124080"/>
            <a:ext cx="5181840" cy="2133720"/>
          </a:xfrm>
          <a:prstGeom prst="parallelogram">
            <a:avLst>
              <a:gd name="adj" fmla="val 6071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03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2520" y="38098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000" y="5105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angles of a parallelogram are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pposite angles of a parallelogram 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3124080"/>
            <a:ext cx="5867280" cy="2362320"/>
          </a:xfrm>
          <a:prstGeom prst="parallelogram">
            <a:avLst>
              <a:gd name="adj" fmla="val 6209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8480" y="50292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9080" y="312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6520" y="312408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976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parallelogram _________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gonals of a parallelogram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sect each ot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124080"/>
            <a:ext cx="5867280" cy="2362320"/>
          </a:xfrm>
          <a:prstGeom prst="parallelogram">
            <a:avLst>
              <a:gd name="adj" fmla="val 6209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124080"/>
            <a:ext cx="297180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447920" y="3124080"/>
            <a:ext cx="5790960" cy="236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4343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7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468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6:17:44Z</dcterms:created>
  <dc:creator>D. Mark Frankum</dc:creator>
  <dc:description/>
  <dc:language>en-US</dc:language>
  <cp:lastModifiedBy>D. Mark Frankum</cp:lastModifiedBy>
  <dcterms:modified xsi:type="dcterms:W3CDTF">2009-11-24T22:39:28Z</dcterms:modified>
  <cp:revision>85</cp:revision>
  <dc:subject/>
  <dc:title>Chapter 6</dc:title>
</cp:coreProperties>
</file>