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44E8-AFF7-4EFD-BFA6-EEDD53400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D48F-3CE9-42F2-A3EC-0DA7F9AD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A2F2-5E47-4FDF-9F2C-E50D6C776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4296-9AC3-4207-871C-DC15E8A06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8841-267D-4314-924A-154933CF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18AB-4849-4D2B-8757-48D05B79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0ADB-FE52-412F-B0C3-9C52577C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901F-8E07-4073-8425-5E7E8D279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5573-3504-4720-9C57-079245B8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7E61-7BC0-4CB6-AAD2-83AF08BE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2C73-707E-4795-B121-388F2F65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A4AE-3064-4ED1-89E6-527E6211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DCBE-01DD-42E5-B73C-0A2B1D6CE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hapter 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85800"/>
            <a:ext cx="79246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iven segment lengths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     a, b, </a:t>
            </a:r>
            <a:r>
              <a:rPr b="1" lang="en-US" sz="4400" spc="-1" strike="noStrike">
                <a:solidFill>
                  <a:srgbClr val="00cc99"/>
                </a:solidFill>
                <a:latin typeface="Times New Roman"/>
              </a:rPr>
              <a:t>c       </a:t>
            </a:r>
            <a:r>
              <a:rPr b="1" i="1" lang="en-US" sz="4400" spc="-1" strike="noStrike">
                <a:solidFill>
                  <a:srgbClr val="00cc99"/>
                </a:solidFill>
                <a:latin typeface="Times New Roman"/>
              </a:rPr>
              <a:t>long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3352680"/>
            <a:ext cx="701064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igh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+ 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btus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+ 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cut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+ 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91120" y="22096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3581280"/>
            <a:ext cx="304560" cy="3049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4343400"/>
            <a:ext cx="304560" cy="3049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5029200"/>
            <a:ext cx="304920" cy="3049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581280"/>
            <a:ext cx="38088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434340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502920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33520" y="838080"/>
            <a:ext cx="79246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igh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+ b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Obtu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+ b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Acut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&lt;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+ b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95480" y="1371600"/>
            <a:ext cx="457200" cy="3808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457200" cy="3808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71800" y="4038480"/>
            <a:ext cx="457200" cy="38124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380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MPLET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2743200"/>
            <a:ext cx="38862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 = 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 = 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2590920"/>
            <a:ext cx="2590920" cy="243828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46483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05120" y="4648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3040" y="2895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01840" y="4572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266688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 =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L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 =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05520" y="4038480"/>
            <a:ext cx="15228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257800" y="3886200"/>
            <a:ext cx="15228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10080" y="38862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7480" y="38862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LV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48320" y="2895480"/>
            <a:ext cx="3657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= 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= 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2438280"/>
            <a:ext cx="2590920" cy="251460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3880" y="4572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81080" y="4572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2160" y="33782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40080" y="4800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97280" y="312408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4600" y="2743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53400" y="45720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62120" y="1447920"/>
            <a:ext cx="76960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8</a:t>
            </a:r>
            <a:br>
              <a:rPr sz="4400"/>
            </a:b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8   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76920" y="2971800"/>
            <a:ext cx="1522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029200" y="2895480"/>
            <a:ext cx="2286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57800" y="28954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LET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24280" y="2819520"/>
            <a:ext cx="38862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= 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 = 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2743200"/>
            <a:ext cx="3200400" cy="160020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40384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40384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8160" y="3886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20760" y="2895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1295280" y="3504960"/>
            <a:ext cx="190512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7760" y="3276720"/>
            <a:ext cx="497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62120" y="1600200"/>
            <a:ext cx="7543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8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    3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 =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2 L</a:t>
            </a:r>
            <a:r>
              <a:rPr b="1" lang="en-US" sz="48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05520" y="1828800"/>
            <a:ext cx="30456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10080" y="1752480"/>
            <a:ext cx="7632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17524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LV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24280" y="2819520"/>
            <a:ext cx="38862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= 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= 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9320" y="2743200"/>
            <a:ext cx="3200400" cy="160020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40384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00200" y="40384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01840" y="3886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20760" y="2895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3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99840" y="42861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68320" y="27432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2133720"/>
            <a:ext cx="77724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4    3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24280" y="2590920"/>
            <a:ext cx="15264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876920" y="2590920"/>
            <a:ext cx="1522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029200" y="25909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1295280"/>
            <a:ext cx="79246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MPLIFY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    20                       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12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                                 3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3581280"/>
            <a:ext cx="1522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2209680" y="3429000"/>
            <a:ext cx="15264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34290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2200" y="4191120"/>
            <a:ext cx="1522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324480" y="4114800"/>
            <a:ext cx="15264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77120" y="4114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62120" y="228600"/>
            <a:ext cx="815328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A 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EQUILATERAL TRIANG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A = ½ ( ____ )( ____ )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A = ½ ( ____)( ____ )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A = ( ____ 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     ( ____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62720" y="5181480"/>
            <a:ext cx="22860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790960" y="5029200"/>
            <a:ext cx="22860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19920" y="5029200"/>
            <a:ext cx="7617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29000" y="5867280"/>
            <a:ext cx="3427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965320" y="1243080"/>
            <a:ext cx="23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 = ½ 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b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66760" y="2386080"/>
            <a:ext cx="23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 = ½ 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98600" y="3352680"/>
            <a:ext cx="198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 = 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4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91120" y="411480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724280" y="3429000"/>
                <a:ext cx="6606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025800" y="1319040"/>
            <a:ext cx="325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 the are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05320" y="2362320"/>
            <a:ext cx="3047760" cy="2438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78400" y="5029200"/>
            <a:ext cx="290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ilateral Triang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8328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410080" y="3809880"/>
                <a:ext cx="3938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5105520" y="4114800"/>
            <a:ext cx="144756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276720" y="457200"/>
            <a:ext cx="3200400" cy="23623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76920" y="19051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76920" y="1905120"/>
            <a:ext cx="160020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92760" y="2514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25909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4120" y="18288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6600" y="2209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92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83080" y="1295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4343400" y="2209680"/>
                <a:ext cx="3938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5562720" y="1905120"/>
                <a:ext cx="3934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48480" y="3855960"/>
            <a:ext cx="219996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 = ½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b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 = ½ (18)(9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 = 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000160" y="4705200"/>
                <a:ext cx="3938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847880" y="5238720"/>
                <a:ext cx="3938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3658320" y="3941640"/>
            <a:ext cx="227628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 = ½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 = ½ (3     )(5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 = 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4800600" y="4781520"/>
                <a:ext cx="3938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5162400" y="5315040"/>
                <a:ext cx="3938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6934320" y="3429000"/>
            <a:ext cx="1338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 =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 = (18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 = 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7962840" y="3448080"/>
                <a:ext cx="3938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8134200" y="4572000"/>
                <a:ext cx="3938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8001000" y="5638680"/>
                <a:ext cx="3938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7772400" y="3886200"/>
            <a:ext cx="5335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20120" y="497196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A OF 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SQUAR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447920" y="1905120"/>
            <a:ext cx="63244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= ( ____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= ½ ( ____ )( ____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= ½ ( ____ )( ____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1066680"/>
            <a:ext cx="88390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A = 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i="1" lang="en-US" sz="4800" spc="-1" strike="noStrike" baseline="30000">
                <a:solidFill>
                  <a:srgbClr val="ff0000"/>
                </a:solidFill>
                <a:latin typeface="Times New Roman"/>
              </a:rPr>
              <a:t>2        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= ½ ap   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 = ½ d</a:t>
            </a:r>
            <a:r>
              <a:rPr b="0" i="1" lang="en-US" sz="4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i="1" lang="en-US" sz="4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3581280"/>
            <a:ext cx="1752480" cy="160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05320" y="3505320"/>
            <a:ext cx="1752480" cy="1676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0" y="3581280"/>
            <a:ext cx="1600200" cy="160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560" y="5159520"/>
            <a:ext cx="13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side 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43400" y="434340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43400" y="4343400"/>
            <a:ext cx="91440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3600" y="4495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0" y="3581280"/>
            <a:ext cx="160020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857640" y="3657600"/>
            <a:ext cx="1523880" cy="1523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 the are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00400" y="2438280"/>
            <a:ext cx="2743200" cy="2667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50280" y="522288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qu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3809880"/>
            <a:ext cx="1371600" cy="12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31000" y="4038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5334120" y="4038480"/>
                <a:ext cx="53316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276720" y="609480"/>
            <a:ext cx="2438280" cy="22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95680" y="1752480"/>
            <a:ext cx="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95680" y="1752480"/>
            <a:ext cx="121932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78360" y="1828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257800" y="1905120"/>
                <a:ext cx="40644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4040280" y="2057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802040" y="2895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44640" y="1600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92520" y="3886200"/>
            <a:ext cx="11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 =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 = 2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 =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77440" y="3886200"/>
            <a:ext cx="2047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 = ½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 = ½ (10)(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 =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677560" y="3962520"/>
            <a:ext cx="296208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 = ½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 = ½ (20      )(20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 =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7010280" y="4724280"/>
                <a:ext cx="40644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7975440" y="4724280"/>
                <a:ext cx="40644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5029200" y="251460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95680" y="26668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26668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762120" y="914400"/>
            <a:ext cx="76960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A OF 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REGULAR HEXAG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= ½ ( ____ )( ____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A = ½ 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a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8120" y="2590920"/>
            <a:ext cx="3581280" cy="3124080"/>
          </a:xfrm>
          <a:prstGeom prst="hexagon">
            <a:avLst>
              <a:gd name="adj" fmla="val 28659"/>
              <a:gd name="vf" fmla="val 11547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876920" y="4114800"/>
            <a:ext cx="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4114800"/>
            <a:ext cx="83808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2666880"/>
            <a:ext cx="56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341240" y="436716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82200" y="53341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76920" y="5486400"/>
            <a:ext cx="152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029200" y="5486400"/>
            <a:ext cx="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9480" y="1143000"/>
            <a:ext cx="7848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0  =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5   =  2   5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1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12    3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3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3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1447920"/>
            <a:ext cx="2286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523880" y="1371600"/>
            <a:ext cx="15264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3716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523880"/>
            <a:ext cx="1522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200400" y="1371600"/>
            <a:ext cx="1522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13716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1523880"/>
            <a:ext cx="15264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962520" y="1371600"/>
            <a:ext cx="1522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13716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91320" y="1523880"/>
            <a:ext cx="1522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1371600"/>
            <a:ext cx="1522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1371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3505320"/>
            <a:ext cx="15264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676520" y="3352680"/>
            <a:ext cx="1522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33526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62320" y="3505320"/>
            <a:ext cx="15228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514600" y="3352680"/>
            <a:ext cx="1522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3526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895480"/>
            <a:ext cx="1522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514600" y="2666880"/>
            <a:ext cx="15228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26668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2743200"/>
            <a:ext cx="2286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648320" y="2590560"/>
            <a:ext cx="15228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00600" y="25909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71840" y="2819520"/>
            <a:ext cx="130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   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02200" y="281952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62720" y="281952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05720" y="3048120"/>
            <a:ext cx="1522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858000" y="2895480"/>
            <a:ext cx="15228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10280" y="28954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 the are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2438280"/>
            <a:ext cx="3200400" cy="2819520"/>
          </a:xfrm>
          <a:prstGeom prst="hexagon">
            <a:avLst>
              <a:gd name="adj" fmla="val 28377"/>
              <a:gd name="vf" fmla="val 11547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868360" y="27432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33120" y="5486400"/>
            <a:ext cx="372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egular Hexag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124080" y="685800"/>
            <a:ext cx="2819520" cy="2209680"/>
          </a:xfrm>
          <a:prstGeom prst="hexagon">
            <a:avLst>
              <a:gd name="adj" fmla="val 31900"/>
              <a:gd name="vf" fmla="val 11547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627880" y="1008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175248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432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72608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16765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  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86200" y="1981080"/>
            <a:ext cx="15228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4038480" y="1981080"/>
            <a:ext cx="7632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114800" y="1981080"/>
            <a:ext cx="228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95680" y="1752480"/>
            <a:ext cx="76212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26668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48320" y="26668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801680" y="25909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429280" y="3290760"/>
            <a:ext cx="36676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A = ½ 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a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A = ½ (4   3)(48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A = 96  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19720" y="4572000"/>
            <a:ext cx="15228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571640" y="4495680"/>
            <a:ext cx="15228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724280" y="4495680"/>
            <a:ext cx="381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724280" y="5562720"/>
            <a:ext cx="15264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4876560" y="5410080"/>
            <a:ext cx="15228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029200" y="541008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85800" y="9144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A OF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PARALLELOGRAM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371600" y="312408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= ( ____ )( ____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60948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= b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44956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2057400" y="2971800"/>
            <a:ext cx="137160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429000" y="2971800"/>
            <a:ext cx="3124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4343400"/>
            <a:ext cx="3200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257800" y="2971800"/>
            <a:ext cx="129528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286000" y="4343400"/>
            <a:ext cx="294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se (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29000" y="2971800"/>
            <a:ext cx="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29000" y="33526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ight (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429000" y="40384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57600" y="4038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685800" y="121932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A OF </a:t>
            </a:r>
            <a:br>
              <a:rPr sz="4400"/>
            </a:br>
            <a:r>
              <a:rPr b="0" i="1" lang="en-US" sz="4400" spc="-1" strike="noStrike">
                <a:solidFill>
                  <a:srgbClr val="ff3300"/>
                </a:solidFill>
                <a:latin typeface="Times New Roman"/>
              </a:rPr>
              <a:t>ANY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 TRIANG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= ½ ( ____ )( ____ 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85800" y="1295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A = ½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b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819520" y="2819520"/>
            <a:ext cx="4038480" cy="281916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16240" y="5715000"/>
            <a:ext cx="131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ase 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876920" y="2895480"/>
            <a:ext cx="0" cy="2743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877640" y="4038480"/>
            <a:ext cx="157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eight 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762120" y="68580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 the heigh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2819520"/>
            <a:ext cx="2743200" cy="26668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430440" y="3733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87840" y="3733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421160" y="5486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914400" y="4114800"/>
            <a:ext cx="76960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32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  32 = 4 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200400" y="457200"/>
            <a:ext cx="2743200" cy="26668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0" y="533520"/>
            <a:ext cx="0" cy="25905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430440" y="1447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35560" y="1523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344840" y="320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11320" y="2666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30640" y="2666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76920" y="5867280"/>
            <a:ext cx="15228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00600" y="5791320"/>
            <a:ext cx="22860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1143000"/>
            <a:ext cx="1371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9480" y="4572000"/>
            <a:ext cx="45720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" y="2362320"/>
            <a:ext cx="533520" cy="1143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" y="2819520"/>
            <a:ext cx="380880" cy="1523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14400" y="4191120"/>
            <a:ext cx="1006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60840" y="1628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4880" y="5029200"/>
            <a:ext cx="1082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791320" y="5486400"/>
            <a:ext cx="1522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5943600" y="5486400"/>
            <a:ext cx="763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19920" y="5486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5562720"/>
            <a:ext cx="15264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4190760" y="5410080"/>
            <a:ext cx="15228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343400" y="54100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685800" y="609480"/>
            <a:ext cx="76960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A OF 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RIGHT TRIANGL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= ½ ( ____ )( ____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60948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 = ½ (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)(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9036000">
            <a:off x="2819160" y="4571280"/>
            <a:ext cx="3657600" cy="205740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410080" y="3962520"/>
            <a:ext cx="22860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638680" y="4114440"/>
            <a:ext cx="30492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057840" y="4191120"/>
            <a:ext cx="1143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g 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324480" y="4191120"/>
            <a:ext cx="1163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g 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990720"/>
            <a:ext cx="77724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LTIPLY:</a:t>
            </a:r>
            <a:br>
              <a:rPr sz="4400"/>
            </a:br>
            <a:br>
              <a:rPr sz="44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   5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6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67080" y="3124080"/>
            <a:ext cx="2286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495680" y="3047760"/>
            <a:ext cx="15264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48320" y="30481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685800" y="990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A OF 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RHOMBUS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3048120"/>
            <a:ext cx="6400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= ½ ( ____ ) ( ____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85800" y="1295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A = ½ (d</a:t>
            </a:r>
            <a:r>
              <a:rPr b="0" lang="en-US" sz="4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)(d</a:t>
            </a:r>
            <a:r>
              <a:rPr b="0" lang="en-US" sz="4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505320" y="2819520"/>
            <a:ext cx="2361960" cy="3504960"/>
          </a:xfrm>
          <a:prstGeom prst="diamond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05320" y="4572000"/>
            <a:ext cx="23619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724280" y="2895480"/>
            <a:ext cx="0" cy="3429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52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A OF 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RAPEZOID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0880" y="4191120"/>
            <a:ext cx="8382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= ½ ( ____ ) ( ____ + ____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53352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 = ½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)(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en-US" sz="4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+ 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en-US" sz="4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rot="10800000">
            <a:off x="2743200" y="3352320"/>
            <a:ext cx="4191120" cy="2133720"/>
          </a:xfrm>
          <a:custGeom>
            <a:avLst/>
            <a:gdLst>
              <a:gd name="textAreaLeft" fmla="*/ 921600 w 4191120"/>
              <a:gd name="textAreaRight" fmla="*/ 3269520 w 4191120"/>
              <a:gd name="textAreaTop" fmla="*/ 469080 h 2133720"/>
              <a:gd name="textAreaBottom" fmla="*/ 166464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9880" y="3352680"/>
            <a:ext cx="0" cy="2133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523880" y="2819520"/>
            <a:ext cx="64008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 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ase 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128840" y="5486400"/>
            <a:ext cx="1383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ase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71080" y="4105440"/>
            <a:ext cx="157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eight 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CIRCL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79320" y="3809880"/>
            <a:ext cx="77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rcumference = ( __ )( __ )( __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762120" y="2743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C = 2</a:t>
            </a:r>
            <a:r>
              <a:rPr b="0" i="1" lang="en-US" sz="5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i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533520" y="8380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fraction of the circumference is arc 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00400" y="3124080"/>
            <a:ext cx="2895480" cy="28195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48320" y="449568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3885840" y="4495680"/>
            <a:ext cx="76212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182920" y="4038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03960" y="4495680"/>
            <a:ext cx="72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83440" y="5638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167520" y="4267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609480" y="2666880"/>
            <a:ext cx="79250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120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imes New Roman"/>
              </a:rPr>
              <a:t>=  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1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            360        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914400" y="762120"/>
            <a:ext cx="76960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A OF 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CIRCL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20600" y="3429000"/>
            <a:ext cx="530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= ( ____ )( ____ )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762120" y="2590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A =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0" i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5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137160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2   5 )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25   =   4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=  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71600" y="2438280"/>
            <a:ext cx="15228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523880" y="2362320"/>
            <a:ext cx="15264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236232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33920" y="2514600"/>
            <a:ext cx="1522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3886200" y="2362320"/>
            <a:ext cx="1522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23623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7680" y="2057400"/>
            <a:ext cx="33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609480" y="8380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fraction of the circle is shad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76720" y="3200400"/>
            <a:ext cx="2819160" cy="28195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724280" y="45720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4724280" y="3581280"/>
            <a:ext cx="91440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019920" y="3657600"/>
            <a:ext cx="6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486400" y="37339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1008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257800" y="40384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05520" y="419112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952880" y="434340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800600" y="449568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181480" y="4495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685800" y="2286000"/>
            <a:ext cx="76960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45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imes New Roman"/>
              </a:rPr>
              <a:t>=  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1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                360     8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9480" y="914400"/>
            <a:ext cx="7696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LETE: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 ___ )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+ ( ___ )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= ( ___ )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733920"/>
            <a:ext cx="2895480" cy="190476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00400" y="53341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81280" y="533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95000" y="4419720"/>
            <a:ext cx="796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60240" y="5581800"/>
            <a:ext cx="796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20800" y="4038480"/>
            <a:ext cx="8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y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09480" y="144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(leg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4400" spc="-1" strike="noStrike" baseline="30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+ (leg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4400" spc="-1" strike="noStrike" baseline="30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= (hyp)</a:t>
            </a:r>
            <a:r>
              <a:rPr b="1" lang="en-US" sz="4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31240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ythagorean Theor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743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mplete to form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IGHT triangl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71600" y="2743200"/>
            <a:ext cx="6400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, 4, ____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, 12, 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, 8, ____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, 15, 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62120" y="1828800"/>
            <a:ext cx="76960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, 4,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5, 12,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13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6, 8,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8, 15,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5:32:48Z</dcterms:created>
  <dc:creator>admin$</dc:creator>
  <dc:description/>
  <dc:language>en-US</dc:language>
  <cp:lastModifiedBy>D. Mark Frankum</cp:lastModifiedBy>
  <dcterms:modified xsi:type="dcterms:W3CDTF">2009-11-24T22:39:47Z</dcterms:modified>
  <cp:revision>68</cp:revision>
  <dc:subject/>
  <dc:title>Chapter 7</dc:title>
</cp:coreProperties>
</file>