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158-DBEB-45CF-BCE5-94EBC419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C7E-A104-4A4E-A90C-A9680FCD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3D3-758D-4A67-8F97-21373456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1C68-9C4A-4AC3-BAD4-75D97893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11F-0162-4030-B328-99DD6B6E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AB3-C9AF-4548-AA87-A3590638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839-41BC-4B4B-B30C-C2E2BDDB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EED-77BD-4C68-B2B4-24D8E97E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940-4D35-4122-9C61-E7A0ADF3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F262-F78D-4F06-8402-6EE7FFAE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A5AB-3065-4715-9827-14C6980B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8A0C-B320-4B7B-B49E-6DCF0490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8AF4-09AC-4497-B679-313DE814D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85800"/>
            <a:ext cx="7924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iven segment length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a, b, </a:t>
            </a: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       </a:t>
            </a:r>
            <a:r>
              <a:rPr b="1" i="1" lang="en-US" sz="4400" spc="-1" strike="noStrike">
                <a:solidFill>
                  <a:srgbClr val="00cc99"/>
                </a:solidFill>
                <a:latin typeface="Times New Roman"/>
              </a:rPr>
              <a:t>long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352680"/>
            <a:ext cx="70106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ut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2209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3581280"/>
            <a:ext cx="304560" cy="3049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343400"/>
            <a:ext cx="304560" cy="3049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5029200"/>
            <a:ext cx="304920" cy="3049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581280"/>
            <a:ext cx="38088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34340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02920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838080"/>
            <a:ext cx="7924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Obtu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Acut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&lt;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1371600"/>
            <a:ext cx="457200" cy="3808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457200" cy="3808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4038480"/>
            <a:ext cx="457200" cy="3812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LE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2743200"/>
            <a:ext cx="3886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 =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 =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2590920"/>
            <a:ext cx="2590920" cy="243828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46483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4648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304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184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66688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 =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 =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4038480"/>
            <a:ext cx="1522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57800" y="3886200"/>
            <a:ext cx="1522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38862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748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2895480"/>
            <a:ext cx="3657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2438280"/>
            <a:ext cx="2590920" cy="251460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4572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4572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2160" y="33782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40080" y="4800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7280" y="3124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4600" y="2743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3400" y="4572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1447920"/>
            <a:ext cx="7696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8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8   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297180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029200" y="2895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2895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LE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24280" y="2819520"/>
            <a:ext cx="3886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 =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2743200"/>
            <a:ext cx="3200400" cy="160020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038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4038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816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2076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1295280" y="3504960"/>
            <a:ext cx="190512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760" y="3276720"/>
            <a:ext cx="49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160020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3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2 L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1828800"/>
            <a:ext cx="3045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10080" y="1752480"/>
            <a:ext cx="7632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752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2819520"/>
            <a:ext cx="3886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743200"/>
            <a:ext cx="3200400" cy="160020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4038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4038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184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2076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99840" y="4286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68320" y="2743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2133720"/>
            <a:ext cx="77724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4    3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2590920"/>
            <a:ext cx="1526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876920" y="259092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2590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1295280"/>
            <a:ext cx="7924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MPLIFY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20                 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1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3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358128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209680" y="3429000"/>
            <a:ext cx="1526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34290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2200" y="4191120"/>
            <a:ext cx="1522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324480" y="4114800"/>
            <a:ext cx="1526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4114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62120" y="228600"/>
            <a:ext cx="81532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EQUILATERAL TRIANG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A = ½ ( ____ )( ____ )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A = ½ ( ____)( ____ )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A = ( ____ 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( _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5181480"/>
            <a:ext cx="2286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790960" y="5029200"/>
            <a:ext cx="2286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5029200"/>
            <a:ext cx="7617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5867280"/>
            <a:ext cx="3427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965320" y="1243080"/>
            <a:ext cx="23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 = ½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b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66760" y="2386080"/>
            <a:ext cx="23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 = ½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98600" y="3352680"/>
            <a:ext cx="198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 =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4114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724280" y="3429000"/>
                <a:ext cx="6606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25800" y="1319040"/>
            <a:ext cx="32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are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2362320"/>
            <a:ext cx="3047760" cy="2438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78400" y="5029200"/>
            <a:ext cx="29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ilateral Tri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328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410080" y="3809880"/>
                <a:ext cx="393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105520" y="4114800"/>
            <a:ext cx="144756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276720" y="457200"/>
            <a:ext cx="3200400" cy="23623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19051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1905120"/>
            <a:ext cx="16002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2760" y="251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25909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1828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6600" y="220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9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3080" y="1295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343400" y="2209680"/>
                <a:ext cx="393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562720" y="1905120"/>
                <a:ext cx="3934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48480" y="3855960"/>
            <a:ext cx="21999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 = ½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½ (18)(9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00160" y="4705200"/>
                <a:ext cx="393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847880" y="5238720"/>
                <a:ext cx="393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658320" y="3941640"/>
            <a:ext cx="22762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 = ½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½ (3     )(5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800600" y="4781520"/>
                <a:ext cx="393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162400" y="5315040"/>
                <a:ext cx="393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934320" y="3429000"/>
            <a:ext cx="133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(18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962840" y="3448080"/>
                <a:ext cx="393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134200" y="4572000"/>
                <a:ext cx="393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8001000" y="5638680"/>
                <a:ext cx="393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7772400" y="388620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0120" y="497196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OF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QUAR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1905120"/>
            <a:ext cx="6324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= ( ____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= ½ ( ____ )( _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= ½ ( ____ )( _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1066680"/>
            <a:ext cx="88390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 =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4800" spc="-1" strike="noStrike" baseline="30000">
                <a:solidFill>
                  <a:srgbClr val="ff0000"/>
                </a:solidFill>
                <a:latin typeface="Times New Roman"/>
              </a:rPr>
              <a:t>2       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= ½ ap  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 = ½ d</a:t>
            </a:r>
            <a:r>
              <a:rPr b="0" i="1" lang="en-US" sz="4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n-US" sz="4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3581280"/>
            <a:ext cx="1752480" cy="160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3505320"/>
            <a:ext cx="175248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3581280"/>
            <a:ext cx="1600200" cy="160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560" y="515952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ide 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3400" y="43434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4343400"/>
            <a:ext cx="91440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3600" y="4495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0" y="3581280"/>
            <a:ext cx="160020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857640" y="3657600"/>
            <a:ext cx="1523880" cy="1523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are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2438280"/>
            <a:ext cx="2743200" cy="2667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50280" y="52228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3809880"/>
            <a:ext cx="137160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31000" y="4038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334120" y="4038480"/>
                <a:ext cx="5331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76720" y="609480"/>
            <a:ext cx="24382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175248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1752480"/>
            <a:ext cx="121932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8360" y="182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257800" y="1905120"/>
                <a:ext cx="4064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4040280" y="205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204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4640" y="1600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2520" y="3886200"/>
            <a:ext cx="11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2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7440" y="3886200"/>
            <a:ext cx="204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½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½ (10)(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77560" y="3962520"/>
            <a:ext cx="296208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½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½ (20      )(20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010280" y="4724280"/>
                <a:ext cx="4064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975440" y="4724280"/>
                <a:ext cx="4064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029200" y="25146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95680" y="26668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62120" y="914400"/>
            <a:ext cx="76960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OF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EGULAR HEXAG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= ½ ( ____ )( _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 = ½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a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2590920"/>
            <a:ext cx="3581280" cy="3124080"/>
          </a:xfrm>
          <a:prstGeom prst="hexagon">
            <a:avLst>
              <a:gd name="adj" fmla="val 28659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76920" y="411480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4114800"/>
            <a:ext cx="83808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2666880"/>
            <a:ext cx="56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1240" y="43671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82200" y="5334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76920" y="5486400"/>
            <a:ext cx="152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548640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114300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0  =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5   =  2   5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1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12    3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3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14479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23880" y="1371600"/>
            <a:ext cx="1526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3716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52388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200400" y="137160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1371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1523880"/>
            <a:ext cx="1526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962520" y="137160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3716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152388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137160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371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3505320"/>
            <a:ext cx="15264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676520" y="335268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3352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505320"/>
            <a:ext cx="15228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14600" y="335268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352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89548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514600" y="2666880"/>
            <a:ext cx="1522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26668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274320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648320" y="2590560"/>
            <a:ext cx="15228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2590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71840" y="2819520"/>
            <a:ext cx="130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   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2200" y="281952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28195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3048120"/>
            <a:ext cx="1522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858000" y="2895480"/>
            <a:ext cx="1522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28954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are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2438280"/>
            <a:ext cx="3200400" cy="2819520"/>
          </a:xfrm>
          <a:prstGeom prst="hexagon">
            <a:avLst>
              <a:gd name="adj" fmla="val 28377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8360" y="2743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33120" y="5486400"/>
            <a:ext cx="37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r Hexag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124080" y="685800"/>
            <a:ext cx="2819520" cy="2209680"/>
          </a:xfrm>
          <a:prstGeom prst="hexagon">
            <a:avLst>
              <a:gd name="adj" fmla="val 31900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27880" y="1008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17524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43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260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16765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1981080"/>
            <a:ext cx="1522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038480" y="1981080"/>
            <a:ext cx="763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19810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5680" y="1752480"/>
            <a:ext cx="76212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26668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01680" y="2590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29280" y="3290760"/>
            <a:ext cx="36676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 = ½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 = ½ (4   3)(4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 = 96  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9720" y="4572000"/>
            <a:ext cx="15228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571640" y="4495680"/>
            <a:ext cx="1522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4280" y="449568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24280" y="5562720"/>
            <a:ext cx="15264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876560" y="5410080"/>
            <a:ext cx="1522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5410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OF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ARALLELOGRAM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71600" y="312408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= ( ____ )( _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094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= b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057400" y="2971800"/>
            <a:ext cx="13716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297180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43434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257800" y="2971800"/>
            <a:ext cx="12952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0" y="4343400"/>
            <a:ext cx="29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e 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297180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29000" y="3352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ight (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9000" y="40384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4038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OF </a:t>
            </a:r>
            <a:br>
              <a:rPr sz="4400"/>
            </a:br>
            <a:r>
              <a:rPr b="0" i="1" lang="en-US" sz="4400" spc="-1" strike="noStrike">
                <a:solidFill>
                  <a:srgbClr val="ff3300"/>
                </a:solidFill>
                <a:latin typeface="Times New Roman"/>
              </a:rPr>
              <a:t>ANY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TRIANG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= ½ ( ____ )( ____ 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 = ½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b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19520" y="2819520"/>
            <a:ext cx="4038480" cy="2819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16240" y="5715000"/>
            <a:ext cx="13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ase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76920" y="2895480"/>
            <a:ext cx="0" cy="2743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77640" y="4038480"/>
            <a:ext cx="15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ight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762120" y="6858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heigh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2819520"/>
            <a:ext cx="2743200" cy="26668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30440" y="3733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87840" y="3733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21160" y="5486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914400" y="4114800"/>
            <a:ext cx="7696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32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  32 = 4 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00400" y="457200"/>
            <a:ext cx="2743200" cy="26668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533520"/>
            <a:ext cx="0" cy="2590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30440" y="1447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560" y="1523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44840" y="320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11320" y="266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30640" y="266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76920" y="5867280"/>
            <a:ext cx="15228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0600" y="5791320"/>
            <a:ext cx="22860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14300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4572000"/>
            <a:ext cx="45720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2362320"/>
            <a:ext cx="53352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2819520"/>
            <a:ext cx="380880" cy="1523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4191120"/>
            <a:ext cx="1006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60840" y="162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4880" y="5029200"/>
            <a:ext cx="1082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91320" y="548640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943600" y="5486400"/>
            <a:ext cx="763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19920" y="5486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5562720"/>
            <a:ext cx="1526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190760" y="5410080"/>
            <a:ext cx="1522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43400" y="54100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609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OF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IGHT TRIANG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= ½ ( ____ )( _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0948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 = ½ (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)(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9036000">
            <a:off x="2819160" y="4571280"/>
            <a:ext cx="3657600" cy="205740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10080" y="39625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638680" y="4114440"/>
            <a:ext cx="3049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57840" y="4191120"/>
            <a:ext cx="114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g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4480" y="4191120"/>
            <a:ext cx="116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g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990720"/>
            <a:ext cx="7772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LTIPLY:</a:t>
            </a:r>
            <a:br>
              <a:rPr sz="4400"/>
            </a:br>
            <a:br>
              <a:rPr sz="44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   5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31240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495680" y="3047760"/>
            <a:ext cx="15264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OF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HOMBUS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304812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= ½ ( ____ ) ( _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 = ½ (d</a:t>
            </a:r>
            <a:r>
              <a:rPr b="0" lang="en-US" sz="4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)(d</a:t>
            </a:r>
            <a:r>
              <a:rPr b="0" lang="en-US" sz="4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05320" y="2819520"/>
            <a:ext cx="2361960" cy="3504960"/>
          </a:xfrm>
          <a:prstGeom prst="diamond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05320" y="4572000"/>
            <a:ext cx="2361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24280" y="2895480"/>
            <a:ext cx="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52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OF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RAPEZOI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419112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= ½ ( ____ ) ( ____ + _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3352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 = ½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)(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4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4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0800000">
            <a:off x="2743200" y="3352320"/>
            <a:ext cx="4191120" cy="2133720"/>
          </a:xfrm>
          <a:custGeom>
            <a:avLst/>
            <a:gdLst>
              <a:gd name="textAreaLeft" fmla="*/ 921600 w 4191120"/>
              <a:gd name="textAreaRight" fmla="*/ 3269520 w 4191120"/>
              <a:gd name="textAreaTop" fmla="*/ 469080 h 2133720"/>
              <a:gd name="textAreaBottom" fmla="*/ 166464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9880" y="3352680"/>
            <a:ext cx="0" cy="2133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23880" y="2819520"/>
            <a:ext cx="6400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ase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28840" y="5486400"/>
            <a:ext cx="138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as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71080" y="4105440"/>
            <a:ext cx="15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ight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IRC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9320" y="3809880"/>
            <a:ext cx="77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rcumference = ( __ )( __ )( 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762120" y="274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C = 2</a:t>
            </a:r>
            <a:r>
              <a:rPr b="0" i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3520" y="8380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fraction of the circumference is arc 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3124080"/>
            <a:ext cx="2895480" cy="2819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449568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885840" y="449568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2920" y="4038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03960" y="4495680"/>
            <a:ext cx="7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83440" y="5638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67520" y="4267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09480" y="2666880"/>
            <a:ext cx="79250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120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=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1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       360        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14400" y="7621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OF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IRC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20600" y="3429000"/>
            <a:ext cx="530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= ( ____ )( ____ 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212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A =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5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3716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2   5 )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25   =   4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=  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2438280"/>
            <a:ext cx="1522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523880" y="2362320"/>
            <a:ext cx="1526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236232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251460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886200" y="236232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23623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7680" y="205740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09480" y="8380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fraction of the circle is shad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76720" y="3200400"/>
            <a:ext cx="2819160" cy="2819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24280" y="4572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724280" y="3581280"/>
            <a:ext cx="91440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19920" y="3657600"/>
            <a:ext cx="6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86400" y="3733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57800" y="4038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05520" y="41911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43434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00600" y="44956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8148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85800" y="2286000"/>
            <a:ext cx="7696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45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=  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1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           360     8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914400"/>
            <a:ext cx="7696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LETE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 ___ )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+ ( ___ )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= ( ___ )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733920"/>
            <a:ext cx="2895480" cy="190476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53341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533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95000" y="4419720"/>
            <a:ext cx="796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0240" y="5581800"/>
            <a:ext cx="796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20800" y="403848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(leg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+ (leg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= (hyp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124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ythagorean Theo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743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lete to form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GHT triang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274320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, 4, 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, 12,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, 8, 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, 15,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1828800"/>
            <a:ext cx="7696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, 4,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, 12,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6, 8,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, 15,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5:32:48Z</dcterms:created>
  <dc:creator>admin$</dc:creator>
  <dc:description/>
  <dc:language>en-US</dc:language>
  <cp:lastModifiedBy>D. Mark Frankum</cp:lastModifiedBy>
  <dcterms:modified xsi:type="dcterms:W3CDTF">2009-11-24T22:39:47Z</dcterms:modified>
  <cp:revision>68</cp:revision>
  <dc:subject/>
  <dc:title>Chapter 7</dc:title>
</cp:coreProperties>
</file>