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B00-FB15-46EA-BA30-1B248CE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101-EE5F-442F-834D-211B102D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6CB-421B-4113-838D-B8307345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728-BA20-420E-A245-615F4B5F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181-8D67-41A9-A2D9-ECEE9C9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7B2-A038-4040-B538-9FCB9D89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349-22A2-4893-B704-7B7A311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741-BBB3-4350-84CD-25BA6712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7FF-C40A-466F-A5D4-ED2CF90B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D38-5C47-4723-B180-2D0C83D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970-E552-4E1A-BB7C-F5B0C7E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2EF-D70C-4BF3-89E4-AB2342B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D39E-5A60-4D7D-8E80-F37A5F5A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DOG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CAT th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D  ~  ___  and     G  ~ 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15235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334120" y="40384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9112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19112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133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DOG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CAT then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D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     G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H="1">
            <a:off x="15235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4120" y="40384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03848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0384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1237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099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9360" y="37339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520" y="37339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gruent polygons are _____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gruent polyg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rectangles 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rectangles are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io of the length:wid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olden Rect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(approximately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 :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93040" y="1708200"/>
            <a:ext cx="675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io of the length:wid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olden Rect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(approximately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62 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BAD ~    CAT th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747800">
            <a:off x="1904760" y="2742840"/>
            <a:ext cx="1895400" cy="1676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538400">
            <a:off x="4495320" y="2209320"/>
            <a:ext cx="2352960" cy="2210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540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36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816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5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68580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8580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5548320"/>
            <a:ext cx="291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4640" y="5791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7640" y="5791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5160" y="26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2160" y="3505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8160" y="4114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3276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8360" y="4191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4680" y="25146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  b      c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y      x      z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4320" y="29718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920" y="29718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81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3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  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s are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emes are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2560" y="175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6080" y="19051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200400"/>
            <a:ext cx="3581280" cy="2895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8006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464832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64796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594360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48320" y="6095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109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6960" y="495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360" y="6278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9760" y="4724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560" y="4876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028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3808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200400"/>
            <a:ext cx="3581280" cy="2895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8006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64832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64796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94360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8320" y="6095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09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11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6960" y="495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360" y="6278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9760" y="4724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560" y="4876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2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2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67652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640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76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362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cale factor = 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 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)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)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=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F      O     I      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9 = 0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18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91440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9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3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3)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3 or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18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6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3)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= -6 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2560" y="3657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         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        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0440" y="3200400"/>
            <a:ext cx="36129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             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5040" y="838080"/>
            <a:ext cx="25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6040" y="3276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           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    y         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34400" y="3200400"/>
            <a:ext cx="34923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91440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ans:  3 and 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remes:  2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4160" y="35053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           z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    z         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34400" y="3200400"/>
            <a:ext cx="34923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91440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eometric Me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 and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3124080"/>
            <a:ext cx="380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37720" y="297180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971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7040" y="304812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048120"/>
            <a:ext cx="38124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33920" y="2895480"/>
            <a:ext cx="3045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857640" y="30481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048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971800"/>
            <a:ext cx="380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6960" y="3048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4000" y="3048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5000" y="31240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69040" y="30481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76400" y="4952880"/>
            <a:ext cx="560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quare root of produ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080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240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840" y="22860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581280"/>
            <a:ext cx="4952880" cy="2286000"/>
          </a:xfrm>
          <a:prstGeom prst="triangle">
            <a:avLst>
              <a:gd name="adj" fmla="val 968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581280"/>
            <a:ext cx="12193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362320" y="403776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560" y="358056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288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3960" y="571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8480" y="42670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028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676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836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160" y="19810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3581280"/>
            <a:ext cx="4952880" cy="2286000"/>
          </a:xfrm>
          <a:prstGeom prst="triangle">
            <a:avLst>
              <a:gd name="adj" fmla="val 968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581280"/>
            <a:ext cx="12193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362320" y="403776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43560" y="358056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288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3960" y="571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8480" y="42670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028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30280" y="15238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4320" y="2057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56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5720" y="22860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3080" y="2209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3080" y="2666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41148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48769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60199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41148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4876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199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124080"/>
            <a:ext cx="144756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352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9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3560" y="5029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52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748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12952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12952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7480" y="137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1148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48769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60199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41148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4876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60199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124080"/>
            <a:ext cx="144756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352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49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3560" y="5029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152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48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3080" y="10666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3440" y="1676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5160" y="990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5160" y="1600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 the ratio of perimeters equals the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 the ratio of perimeters equals th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cale 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propor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_____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s the product of the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polygons/circ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meter/Circumference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13372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rimeter Ratio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 : 3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ea Ratio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 : 9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(2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: 3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propor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a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r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ymbol is used for “similar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ngles are ____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sides are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ngle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side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6:38:30Z</dcterms:created>
  <dc:creator>dfrankum</dc:creator>
  <dc:description/>
  <dc:language>en-US</dc:language>
  <cp:lastModifiedBy>D. Mark Frankum</cp:lastModifiedBy>
  <dcterms:modified xsi:type="dcterms:W3CDTF">2009-11-24T22:40:03Z</dcterms:modified>
  <cp:revision>86</cp:revision>
  <dc:subject/>
  <dc:title>Chapter 8</dc:title>
</cp:coreProperties>
</file>