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AE8-4EB7-4F3B-9B27-EE617456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E32-C15D-47B0-9981-AA020D65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651-60BF-4E98-BCFC-6C569DE0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036-4DFC-4DC4-94C3-287D3B0A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EA9-5C29-448D-BEC9-E41CC1C5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7B2-44D7-4F60-9322-1DCDE6C4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314-5451-4E53-B805-2BCD1CFC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E1B-D522-44DA-9A4F-2A929D1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C7D-71E0-428A-BFC6-F5AB1176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0D0-4A89-4CBE-A346-DCF83B10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501-C9AE-4333-B784-7D8C97E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EF79-7514-419B-B79A-B1D4E670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A88A-2239-44BD-91D6-11C37D950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DOG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CAT th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D  ~  ___  and     G  ~  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3048120"/>
            <a:ext cx="38088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3048120"/>
            <a:ext cx="38088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 flipH="1">
            <a:off x="1523520" y="4114800"/>
            <a:ext cx="22860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334120" y="40384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44197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19112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419112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1337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 DOG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CAT then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D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     G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3048120"/>
            <a:ext cx="38088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3048120"/>
            <a:ext cx="380880" cy="3045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H="1">
            <a:off x="1523520" y="4114800"/>
            <a:ext cx="22860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334120" y="40384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4197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4038480"/>
            <a:ext cx="3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4038480"/>
            <a:ext cx="3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123720" y="4114800"/>
            <a:ext cx="22860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09920" y="4114800"/>
            <a:ext cx="228600" cy="3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9360" y="373392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520" y="3733920"/>
            <a:ext cx="4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congruent polygons are _____ simi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congruent polyg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il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rectangles 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 simi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rectangles are </a:t>
            </a:r>
            <a:br>
              <a:rPr sz="4400"/>
            </a:b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imi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tio of the length:wid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Golden Rectang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(approximately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_____ :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93040" y="1708200"/>
            <a:ext cx="6759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tio of the length:wid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Golden Rectang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(approximately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.62 :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   BAD ~    CAT th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747800">
            <a:off x="1904760" y="2742840"/>
            <a:ext cx="1895400" cy="1676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538400">
            <a:off x="4495320" y="2209320"/>
            <a:ext cx="2352960" cy="22100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352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540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4360" y="480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8160" y="480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552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685800"/>
            <a:ext cx="38088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685800"/>
            <a:ext cx="380880" cy="3049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5548320"/>
            <a:ext cx="291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4640" y="5791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7640" y="57913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5160" y="2695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2160" y="3505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8160" y="41148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9960" y="3276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8360" y="41911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4680" y="25146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092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  b      c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y      x      z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4320" y="297180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920" y="2971800"/>
            <a:ext cx="5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8160" y="304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3800" y="304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1360" y="3048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  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ns are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remes are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2560" y="175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6080" y="19051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3200400"/>
            <a:ext cx="3581280" cy="28954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480060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4648320"/>
            <a:ext cx="304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647960" y="48006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5943600"/>
            <a:ext cx="304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48320" y="6095880"/>
            <a:ext cx="3045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1096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16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6960" y="4952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360" y="62784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9760" y="4724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560" y="4876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240" y="1905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30280" y="1905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38088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200400"/>
            <a:ext cx="3581280" cy="28954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80060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648320"/>
            <a:ext cx="304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647960" y="48006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943600"/>
            <a:ext cx="304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48320" y="6095880"/>
            <a:ext cx="3045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1096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116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6960" y="4952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360" y="62784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9760" y="4724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560" y="4876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3240" y="13716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6240" y="13716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167652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6400" y="167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760" y="167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9800" y="23623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cale factor = 1: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 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)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)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5)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=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F      O     I      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BY FACTORING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9 = 0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18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914400"/>
            <a:ext cx="8076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9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3)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+ 3)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= 3 or 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+ 3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18 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+ 6)(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– 3)= 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= -6 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8857800">
            <a:off x="1447200" y="3809160"/>
            <a:ext cx="4321080" cy="27464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72000" y="335232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28954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4876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1240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5105520"/>
            <a:ext cx="8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2920" y="5105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2560" y="36576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32004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013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5760" y="3276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         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         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8520" y="1066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30440" y="3200400"/>
            <a:ext cx="361296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t             hyp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9360" y="3276720"/>
            <a:ext cx="373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        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240" y="3505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5040" y="838080"/>
            <a:ext cx="25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__ 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508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3276720"/>
            <a:ext cx="152280" cy="1295280"/>
          </a:xfrm>
          <a:custGeom>
            <a:avLst/>
            <a:gdLst>
              <a:gd name="textAreaLeft" fmla="*/ 0 w 152280"/>
              <a:gd name="textAreaRight" fmla="*/ 106920 w 15228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200400"/>
            <a:ext cx="152280" cy="1371600"/>
          </a:xfrm>
          <a:custGeom>
            <a:avLst/>
            <a:gdLst>
              <a:gd name="textAreaLeft" fmla="*/ 44640 w 152280"/>
              <a:gd name="textAreaRight" fmla="*/ 15264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8857800">
            <a:off x="1447200" y="3809160"/>
            <a:ext cx="4321080" cy="27464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72000" y="335232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8954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4876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1240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5105520"/>
            <a:ext cx="8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2920" y="5105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6040" y="3276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32004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3013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5760" y="3276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           y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             y         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8520" y="1066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34400" y="3200400"/>
            <a:ext cx="349236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9360" y="3276720"/>
            <a:ext cx="373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        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6240" y="3505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3640" y="914400"/>
            <a:ext cx="24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__  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508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3276720"/>
            <a:ext cx="152280" cy="1295280"/>
          </a:xfrm>
          <a:custGeom>
            <a:avLst/>
            <a:gdLst>
              <a:gd name="textAreaLeft" fmla="*/ 0 w 152280"/>
              <a:gd name="textAreaRight" fmla="*/ 106920 w 15228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3200400"/>
            <a:ext cx="152280" cy="1371600"/>
          </a:xfrm>
          <a:custGeom>
            <a:avLst/>
            <a:gdLst>
              <a:gd name="textAreaLeft" fmla="*/ 44640 w 152280"/>
              <a:gd name="textAreaRight" fmla="*/ 15264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eans:  3 and 4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tremes:  2 an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8857800">
            <a:off x="1447200" y="3809160"/>
            <a:ext cx="4321080" cy="27464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72000" y="3352320"/>
            <a:ext cx="3808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28954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4876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31240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5105520"/>
            <a:ext cx="8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2920" y="5105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4160" y="35053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1320" y="32004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013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5760" y="3276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           z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             z         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8520" y="1066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34400" y="3200400"/>
            <a:ext cx="349236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p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1" lang="en-US" sz="41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h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9360" y="3276720"/>
            <a:ext cx="373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        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6240" y="3505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3640" y="914400"/>
            <a:ext cx="246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__         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508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276720"/>
            <a:ext cx="152280" cy="1295280"/>
          </a:xfrm>
          <a:custGeom>
            <a:avLst/>
            <a:gdLst>
              <a:gd name="textAreaLeft" fmla="*/ 0 w 152280"/>
              <a:gd name="textAreaRight" fmla="*/ 106920 w 15228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3200400"/>
            <a:ext cx="152280" cy="1371600"/>
          </a:xfrm>
          <a:custGeom>
            <a:avLst/>
            <a:gdLst>
              <a:gd name="textAreaLeft" fmla="*/ 44640 w 152280"/>
              <a:gd name="textAreaRight" fmla="*/ 15264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eometric Me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 and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3124080"/>
            <a:ext cx="3808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37720" y="2971800"/>
            <a:ext cx="3049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2971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7040" y="304812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048120"/>
            <a:ext cx="38124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733920" y="2895480"/>
            <a:ext cx="3045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857640" y="30481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28954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30481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2971800"/>
            <a:ext cx="3808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6960" y="3048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4000" y="3048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5000" y="312408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69040" y="304812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76400" y="4952880"/>
            <a:ext cx="560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quare root of produ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30800" y="2209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2400" y="2209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1840" y="22860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3581280"/>
            <a:ext cx="4952880" cy="2286000"/>
          </a:xfrm>
          <a:prstGeom prst="triangle">
            <a:avLst>
              <a:gd name="adj" fmla="val 968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3581280"/>
            <a:ext cx="121932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362320" y="403776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743560" y="358056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2880" y="5638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3960" y="571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8480" y="42670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30280" y="41148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5335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            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06760" y="1905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8360" y="1905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8160" y="19810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3581280"/>
            <a:ext cx="4952880" cy="2286000"/>
          </a:xfrm>
          <a:prstGeom prst="triangle">
            <a:avLst>
              <a:gd name="adj" fmla="val 968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3581280"/>
            <a:ext cx="121932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362320" y="403776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743560" y="358056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2880" y="5638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3960" y="571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8480" y="42670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30280" y="41148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30280" y="15238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4320" y="20574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proportion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         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560" y="228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5720" y="228600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228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3080" y="2209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3080" y="2666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411480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487692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601992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411480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91320" y="48769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60199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3124080"/>
            <a:ext cx="144756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33526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49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3560" y="5029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1520" y="41148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7480" y="5105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129528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129528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97480" y="137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411480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487692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601992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19920" y="411480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48769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60199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124080"/>
            <a:ext cx="144756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3526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4960" y="403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3560" y="5029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1520" y="41148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7480" y="5105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3080" y="10666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3440" y="1676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5160" y="990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5160" y="1600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imilar polygons, the ratio of perimeters equals the 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imilar polygons, the ratio of perimeters equals th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scale f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proportion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duct of the _____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s the product of the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0948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for similar polygons/circ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2971800"/>
            <a:ext cx="7467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 Factor =  2 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meter/Circumference Ratio =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Ratio =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133720"/>
            <a:ext cx="7848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rimeter Ratio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 : 3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rea Ratio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 : 9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(2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: 3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proportion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duct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ea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duct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tr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ymbol is used for “similar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~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305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imilar polygon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sponding angles are ____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sponding sides are 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imilar polygon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sponding angles 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congru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sponding sides are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6:38:30Z</dcterms:created>
  <dc:creator>dfrankum</dc:creator>
  <dc:description/>
  <dc:language>en-US</dc:language>
  <cp:lastModifiedBy>D. Mark Frankum</cp:lastModifiedBy>
  <dcterms:modified xsi:type="dcterms:W3CDTF">2009-11-24T22:40:03Z</dcterms:modified>
  <cp:revision>86</cp:revision>
  <dc:subject/>
  <dc:title>Chapter 8</dc:title>
</cp:coreProperties>
</file>