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B10-9A46-405B-9231-1E808C05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501-3D68-4374-863D-CDC61D14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185-AB37-42C7-91EF-C394AFF8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96E-B4D4-405E-84BC-92E6BDC4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6BF-0FD4-4A68-B9E8-CCBC551F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5F3-F09D-4BAC-AFED-A1E8CB70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201-1044-4C80-B4DE-F32EA698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3FB-087E-49C6-878F-EF6576F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67A-712E-477B-B864-4FA7ACB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BEE-BEF7-4F19-9DFE-5D9BEA1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10B-812A-4D24-8B64-A87D303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14B-367C-4002-AEC1-316B89C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6490-D456-41EB-AD4D-826992B4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rveyor stands 200 feet from a building to measure its height with a 5 foot tall theodolite. The angle of elevation to the top of the building is 35 degree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all is the build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1371600"/>
            <a:ext cx="9144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518148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1371240"/>
            <a:ext cx="3504960" cy="38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7280" y="5181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8320" y="45673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1680" y="32767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0" y="5410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095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1981080"/>
            <a:ext cx="27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 35 = x/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14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95520" y="38098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33526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5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irplane flying 3500 feet above ground begins a 2 degree descent to land at an airport. How many miles from the airport is the airplane when it starts its desc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971800"/>
            <a:ext cx="4724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5486400"/>
            <a:ext cx="1595160" cy="914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5486400"/>
            <a:ext cx="2052720" cy="533520"/>
          </a:xfrm>
          <a:prstGeom prst="parallelogram">
            <a:avLst>
              <a:gd name="adj" fmla="val 9618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9718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971800"/>
            <a:ext cx="4724280" cy="281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791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51480" y="29718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791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533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500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0,288 ft or 19 m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7760" y="3733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5000" y="419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2120" y="3124080"/>
            <a:ext cx="351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7600" y="213372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/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1760" y="3124080"/>
            <a:ext cx="354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0560" y="2133720"/>
            <a:ext cx="31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0/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1760" y="3124080"/>
            <a:ext cx="35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2840" y="2209680"/>
            <a:ext cx="31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0/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760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780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= 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/cos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n)(_____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82880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=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/cos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n)(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s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tor:      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5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+ 5)(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- 1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5584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1840" y="29224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536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360" y="3276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720" y="2666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760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780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28440" y="2919240"/>
            <a:ext cx="197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 x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80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500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666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780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0560" y="2895480"/>
            <a:ext cx="210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s x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80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500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666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SOH CAH TOA”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=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 =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5720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posite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143000"/>
            <a:ext cx="300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poten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5640" y="2438280"/>
            <a:ext cx="33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jacent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3200400"/>
            <a:ext cx="300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poten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49568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posite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1600" y="5257800"/>
            <a:ext cx="33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jacent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3440" y="533520"/>
            <a:ext cx="38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2040" y="2590920"/>
            <a:ext cx="38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4680" y="4572000"/>
            <a:ext cx="354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5:13:30Z</dcterms:created>
  <dc:creator>Mark Frankum</dc:creator>
  <dc:description/>
  <dc:language>en-US</dc:language>
  <cp:lastModifiedBy>D. Mark Frankum</cp:lastModifiedBy>
  <dcterms:modified xsi:type="dcterms:W3CDTF">2009-11-24T22:40:31Z</dcterms:modified>
  <cp:revision>111</cp:revision>
  <dc:subject/>
  <dc:title>Chapter 9</dc:title>
</cp:coreProperties>
</file>