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4B9-5B77-47B3-848D-A41DBCAC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6D5-7362-4EAF-AF78-CDEC7E3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925-3682-4ED0-935E-4E1FAB9C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1FE-3AD3-40BC-84D6-CA2C6240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002-73B7-49D2-A072-D81ABA4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C85-88E0-4DF8-AC06-F43DBB1B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637-33A8-4784-ABCB-20AA6934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A4A-192A-4730-A13A-C02C0607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99D-0994-4C68-88E1-79F140D3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EDE-25F9-4B76-BDB7-790D24EB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7FD-DE51-4E2B-A5D1-A54F798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D48-969F-4231-A05F-4F23C51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ED22-8F97-4D36-B821-AB9B6D61B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rveyor stands 200 feet from a building to measure its height with a 5 foot tall theodolite. The angle of elevation to the top of the building is 35 degree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all is the build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1371600"/>
            <a:ext cx="9144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5181480"/>
            <a:ext cx="358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76520" y="1371240"/>
            <a:ext cx="3504960" cy="38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7280" y="51814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18320" y="45673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1680" y="32767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0" y="5410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0958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1981080"/>
            <a:ext cx="278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 35 = x/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14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095520" y="38098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33526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5 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irplane flying 3500 feet above ground begins a 2 degree descent to land at an airport. How many miles from the airport is the airplane when it starts its desc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7400" y="2971800"/>
            <a:ext cx="4724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5486400"/>
            <a:ext cx="1595160" cy="914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5486400"/>
            <a:ext cx="2052720" cy="533520"/>
          </a:xfrm>
          <a:prstGeom prst="parallelogram">
            <a:avLst>
              <a:gd name="adj" fmla="val 9618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2971800"/>
            <a:ext cx="0" cy="2819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971800"/>
            <a:ext cx="4724280" cy="2819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5791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51480" y="29718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5791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533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500/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100,288 ft or 19 m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27760" y="3733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5000" y="4191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2120" y="3124080"/>
            <a:ext cx="351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7600" y="2133720"/>
            <a:ext cx="26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/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1760" y="3124080"/>
            <a:ext cx="354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0560" y="2133720"/>
            <a:ext cx="314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0/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1760" y="3124080"/>
            <a:ext cx="351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3124080"/>
            <a:ext cx="3581280" cy="1905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0560" y="365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200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128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2840" y="2209680"/>
            <a:ext cx="31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0/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8640" y="4448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99840" y="4286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760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7800" y="3809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= 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/cos =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n)(_____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82880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=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/cos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n)(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s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ctor:      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5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+ 5)(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- 1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55843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1840" y="29224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536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360" y="3276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720" y="2666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99840" y="4286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760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7800" y="3809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28440" y="2919240"/>
            <a:ext cx="197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 x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80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500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6668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LETE THE RATI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819520"/>
            <a:ext cx="3886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743200"/>
            <a:ext cx="3200400" cy="160020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4038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99840" y="4286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2743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7800" y="3809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90560" y="2895480"/>
            <a:ext cx="210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s x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80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5000" y="32767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6668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SOH CAH TOA”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=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 =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5720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posite L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143000"/>
            <a:ext cx="300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poten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5640" y="2438280"/>
            <a:ext cx="339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jacent L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3200400"/>
            <a:ext cx="300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poten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49568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posite L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1600" y="5257800"/>
            <a:ext cx="339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jacent L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3440" y="533520"/>
            <a:ext cx="382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2040" y="2590920"/>
            <a:ext cx="382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4680" y="4572000"/>
            <a:ext cx="354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5:13:30Z</dcterms:created>
  <dc:creator>Mark Frankum</dc:creator>
  <dc:description/>
  <dc:language>en-US</dc:language>
  <cp:lastModifiedBy>D. Mark Frankum</cp:lastModifiedBy>
  <dcterms:modified xsi:type="dcterms:W3CDTF">2009-11-24T22:40:31Z</dcterms:modified>
  <cp:revision>111</cp:revision>
  <dc:subject/>
  <dc:title>Chapter 9</dc:title>
</cp:coreProperties>
</file>