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51D-335A-4448-A243-51D8A6D2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2CC-05E9-4E29-A797-9748974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B65-89E1-44B8-B0BA-3BAB7A96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FF2-D916-4314-8F37-6BF06570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896-9012-4CDB-A16D-AD859C43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31F-12E4-4682-8544-B1F502D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899-9825-4A14-B14B-6BD21B4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D8C-7A4D-4B48-AD03-AF242FC9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E69-3F9D-435C-9D80-18D0707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52B-98F5-4C02-AC95-6E22AC7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2DD-E762-45E9-9552-52DDEDC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D76-C5D7-4CFA-9036-3724B4C4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FD3B-2153-44A6-A274-767ACCB1F5A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1000" y="181080"/>
            <a:ext cx="6092640" cy="86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8280" y="204840"/>
            <a:ext cx="610704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" y="135000"/>
            <a:ext cx="6592680" cy="85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8120" y="419040"/>
            <a:ext cx="5940360" cy="82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385920"/>
            <a:ext cx="5881680" cy="82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9:35:38Z</dcterms:created>
  <dc:creator>AMAR</dc:creator>
  <dc:description/>
  <dc:language>en-US</dc:language>
  <cp:lastModifiedBy>CJ</cp:lastModifiedBy>
  <dcterms:modified xsi:type="dcterms:W3CDTF">2007-01-20T20:57:54Z</dcterms:modified>
  <cp:revision>6</cp:revision>
  <dc:subject/>
  <dc:title>Diapositive 1</dc:title>
</cp:coreProperties>
</file>