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2EE-ACF1-4DE0-B3C3-9D952B74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59B-5A19-45A5-8795-EC0B424C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28F-610A-4108-8E3E-FAB5882B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4CF-07AC-46A6-9B06-29464D2D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BAC-101A-4767-83DA-0E2CC401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6D8-3F58-4908-9DE5-72CFBCA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DE3-1AEE-4CCB-9CB6-6CCAEA92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17F-9E8E-4780-BDD9-49CB264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CBF-0011-41DC-95D6-4BC86A6A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31E-A95C-4516-9480-AF1CF3B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5E7-85C3-4A6B-907A-7BA991D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9EB-3DAF-4218-90F7-2AB08DE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DE1-C2D6-4552-9706-0849ABAEC3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1000" y="181080"/>
            <a:ext cx="6092640" cy="86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8280" y="204840"/>
            <a:ext cx="610704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" y="135000"/>
            <a:ext cx="6592680" cy="85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120" y="419040"/>
            <a:ext cx="5940360" cy="82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385920"/>
            <a:ext cx="5881680" cy="82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9:35:38Z</dcterms:created>
  <dc:creator>AMAR</dc:creator>
  <dc:description/>
  <dc:language>en-US</dc:language>
  <cp:lastModifiedBy>CJ</cp:lastModifiedBy>
  <dcterms:modified xsi:type="dcterms:W3CDTF">2007-01-20T20:57:54Z</dcterms:modified>
  <cp:revision>6</cp:revision>
  <dc:subject/>
  <dc:title>Diapositive 1</dc:title>
</cp:coreProperties>
</file>