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7F6-250C-4205-823B-E0AFFD56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72C-16A2-4F50-AEC3-41AC4EA8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1D1-079A-4764-9C38-079BD25F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CDD-9810-4361-9369-D8502093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D80-7E3D-41D7-9D2B-C0815BDE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FE3-8130-46ED-A1FE-60FC66D4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483-B5E9-48D8-963F-69A025C8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EBE-AB6B-40AA-9096-2BC3E284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A45-2ED7-487C-BAF7-DDC403FF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4A2-8E8B-41AB-8BF5-C574B52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E6F-D8C1-4DC1-9FB7-23B38B1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35F-8CB4-40C6-8148-48FB614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17CF-48E4-44D1-B73C-8C188E6B00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1000" y="181080"/>
            <a:ext cx="6092640" cy="86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8280" y="204840"/>
            <a:ext cx="610704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" y="135000"/>
            <a:ext cx="6592680" cy="85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8120" y="419040"/>
            <a:ext cx="5940360" cy="82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385920"/>
            <a:ext cx="5881680" cy="82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9:35:38Z</dcterms:created>
  <dc:creator>AMAR</dc:creator>
  <dc:description/>
  <dc:language>en-US</dc:language>
  <cp:lastModifiedBy>CJ</cp:lastModifiedBy>
  <dcterms:modified xsi:type="dcterms:W3CDTF">2007-01-20T20:57:54Z</dcterms:modified>
  <cp:revision>6</cp:revision>
  <dc:subject/>
  <dc:title>Diapositive 1</dc:title>
</cp:coreProperties>
</file>