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AF55-85DD-4EE4-B1B0-04F092454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DD66-4DD0-4A1C-8EA8-6AF9922F8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AA46-E97F-4730-B50F-1B1601F85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D718-E030-44BC-9588-29A6CD2BB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BE4F-62E9-4430-85A4-472A902D8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3572-9BB9-4B66-9F26-6E3B0E297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4CD5-47F4-4E71-AAC6-7F6C8732D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875D-6296-402D-AABF-71F62A6E0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97FB-9628-44FB-AFBD-DCD079CA5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33AA-08F8-4045-B8CF-D2DA701E6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2CD5-EB99-4454-9CC9-2D907842D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4D97-21D7-49AB-8C81-ABAAB5FED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FBC5B-035A-4198-9751-F34DB334D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F56A1-C1DD-4CBA-8A93-1605AD7B627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77BCB-8F30-4100-98CA-D939D46B258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1BF56-8E20-47A7-ABBA-874A8DBB784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40D36-C0A8-40C8-9457-28A7EAD4D6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209E6-25A7-44D3-887C-54D354A059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B74EE-856A-4D84-AE85-1D434F697A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9D67F-96F5-4BF1-8670-5DCD9435606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3A27C-EE8F-4F54-AD83-3E33DD0366D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4DFF2-844E-4A08-A8F6-0FF00BA38FA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710D5-1116-445E-BA6B-3BE392BC22F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0A92E-8B52-41D9-92B2-34D4CBCF384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E196-A5A3-426A-A88F-8C6F8901FE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838080" y="0"/>
            <a:ext cx="74678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bnormal Psychology in a Changing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VENTH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effrey S. Nevid / Spencer A. Rathus / Beverly Gre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5" descr="nevid_7e_COVER"/>
          <p:cNvPicPr/>
          <p:nvPr/>
        </p:nvPicPr>
        <p:blipFill>
          <a:blip r:embed="rId2"/>
          <a:stretch/>
        </p:blipFill>
        <p:spPr>
          <a:xfrm>
            <a:off x="609480" y="2286000"/>
            <a:ext cx="3587760" cy="4233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ph_logo"/>
          <p:cNvPicPr/>
          <p:nvPr/>
        </p:nvPicPr>
        <p:blipFill>
          <a:blip r:embed="rId3"/>
          <a:stretch/>
        </p:blipFill>
        <p:spPr>
          <a:xfrm>
            <a:off x="8477280" y="6354720"/>
            <a:ext cx="666720" cy="503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4800600" y="6381360"/>
            <a:ext cx="3733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behavenet.com/capsules/disorders/mjrdepep.htm" TargetMode="External"/><Relationship Id="rId2" Type="http://schemas.openxmlformats.org/officeDocument/2006/relationships/hyperlink" Target="http://www.behavenet.com/capsules/disorders/manicep.htm" TargetMode="External"/><Relationship Id="rId3" Type="http://schemas.openxmlformats.org/officeDocument/2006/relationships/hyperlink" Target="http://www.behavenet.com/capsules/disorders/mixedep.htm" TargetMode="External"/><Relationship Id="rId4" Type="http://schemas.openxmlformats.org/officeDocument/2006/relationships/hyperlink" Target="http://www.behavenet.com/capsules/disorders/mood.htm" TargetMode="External"/><Relationship Id="rId5" Type="http://schemas.openxmlformats.org/officeDocument/2006/relationships/hyperlink" Target="http://www.behavenet.com/capsules/disorders/symptoms.htm" TargetMode="External"/><Relationship Id="rId6" Type="http://schemas.openxmlformats.org/officeDocument/2006/relationships/hyperlink" Target="http://www.behavenet.com/capsules/treatments/drugs/drug.htm" TargetMode="External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723920" y="2590920"/>
            <a:ext cx="39625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12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(Pp 422-426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chizophrenia and Other Psychotic Disorder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de Effects of Antipsychotic Drug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7" name="TextBox 4"/>
          <p:cNvSpPr/>
          <p:nvPr/>
        </p:nvSpPr>
        <p:spPr>
          <a:xfrm>
            <a:off x="609480" y="148284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ardive dyskinesia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TD) - A disorder characterized by involuntary movements of the face, mouth, neck, trunk, or extremities and caused by long-term use of antipsychotic med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suedoparkinson’s symptoms: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and tremors, shuffling of the feet, and face tremo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itle 1"/>
          <p:cNvSpPr/>
          <p:nvPr/>
        </p:nvSpPr>
        <p:spPr>
          <a:xfrm>
            <a:off x="685800" y="228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nal Notes on Antipsychotic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4"/>
          <p:cNvSpPr/>
          <p:nvPr/>
        </p:nvSpPr>
        <p:spPr>
          <a:xfrm>
            <a:off x="609480" y="143208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tipsychotic medication helped control the more flagrant behavior patterns of schizophrenia and reduced the need for long-term hospitalization when taken on a maintenance or continuing basis after an acute epis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Yet for many patients with chronic schizophrenia, entering a hospital is like going through a revolving door: they are repeatedly admitted and dischar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ny are simply discharged to the streets once they are stabilized on medication and receive little if any follow-up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ociocultural Factors in Treatmen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1" name="TextBox 4"/>
          <p:cNvSpPr/>
          <p:nvPr/>
        </p:nvSpPr>
        <p:spPr>
          <a:xfrm>
            <a:off x="609480" y="1073160"/>
            <a:ext cx="8534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thnicity may also play a role in the family’s involvement in treat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a study of 26 Asian Americans and 26 non-Hispanic White Americans with schizophrenia, family members of the Asian American patients were more frequently involved in the treatment pro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example, family members were more likely to accompany the Asian American patients to their medication evaluation s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sychodynamic Therapy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TextBox 4"/>
          <p:cNvSpPr/>
          <p:nvPr/>
        </p:nvSpPr>
        <p:spPr>
          <a:xfrm>
            <a:off x="609480" y="1073160"/>
            <a:ext cx="8534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reud did not believe that traditional psychoanalysis was well suited to the treatment of schizophren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withdrawal into a fantasy world that typifies schizophrenia prevents the individual with schizophrenia from forming a meaningful relationship with the psychoanaly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techniques of classical psychoanalysis, Freud wrote, must “be replaced by others; and we do not know yet whether we shall succeed in finding a substitut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Learning-Based Therapie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5" name="TextBox 4"/>
          <p:cNvSpPr/>
          <p:nvPr/>
        </p:nvSpPr>
        <p:spPr>
          <a:xfrm>
            <a:off x="609480" y="1136520"/>
            <a:ext cx="8534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rapy methods include the following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Selective reinforcement of behavio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such as providing attention for appropriate behavior and extinguishing bizarre verbalizations through withdrawal of attention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Token econom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in which individuals on inpatient units are rewarded for appropriate behavior with tokens, such as plastic chips, that can be exchanged for tangible reinforcers such as desirable goods or privile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3.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Social skills training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in which clients are taught conversational skills and other appropriate social behaviors through coaching, modeling, behavior rehearsal, and feed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sychosocial Rehabilitation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7" name="TextBox 4"/>
          <p:cNvSpPr/>
          <p:nvPr/>
        </p:nvSpPr>
        <p:spPr>
          <a:xfrm>
            <a:off x="609480" y="146988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eople with schizophrenia typically have difficulties functioning in social and occupational roles and performing work that depends upon basic cognitive abilities involving attention and memo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se problems limit their ability to adjust to community life, even in the absence of overt psychotic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cently, promising results were reported for cognitive rehabilitation training to help schizophrenia patients strengthen such basic cognitive skills as attention and mem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amily Intervention Program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TextBox 4"/>
          <p:cNvSpPr/>
          <p:nvPr/>
        </p:nvSpPr>
        <p:spPr>
          <a:xfrm>
            <a:off x="609480" y="1393920"/>
            <a:ext cx="8534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amily conflicts and negative family interactions can heap stress on family members with schizophrenia, increasing the risk of recurrent episo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searchers and clinicians have worked with families of people with schizophrenia to help them cope with the burdens of care and assist them in developing more cooperative, less-confrontational ways of relating to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sum, no single treatment approach meets all the needs of people with schizophre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entury Gothic"/>
              </a:rPr>
              <a:t>OTHER FORMS OF PSYCHOSIS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Century Gothic"/>
              </a:rPr>
              <a:t>Brief Psychotic Disorder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psychotic disorder lasting from a day to a month and is characterized by at least one of the following features: delusions, disorganized speech, disorganized behavior or catatonic behavi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ften follows exposure to a major stresso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Century Gothic"/>
              </a:rPr>
              <a:t>Schizophreniform Disorder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psychotic disorder lasting less than 6 months in duration, with features that resemble schizophreni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Century Gothic"/>
              </a:rPr>
              <a:t>Treatment Approaches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Century Gothic"/>
              </a:rPr>
              <a:t>Delusional Disorder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relatively uncommon psychotic disorder characterized by persistent, clearly delusional beliefs, often involving paranoid them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6476760" cy="5978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Century Gothic"/>
              </a:rPr>
              <a:t>Schizoaffective Disorder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type of psychotic disorder in which individuals experience both severe mood disturbance and features associated with schizophreni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Diagnostic Criteria for Schizoaffective Disorder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1" name="TextBox 4"/>
          <p:cNvSpPr/>
          <p:nvPr/>
        </p:nvSpPr>
        <p:spPr>
          <a:xfrm>
            <a:off x="609480" y="1092240"/>
            <a:ext cx="853452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. An uninterrupted period of illness during which, at some time, there is either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Major Depressive Episod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,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Manic Episod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, or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eorgia"/>
                <a:hlinkClick r:id="rId3"/>
              </a:rPr>
              <a:t>Mixed Episod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 concurrent with symptoms that meet Criterion A for Schizophrenia.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. During the same period of illness, there have been delusions or hallucinations for at least 2 weeks in the absence of prominen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eorgia"/>
                <a:hlinkClick r:id="rId4"/>
              </a:rPr>
              <a:t>moo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eorgia"/>
                <a:hlinkClick r:id="rId5"/>
              </a:rPr>
              <a:t>symptom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. Symptoms that meet criteria for a mood episode are present for a substantial portion of the total duration of the active and residual periods of the illnes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. The disturbance is not due to the direct physiological effects of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eorgia"/>
                <a:hlinkClick r:id="rId6"/>
              </a:rPr>
              <a:t>substanc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 (e.g., a drug of abuse, a medication) or a general medical condition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 Beautiful Mind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3" name="TextBox 4"/>
          <p:cNvSpPr/>
          <p:nvPr/>
        </p:nvSpPr>
        <p:spPr>
          <a:xfrm>
            <a:off x="609480" y="5457960"/>
            <a:ext cx="85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 the movie A Beautiful Mind, Russell Crowe portrayed Nobel Prize winner John Nash (shown here), a brilliant mathematician whose mind captured the beautiful intricacies of mathematical formulations but was also twisted by the delusions and hallucinations of schizophre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124080" y="762120"/>
            <a:ext cx="3359160" cy="468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The End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iological Approache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advent in the 1950’s of antipsychotic drugs (also referred to as tranquilizers or neuroleptics) revolutionized the treatment of schizophren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Century Gothic"/>
              </a:rPr>
              <a:t>TRUTH or FICTION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e now have drugs that not only treat schizophrenia but also can cure it in many cases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68580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How Antipsychotics (Neuroleptics) Work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5979960"/>
            <a:ext cx="83120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ntipsychotic drugs work by blocking receptor sites for dopamine, thus redu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e effects of dopamine in regions of the brain – antagonist for dop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ow Antipsychotics (Neuroleptics) Work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search suggests that in order for antipsychotic drugs to be effective a blockade of 65% of D2 neurons are needed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y drug that blocks more than 70% of D2 neurons cause an increased risk of side effects – Psychiatrists have to experiment with the dosage for each patient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ntipsychotic Medication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wo classes of antipsychotic medications: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ypical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older) and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typical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newer) medica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Typical antipsychotics work only on Type I (positive) symptoms of schizophrenia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typical antipsychotics work better with Type I symptoms, but also have some benefits for Type II (negative) symptom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ypical vs. Atyp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ntipsychotic Medication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ypical antipsychotic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work on both D1 and D2 producing neurons, thus have more side effects – some of which are permanent –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dirty dru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typical antipsychotic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drugs work either exclusively on D2 neurons; some of the newer atypical drugs work also on blocking the reuptake of serotonin, thus give some relief to the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negative symptom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schizophrenia.  Less side effect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5105520" y="6248520"/>
            <a:ext cx="396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ble 15.7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ckenbury: Psychology, Fourth Edition</a:t>
            </a:r>
            <a:br>
              <a:rPr sz="10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5 by Worth Publish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981080" y="76320"/>
            <a:ext cx="5194440" cy="6095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01:16:07Z</dcterms:created>
  <dc:creator> </dc:creator>
  <dc:description/>
  <dc:language>en-US</dc:language>
  <cp:lastModifiedBy>D. Mark Frankum</cp:lastModifiedBy>
  <dcterms:modified xsi:type="dcterms:W3CDTF">2011-03-30T17:58:40Z</dcterms:modified>
  <cp:revision>118</cp:revision>
  <dc:subject/>
  <dc:title>Slide 1</dc:title>
</cp:coreProperties>
</file>