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FE83-BDC3-4403-9DC6-438EBD850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DB26-8E54-4AD2-9FA2-A04FC9980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BBEC-E543-4BD0-B8FB-F1AF5862B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4AD0-686D-402C-A072-EFBD0034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21F0-C296-4B6F-BFE7-4A520392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03FF-CA06-4ED1-A7FE-0C83D522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DCC2-1FD8-4B32-8C78-CD4068A34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6EED-8E5C-427B-9199-6A49A02CA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ABE-23AD-4AEB-86DC-E9772767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D0F3-C537-4C94-9B5E-55F953611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2928-97B1-43D7-9FE3-8C1E6BBC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D748-FCC0-4F2E-B395-D3768DE16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181E-22B5-44A7-8D9B-6E5F55932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5B78-8D17-43E4-834A-20FE57BA0B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3F51-918D-41EF-A4CE-BDF51BF190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DE71-74AC-4AF9-8CF7-4BD0B5E2C2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03C6-DB82-412D-9C22-9E5179BC8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388B-BC16-4851-AE1F-02A7B596F2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EA5D-BABC-44DA-80AA-B1E19FFB9E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42F1-EC4B-4DBF-B129-98BAC2F2FE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1804-DAB4-4D35-AE27-D6FEC84816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AA9A-3390-4C6D-96A1-55B12F39E5F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6098-B3C5-456A-997B-745DF359416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E3ED-A5F1-451B-9C6B-137B59B12B8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267080"/>
            <a:ext cx="8305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2080" y="160020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42080" y="4267080"/>
            <a:ext cx="4053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9452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02880" y="160020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9452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02880" y="4267080"/>
            <a:ext cx="2674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D7FF-B7BD-46B0-8701-3B9FA9D92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838080" y="0"/>
            <a:ext cx="74678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bnormal Psychology in a Changing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effrey S. Nevid / Spencer A. Rathus / Beverly Gre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vid_7e_COVER"/>
          <p:cNvPicPr/>
          <p:nvPr/>
        </p:nvPicPr>
        <p:blipFill>
          <a:blip r:embed="rId2"/>
          <a:stretch/>
        </p:blipFill>
        <p:spPr>
          <a:xfrm>
            <a:off x="609480" y="2286000"/>
            <a:ext cx="3587760" cy="42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ph_logo"/>
          <p:cNvPicPr/>
          <p:nvPr/>
        </p:nvPicPr>
        <p:blipFill>
          <a:blip r:embed="rId3"/>
          <a:stretch/>
        </p:blipFill>
        <p:spPr>
          <a:xfrm>
            <a:off x="8477280" y="6354720"/>
            <a:ext cx="666720" cy="50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800600" y="638136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nevid_7e_spine"/>
          <p:cNvPicPr/>
          <p:nvPr/>
        </p:nvPicPr>
        <p:blipFill>
          <a:blip r:embed="rId2"/>
          <a:stretch/>
        </p:blipFill>
        <p:spPr>
          <a:xfrm>
            <a:off x="0" y="0"/>
            <a:ext cx="555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ehavenet.com/capsules/disorders/mjrdepep.htm" TargetMode="External"/><Relationship Id="rId2" Type="http://schemas.openxmlformats.org/officeDocument/2006/relationships/hyperlink" Target="http://www.behavenet.com/capsules/disorders/manicep.htm" TargetMode="External"/><Relationship Id="rId3" Type="http://schemas.openxmlformats.org/officeDocument/2006/relationships/hyperlink" Target="http://www.behavenet.com/capsules/disorders/mixedep.htm" TargetMode="External"/><Relationship Id="rId4" Type="http://schemas.openxmlformats.org/officeDocument/2006/relationships/hyperlink" Target="http://www.behavenet.com/capsules/disorders/mood.htm" TargetMode="External"/><Relationship Id="rId5" Type="http://schemas.openxmlformats.org/officeDocument/2006/relationships/hyperlink" Target="http://www.behavenet.com/capsules/disorders/symptoms.htm" TargetMode="External"/><Relationship Id="rId6" Type="http://schemas.openxmlformats.org/officeDocument/2006/relationships/hyperlink" Target="http://www.behavenet.com/capsules/treatments/drugs/drug.htm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723920" y="2590920"/>
            <a:ext cx="3962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Pp 422-426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chizophrenia and Other Psychotic Disorde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de Effects of Antipsychotic Drug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09480" y="148284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ardive dyskinesia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TD) - A disorder characterized by involuntary movements of the face, mouth, neck, trunk, or extremities and caused by long-term use of antipsychotic me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suedoparkinson’s symptoms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nd tremors, shuffling of the feet, and face trem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itle 1"/>
          <p:cNvSpPr/>
          <p:nvPr/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nal Notes on Antipsychot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609480" y="14320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tipsychotic medication helped control the more flagrant behavior patterns of schizophrenia and reduced the need for long-term hospitalization when taken on a maintenance or continuing basis after an acute epis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et for many patients with chronic schizophrenia, entering a hospital is like going through a revolving door: they are repeatedly admitted and discha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are simply discharged to the streets once they are stabilized on medication and receive little if any follow-up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ociocultural Factors in Treatmen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609480" y="107316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thnicity may also play a role in the family’s involvement in trea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a study of 26 Asian Americans and 26 non-Hispanic White Americans with schizophrenia, family members of the Asian American patients were more frequently involved in the treatment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example, family members were more likely to accompany the Asian American patients to their medication evaluation s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sychodynamic Therap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609480" y="107316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reud did not believe that traditional psychoanalysis was well suited to the treatment of schizophre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ithdrawal into a fantasy world that typifies schizophrenia prevents the individual with schizophrenia from forming a meaningful relationship with the psychoanaly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echniques of classical psychoanalysis, Freud wrote, must “be replaced by others; and we do not know yet whether we shall succeed in finding a substitut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earning-Based Therapi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609480" y="113652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apy methods include the following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elective reinforcement of behavi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such as providing attention for appropriate behavior and extinguishing bizarre verbalizations through withdrawal of attentio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Token econom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in which individuals on inpatient units are rewarded for appropriate behavior with tokens, such as plastic chips, that can be exchanged for tangible reinforcers such as desirable goods or privile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Social skills traini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in which clients are taught conversational skills and other appropriate social behaviors through coaching, modeling, behavior rehearsal, and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sychosocial Rehabilitation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609480" y="14698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ople with schizophrenia typically have difficulties functioning in social and occupational roles and performing work that depends upon basic cognitive abilities involving attention and mem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se problems limit their ability to adjust to community life, even in the absence of overt psychotic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ently, promising results were reported for cognitive rehabilitation training to help schizophrenia patients strengthen such basic cognitive skills as attention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amily Intervention Program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TextBox 4"/>
          <p:cNvSpPr/>
          <p:nvPr/>
        </p:nvSpPr>
        <p:spPr>
          <a:xfrm>
            <a:off x="609480" y="139392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mily conflicts and negative family interactions can heap stress on family members with schizophrenia, increasing the risk of recurrent episo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earchers and clinicians have worked with families of people with schizophrenia to help them cope with the burdens of care and assist them in developing more cooperative, less-confrontational ways of relating to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sum, no single treatment approach meets all the needs of people with schizophr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OTHER FORMS OF PSYCHOSI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Brief Psychotic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psychotic disorder lasting from a day to a month and is characterized by at least one of the following features: delusions, disorganized speech, disorganized behavior or catatonic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ten follows exposure to a major stresso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Schizophreniform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psychotic disorder lasting less than 6 months in duration, with features that resemble schizophren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Treatment Approache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Delusional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relatively uncommon psychotic disorder characterized by persistent, clearly delusional beliefs, often involving paranoid them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6476760" cy="597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Century Gothic"/>
              </a:rPr>
              <a:t>Schizoaffective Disorder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type of psychotic disorder in which individuals experience both severe mood disturbance and features associated with schizophren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iagnostic Criteria for Schizoaffective Disorder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609480" y="1092240"/>
            <a:ext cx="853452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. An uninterrupted period of illness during which, at some time, there is either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Major Depressive Episo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,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Manic Episo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, or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Mixed Episod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concurrent with symptoms that meet Criterion A for Schizophrenia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. During the same period of illness, there have been delusions or hallucinations for at least 2 weeks in the absence of prominen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4"/>
              </a:rPr>
              <a:t>moo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5"/>
              </a:rPr>
              <a:t>symptom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. Symptoms that meet criteria for a mood episode are present for a substantial portion of the total duration of the active and residual periods of the illnes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. The disturbance is not due to the direct physiological effects of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6"/>
              </a:rPr>
              <a:t>substan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 (e.g., a drug of abuse, a medication) or a general medical condition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 Beautiful Mind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609480" y="545796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the movie A Beautiful Mind, Russell Crowe portrayed Nobel Prize winner John Nash (shown here), a brilliant mathematician whose mind captured the beautiful intricacies of mathematical formulations but was also twisted by the delusions and hallucinations of schizophr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3359160" cy="46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he End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iological Approach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dvent in the 1950’s of antipsychotic drugs (also referred to as tranquilizers or neuroleptics) revolutionized the treatment of schizophren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Century Gothic"/>
              </a:rPr>
              <a:t>TRUTH or FICTION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now have drugs that not only treat schizophrenia but also can cure it in many cas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685800" y="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Antipsychotics (Neuroleptics) Work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5979960"/>
            <a:ext cx="83120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ntipsychotic drugs work by blocking receptor sites for dopamine, thus redu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effects of dopamine in regions of the brain – antagonist for dop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ow Antipsychotics (Neuroleptics) Work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earch suggests that in order for antipsychotic drugs to be effective a blockade of 65% of D2 neurons are needed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y drug that blocks more than 70% of D2 neurons cause an increased risk of side effects – Psychiatrists have to experiment with the dosage for each patien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tipsychotic Medication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classes of antipsychotic medications: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ypic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older)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ypic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newer) med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ypical antipsychotics work only on Type I (positive) symptoms of schizophrenia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ypical antipsychotics work better with Type I symptoms, but also have some benefits for Type II (negative) sympto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ypical vs. Atyp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tipsychotic Medication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ypical antipsychotic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ork on both D1 and D2 producing neurons, thus have more side effects – some of which are permanent –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dirty dru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typical antipsychoti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rugs work either exclusively on D2 neurons; some of the newer atypical drugs work also on blocking the reuptake of serotonin, thus give some relief to th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negative sympto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chizophrenia.  Less side effec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105520" y="6248520"/>
            <a:ext cx="39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ble 15.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ckenbury: Psychology, Fourth Edition</a:t>
            </a: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5 by Worth Publish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5194440" cy="6095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1:16:07Z</dcterms:created>
  <dc:creator> </dc:creator>
  <dc:description/>
  <dc:language>en-US</dc:language>
  <cp:lastModifiedBy>D. Mark Frankum</cp:lastModifiedBy>
  <dcterms:modified xsi:type="dcterms:W3CDTF">2011-03-30T17:58:40Z</dcterms:modified>
  <cp:revision>118</cp:revision>
  <dc:subject/>
  <dc:title>Slide 1</dc:title>
</cp:coreProperties>
</file>