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7F8D3-57BA-48B3-A9C6-6AE8638FE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2D420-DE2E-4861-AD62-60CEBD761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5CCD2-7ACC-4A81-A462-7C4D52ACA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6099B-4840-400B-B99E-50080A096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92743-A95A-497A-9372-46C0A3A6C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E1881-96D0-4D22-A6F3-2C65FCB5F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793C2-9E7E-4704-ADE3-8BD14E5C4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58F1E-F0F5-4DD3-8C73-D4A05435D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C4684-FE6D-4D52-8A87-8FA4F7411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453C0-C51B-4D4F-A6A0-AD2862B32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D6E7B-2E09-4B89-8B4D-69BB29B40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60B42-9602-4535-8312-52F0A067F6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65865-7CD2-49D5-A792-524E1EA0CB4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35A04-8A8F-4488-A17B-3737FAAAFE4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2F398-925A-41F9-90C3-0C252EC719B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20783-FD29-401D-B2AA-6765BC8CE7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E1741-1A90-4C2F-92BA-81C0FDEB0C6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0FBCE-4132-4289-879F-33876DB9BAA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71E89-9BA8-447C-B16E-98ECFC9C636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3E226-D902-438E-8379-608B1F7531F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5F182-42E1-4D49-BCE6-0B7916324B6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63DE2-FB5A-48DB-817A-A042D74D13C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015FB-DE8F-4234-9859-4AD08CA848C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297AD-7E93-42A7-8D3A-864677507F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4"/>
          <p:cNvSpPr/>
          <p:nvPr/>
        </p:nvSpPr>
        <p:spPr>
          <a:xfrm>
            <a:off x="838080" y="0"/>
            <a:ext cx="746784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Abnormal Psychology in a Changing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EVENTH E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Jeffrey S. Nevid / Spencer A. Rathus / Beverly Gre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5" descr="nevid_7e_COVER"/>
          <p:cNvPicPr/>
          <p:nvPr/>
        </p:nvPicPr>
        <p:blipFill>
          <a:blip r:embed="rId2"/>
          <a:stretch/>
        </p:blipFill>
        <p:spPr>
          <a:xfrm>
            <a:off x="609480" y="2286000"/>
            <a:ext cx="3587760" cy="4233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ph_logo"/>
          <p:cNvPicPr/>
          <p:nvPr/>
        </p:nvPicPr>
        <p:blipFill>
          <a:blip r:embed="rId3"/>
          <a:stretch/>
        </p:blipFill>
        <p:spPr>
          <a:xfrm>
            <a:off x="8477280" y="6354720"/>
            <a:ext cx="666720" cy="503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4800600" y="6381360"/>
            <a:ext cx="3733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723920" y="2590920"/>
            <a:ext cx="396252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hapter 2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(Pp 60-67)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entury Gothic"/>
              </a:rPr>
              <a:t>Contemporary Perspectives on Abnormal Behavior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Century Gothic"/>
              </a:rPr>
              <a:t>Evaluating the Sociocultural Perspective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2" name="TextBox 7"/>
          <p:cNvSpPr/>
          <p:nvPr/>
        </p:nvSpPr>
        <p:spPr>
          <a:xfrm>
            <a:off x="685800" y="1724040"/>
            <a:ext cx="83059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Social causation model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- The belief that social stressors, such as poverty, account for the greater risk of severe  psychological disorders among people of lower socioeconomic statu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Downward drift hypothesis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- The theory that explains the linkage between low socioeconomic status and behavior problems by suggesting that problem behaviors lead people to drift downward in social statu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entury Gothic"/>
              </a:rPr>
              <a:t>THE BIOPSYCHOSOCIAL PERSPECTIVE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4" name="TextBox 7"/>
          <p:cNvSpPr/>
          <p:nvPr/>
        </p:nvSpPr>
        <p:spPr>
          <a:xfrm>
            <a:off x="685800" y="1481040"/>
            <a:ext cx="83059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The biopsychosocial perspective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examines the contributions of multiple factors representing biological, psychological, and sociocultural domains, as well as their interactions, in the development psychological disord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Even disorders that are primarily biological may be influenced by psychological factors, or vice-vers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For example, some phobias may be learned behaviors that are acquired through experiences in which particular objects became associated with traumatic or painful experienc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itle 1"/>
          <p:cNvSpPr/>
          <p:nvPr/>
        </p:nvSpPr>
        <p:spPr>
          <a:xfrm>
            <a:off x="6094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HE BIOPSYCHOSOCIAL MODE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OF BULIM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7"/>
          <p:cNvSpPr/>
          <p:nvPr/>
        </p:nvSpPr>
        <p:spPr>
          <a:xfrm>
            <a:off x="685800" y="1481040"/>
            <a:ext cx="8305920" cy="38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Biological Fac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Gene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Irregularities in neurotransmit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Psychological Fac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Body dissatisf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Cognitive distortions (perfectionis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Emotional/interpersonal iss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Sociocultural Fac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Social pressures to be th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4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4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4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4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Century Gothic"/>
              </a:rPr>
              <a:t>The Diathesis–Stress Mod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8" name="TextBox 7"/>
          <p:cNvSpPr/>
          <p:nvPr/>
        </p:nvSpPr>
        <p:spPr>
          <a:xfrm>
            <a:off x="685800" y="1298520"/>
            <a:ext cx="83059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Diathesis–stress model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- A model that posits that abnormal behavior problems involve the interaction of a vulnerability or predisposition and stressful life events or experienc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Diathesis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- A vulnerability or predisposition to a particular disord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In some cases, people with a diathesis for a particular disorder, say schizophrenia, will remain free of the disorder or will develop a milder form of the disorder if the level of stress in their lives remains low or if they develop effective coping responses for handling the stress they encoun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he Diathesis–Stress Mod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00" name="Picture 5" descr="fig02"/>
          <p:cNvPicPr/>
          <p:nvPr/>
        </p:nvPicPr>
        <p:blipFill>
          <a:blip r:embed="rId1"/>
          <a:stretch/>
        </p:blipFill>
        <p:spPr>
          <a:xfrm>
            <a:off x="762120" y="1600200"/>
            <a:ext cx="8153280" cy="2690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4" descr="tab02"/>
          <p:cNvPicPr/>
          <p:nvPr/>
        </p:nvPicPr>
        <p:blipFill>
          <a:blip r:embed="rId1"/>
          <a:stretch/>
        </p:blipFill>
        <p:spPr>
          <a:xfrm>
            <a:off x="1066680" y="228600"/>
            <a:ext cx="7543800" cy="6237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AutoShape 6"/>
          <p:cNvSpPr/>
          <p:nvPr/>
        </p:nvSpPr>
        <p:spPr>
          <a:xfrm>
            <a:off x="5572080" y="1905120"/>
            <a:ext cx="2057400" cy="1143000"/>
          </a:xfrm>
          <a:prstGeom prst="wedgeEllipseCallout">
            <a:avLst>
              <a:gd name="adj1" fmla="val -47222"/>
              <a:gd name="adj2" fmla="val 606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7"/>
          <p:cNvSpPr/>
          <p:nvPr/>
        </p:nvSpPr>
        <p:spPr>
          <a:xfrm>
            <a:off x="6078960" y="231444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5" descr=""/>
          <p:cNvPicPr/>
          <p:nvPr/>
        </p:nvPicPr>
        <p:blipFill>
          <a:blip r:embed="rId1"/>
          <a:stretch/>
        </p:blipFill>
        <p:spPr>
          <a:xfrm>
            <a:off x="3276720" y="2647800"/>
            <a:ext cx="2276280" cy="3017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30477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Century Gothic"/>
              </a:rPr>
              <a:t>THE SOCIOCULTURAL PERSPECTIVE</a:t>
            </a:r>
            <a:endParaRPr b="1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Century Gothic"/>
              </a:rPr>
              <a:t>Ethnicity and Mental Health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2" name="TextBox 7"/>
          <p:cNvSpPr/>
          <p:nvPr/>
        </p:nvSpPr>
        <p:spPr>
          <a:xfrm>
            <a:off x="685800" y="1389240"/>
            <a:ext cx="83059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A recent analysis of ethnic group differences in rates of mental disorders revealed an interesting patter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Using data from a nationally representative sample of adult Americans, investigators found that traditionally disadvantaged groups (non-Hispanic Black Americans and Hispanic Americans) had either significantly lower rates of psychological disorders or comparable rates, as compared to European Americans (non-Hispanic White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Ethnicity and psychological disorders in the United States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84" name="Picture 5" descr="image2"/>
          <p:cNvPicPr/>
          <p:nvPr/>
        </p:nvPicPr>
        <p:blipFill>
          <a:blip r:embed="rId1"/>
          <a:stretch/>
        </p:blipFill>
        <p:spPr>
          <a:xfrm>
            <a:off x="1143000" y="1219320"/>
            <a:ext cx="7391520" cy="5268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itle 1"/>
          <p:cNvSpPr/>
          <p:nvPr/>
        </p:nvSpPr>
        <p:spPr>
          <a:xfrm>
            <a:off x="685800" y="304920"/>
            <a:ext cx="8305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Ethnicity and psychological disorders in the United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5" descr="image1"/>
          <p:cNvPicPr/>
          <p:nvPr/>
        </p:nvPicPr>
        <p:blipFill>
          <a:blip r:embed="rId1"/>
          <a:stretch/>
        </p:blipFill>
        <p:spPr>
          <a:xfrm>
            <a:off x="1143000" y="1219320"/>
            <a:ext cx="7391520" cy="5283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83059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Georgia"/>
              </a:rPr>
              <a:t>Cultural Relativism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view that abnormal behaviors can only be understood within the cultural framework within which they occur (though universal components still exist across cultures)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*Culture and Psychology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685800" y="304920"/>
            <a:ext cx="830592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Georgia"/>
              </a:rPr>
              <a:t>Culture Bound Syndromes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Disorders that appear to occur only in specific cultural mili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*Culture and Psych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/>
          </p:nvPr>
        </p:nvSpPr>
        <p:spPr>
          <a:xfrm>
            <a:off x="762120" y="304920"/>
            <a:ext cx="807696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3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Georgia"/>
              </a:rPr>
              <a:t>Culture Bound Syndromes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1.  Sinbyong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. Algonquin Indians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2.  Amok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b. Latin America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3.  Witiko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. Ethiopian immigrant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4.  Anorexia nervosa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. Korea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5.  Ataque de nervios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. Tonga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6.  Zar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.  Southeast Asian me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7.  Whakama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g. Malaysia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8.  Avanga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h. New Zealand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9.  Koro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. Europe/North America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0336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*Culture and Psychology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5"/>
          <p:cNvSpPr/>
          <p:nvPr/>
        </p:nvSpPr>
        <p:spPr>
          <a:xfrm>
            <a:off x="762120" y="304920"/>
            <a:ext cx="815328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Georgia"/>
              </a:rPr>
              <a:t>Culture Bound Syndromes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1.  Sinbyong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. Man-eating monster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2.  Amok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b. Mut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3.  Witiko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. Companionship with a spir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4.  Anorexia nervosa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. Feelings of inferi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5.  Ataque de nervios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. Hallucin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6.  Zar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.  Uncontrollable sh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7.  Whakama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g. Fear of shrin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8.  Avanga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h. Rage and homicidal agg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9.  Koro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.  Fear of becoming f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*Culture and Psych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01:16:07Z</dcterms:created>
  <dc:creator>Mark</dc:creator>
  <dc:description/>
  <dc:language>en-US</dc:language>
  <cp:lastModifiedBy>Mark</cp:lastModifiedBy>
  <dcterms:modified xsi:type="dcterms:W3CDTF">2014-09-19T22:32:15Z</dcterms:modified>
  <cp:revision>65</cp:revision>
  <dc:subject/>
  <dc:title>Slide 1</dc:title>
</cp:coreProperties>
</file>