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4250-89BE-471D-B051-8897DB501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732A-C63A-43F5-B667-E393A3672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521E-FFCE-4F78-90CB-AB5C3032E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32CB-CB62-4ED5-9933-099652EC0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3CB3-9F29-48AC-8304-5B53525FC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AD31-A92B-4E50-AAD8-C4A691D12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B28E-B740-4AC4-9369-8617A676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53C7-79C4-4E71-9058-EB503DD21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9D4-8E6B-4BA3-AF16-1588E846F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9F50-CBD5-4752-BDF4-9514E19E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F4F-15E4-4A67-856F-7AED62841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3FA0-6FBF-45CB-B658-754F84017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E925-8216-4BEF-B37B-1BE6D91279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D86F-EEB2-4570-8A9C-1ADD9C4CD43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CB33-8E58-409C-8A58-5D1ABEAB07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0BDE-F2FF-4690-9FCD-472C8F271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C926-643E-421F-8C93-6189E9C236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6D7C-140D-4981-A0D1-FE12B3E5CD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A173-D0A8-4F5E-AC9D-439EE0E2F2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F0D2-6922-4C19-A5D9-E57991F629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8092-4FCB-4F9D-9F20-B9997BB98B6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09C3-37EC-45A5-986C-49427BB272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EEA3-D8D2-4871-AD21-3E8C7555497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7A92-61E6-451F-926E-410861C35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2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60-67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Contemporary Perspectives on Abnormal Behavi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Evaluating the Sociocultural Perspectiv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685800" y="1724040"/>
            <a:ext cx="8305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ocial causation model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belief that social stressors, such as poverty, account for the greater risk of severe  psychological disorders among people of lower socioeconomic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ownward drift hypothesi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The theory that explains the linkage between low socioeconomic status and behavior problems by suggesting that problem behaviors lead people to drift downward in social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THE BIOPSYCHOSOCIAL PERSPECTIV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685800" y="1481040"/>
            <a:ext cx="8305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he biopsychosocial perspective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xamines the contributions of multiple factors representing biological, psychological, and sociocultural domains, as well as their interactions, in the development psychological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ven disorders that are primarily biological may be influenced by psychological factors, or vice-vers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r example, some phobias may be learned behaviors that are acquired through experiences in which particular objects became associated with traumatic or painful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itle 1"/>
          <p:cNvSpPr/>
          <p:nvPr/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BIOPSYCHOSOCIAL MOD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F BULI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"/>
          <p:cNvSpPr/>
          <p:nvPr/>
        </p:nvSpPr>
        <p:spPr>
          <a:xfrm>
            <a:off x="685800" y="1481040"/>
            <a:ext cx="83059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Biologic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ene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rregularities in neurotransm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sychologic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ody dissatisf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gnitive distortions (perfectionis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motional/interpersonal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ociocultur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ocial pressures to be th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The Diathesis–Stress Mod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TextBox 7"/>
          <p:cNvSpPr/>
          <p:nvPr/>
        </p:nvSpPr>
        <p:spPr>
          <a:xfrm>
            <a:off x="685800" y="1298520"/>
            <a:ext cx="8305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athesis–stress model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A model that posits that abnormal behavior problems involve the interaction of a vulnerability or predisposition and stressful life events or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athesi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A vulnerability or predisposition to a particular dis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 some cases, people with a diathesis for a particular disorder, say schizophrenia, will remain free of the disorder or will develop a milder form of the disorder if the level of stress in their lives remains low or if they develop effective coping responses for handling the stress they encou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Diathesis–Stress Mod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0" name="Picture 5" descr="fig02"/>
          <p:cNvPicPr/>
          <p:nvPr/>
        </p:nvPicPr>
        <p:blipFill>
          <a:blip r:embed="rId1"/>
          <a:stretch/>
        </p:blipFill>
        <p:spPr>
          <a:xfrm>
            <a:off x="762120" y="1600200"/>
            <a:ext cx="8153280" cy="26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tab02"/>
          <p:cNvPicPr/>
          <p:nvPr/>
        </p:nvPicPr>
        <p:blipFill>
          <a:blip r:embed="rId1"/>
          <a:stretch/>
        </p:blipFill>
        <p:spPr>
          <a:xfrm>
            <a:off x="1066680" y="228600"/>
            <a:ext cx="7543800" cy="623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6"/>
          <p:cNvSpPr/>
          <p:nvPr/>
        </p:nvSpPr>
        <p:spPr>
          <a:xfrm>
            <a:off x="5572080" y="1905120"/>
            <a:ext cx="2057400" cy="1143000"/>
          </a:xfrm>
          <a:prstGeom prst="wedgeEllipseCallout">
            <a:avLst>
              <a:gd name="adj1" fmla="val -47222"/>
              <a:gd name="adj2" fmla="val 60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078960" y="23144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1"/>
          <a:stretch/>
        </p:blipFill>
        <p:spPr>
          <a:xfrm>
            <a:off x="3276720" y="2647800"/>
            <a:ext cx="2276280" cy="301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 Gothic"/>
              </a:rPr>
              <a:t>THE SOCIOCULTURAL PERSPECTIVE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Ethnicity and Mental Health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TextBox 7"/>
          <p:cNvSpPr/>
          <p:nvPr/>
        </p:nvSpPr>
        <p:spPr>
          <a:xfrm>
            <a:off x="685800" y="1389240"/>
            <a:ext cx="8305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 recent analysis of ethnic group differences in rates of mental disorders revealed an interesting patter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ing data from a nationally representative sample of adult Americans, investigators found that traditionally disadvantaged groups (non-Hispanic Black Americans and Hispanic Americans) had either significantly lower rates of psychological disorders or comparable rates, as compared to European Americans (non-Hispanic Whit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thnicity and psychological disorders in the United Stat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4" name="Picture 5" descr="image2"/>
          <p:cNvPicPr/>
          <p:nvPr/>
        </p:nvPicPr>
        <p:blipFill>
          <a:blip r:embed="rId1"/>
          <a:stretch/>
        </p:blipFill>
        <p:spPr>
          <a:xfrm>
            <a:off x="1143000" y="1219320"/>
            <a:ext cx="7391520" cy="526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itle 1"/>
          <p:cNvSpPr/>
          <p:nvPr/>
        </p:nvSpPr>
        <p:spPr>
          <a:xfrm>
            <a:off x="685800" y="304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thnicity and psychological disorders in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5" descr="image1"/>
          <p:cNvPicPr/>
          <p:nvPr/>
        </p:nvPicPr>
        <p:blipFill>
          <a:blip r:embed="rId1"/>
          <a:stretch/>
        </p:blipFill>
        <p:spPr>
          <a:xfrm>
            <a:off x="1143000" y="1219320"/>
            <a:ext cx="7391520" cy="528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al Relativism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view that abnormal behaviors can only be understood within the cultural framework within which they occur (though universal components still exist across cultures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68580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e Bound Syndromes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isorders that appear to occur only in specific cultural mili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e Bound Syndromes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.  Sinbyong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. Algonquin Indian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.  Amok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. Latin Amer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.  Witik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. Ethiopian immigra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.  Anorexia nervos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. Kore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.  Ataque de nervio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. Tong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6.  Z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.  Southeast Asian me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7.  Whakam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. Malaysi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8.  Avang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. New Zealan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9.  Kor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. Europe/North Americ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3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7621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</a:rPr>
              <a:t>Culture Bound Syndromes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.  Sinbyong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. Man-eating monste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.  Amok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. Mut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.  Witik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. Companionship with a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4.  Anorexia nervos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. Feelings of infe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.  Ataque de nervios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. Halluci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6.  Z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.  Uncontrollable sh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7.  Whakam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. Fear of shr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8.  Avanga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. Rage and homicidal ag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9.  Koro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.  Fear of becoming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*Culture and 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Mark</dc:creator>
  <dc:description/>
  <dc:language>en-US</dc:language>
  <cp:lastModifiedBy>Mark</cp:lastModifiedBy>
  <dcterms:modified xsi:type="dcterms:W3CDTF">2014-09-19T22:32:15Z</dcterms:modified>
  <cp:revision>65</cp:revision>
  <dc:subject/>
  <dc:title>Slide 1</dc:title>
</cp:coreProperties>
</file>