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1218-801D-4FA6-8A33-53B39CE19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F507-43A6-4663-B7CD-AB540FB7D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046B-AC41-49FC-9E1D-1B175F32D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D171-A780-4744-9974-E83A27B19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4B27-F180-48D2-A323-D0EB2BE63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C94D-CB44-43E7-8C28-B187FC455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DA0A-A5B4-434F-963F-530E1E0EB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EF75-1DC8-4DDA-8DD3-6F6F4F72B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6411-7861-41E2-B04D-80FE9E41F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7D8E-CD63-4AB9-B8C9-335234392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8100-EB1F-4FFF-8FD0-D18571057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1915-0C2D-419A-A071-CA530519F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5EB6-31E2-4326-835F-A2BB59341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0627-F6EC-44C1-8927-B789A0064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E9114-8B8A-4E25-9B02-C78EEB2847D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EE4B-78A7-49ED-8637-3F288F3C5C0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4A1F9-9743-4998-A78A-FF1DD42FEC9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49EB-A8A5-42FF-B755-853EE0E14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5C5A-9DD5-4CBC-A007-F1F9FC84B7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FD0E8-0A72-4276-8C15-C731FD3B64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9707-3FAD-4485-A706-A69B8520E31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57D7-2770-4ED3-8845-F2A68CB8B79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0A4D-16D6-401F-8A1A-89F38440DE6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0A89-548E-43F5-B042-38FC1F03D0C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98F9-9D96-4154-9D09-33783FAEDE7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A8DE-8A99-44BC-8929-41EF7476EE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838080" y="0"/>
            <a:ext cx="74678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bnormal Psychology in a Changing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effrey S. Nevid / Spencer A. Rathus / Beverly Gre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nevid_7e_COVER"/>
          <p:cNvPicPr/>
          <p:nvPr/>
        </p:nvPicPr>
        <p:blipFill>
          <a:blip r:embed="rId2"/>
          <a:stretch/>
        </p:blipFill>
        <p:spPr>
          <a:xfrm>
            <a:off x="609480" y="2286000"/>
            <a:ext cx="3587760" cy="4233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ph_logo"/>
          <p:cNvPicPr/>
          <p:nvPr/>
        </p:nvPicPr>
        <p:blipFill>
          <a:blip r:embed="rId3"/>
          <a:stretch/>
        </p:blipFill>
        <p:spPr>
          <a:xfrm>
            <a:off x="8477280" y="6354720"/>
            <a:ext cx="666720" cy="503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4800600" y="6381360"/>
            <a:ext cx="373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723920" y="2590920"/>
            <a:ext cx="39625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3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(Pp 69-77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Classification and Assessment of Abnormal Behavior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tab03"/>
          <p:cNvPicPr/>
          <p:nvPr/>
        </p:nvPicPr>
        <p:blipFill>
          <a:blip r:embed="rId1"/>
          <a:stretch/>
        </p:blipFill>
        <p:spPr>
          <a:xfrm>
            <a:off x="1523880" y="304920"/>
            <a:ext cx="6477120" cy="6203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ulture and Psychology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all abnormal behaviors were entirely etic in their expression and presentation, then creating reliable and valid diagnostic categories would not be a probl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SM-5 does not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requir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n assessment of cultural elements that may be necessary to recognize and classify a culture-bound syndro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cal diagnostic systems (CCMD) have been created to address the problem of the lack of cultural considerations in the assessment of mental disord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4"/>
          <p:cNvSpPr/>
          <p:nvPr/>
        </p:nvSpPr>
        <p:spPr>
          <a:xfrm>
            <a:off x="685800" y="2746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ulture and Psych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can be difficult to use a psychological assessment from one cultur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verpathologizing and underpathologizing can be problems if a clinician does not understand a person’s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valuating the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DSM Syste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TextBox 4"/>
          <p:cNvSpPr/>
          <p:nvPr/>
        </p:nvSpPr>
        <p:spPr>
          <a:xfrm>
            <a:off x="609480" y="1219320"/>
            <a:ext cx="8458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o be useful, a diagnostic system such as the DSM must demonstrate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reliability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validity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Reliability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- In psychological assessment, the consistency of a measure or diagnostic instrument or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Validity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 The degree to which a test or diagnostic system measures the traits or constructs it purports to meas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dvantages and Disadvantages of the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DSM Syste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4" name="TextBox 4"/>
          <p:cNvSpPr/>
          <p:nvPr/>
        </p:nvSpPr>
        <p:spPr>
          <a:xfrm>
            <a:off x="533520" y="1219320"/>
            <a:ext cx="8534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major advantage of the DSM may be its designation of specific diagnostic crite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ritics challenge the utility of particular symptoms or features associated with particular syndromes or of specified diagnostic crite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nother concern is that the medical model focuses on categorizing psychological (or mental) disorders rather than describing people’s behavioral strengths and weaknes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dvantages and Disadvantages of the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DSM Syste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6" name="TextBox 4"/>
          <p:cNvSpPr/>
          <p:nvPr/>
        </p:nvSpPr>
        <p:spPr>
          <a:xfrm>
            <a:off x="533520" y="1405080"/>
            <a:ext cx="853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ritics also complain that the DSM system might stigmatize people by labeling them with psychiatric diagno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Sanism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- The negative stereotyping of people who are identified as mentally i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The DSM system, despite its critics, has become part and parcel of the everyday practice of most U.S. mental health profession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entury Gothic"/>
              </a:rPr>
              <a:t>What are some possible consequences of being labeled with a “mental illness”?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 Continuum of Mental Illnes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(Dr. Tom Burish, 1977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Line 5"/>
          <p:cNvSpPr/>
          <p:nvPr/>
        </p:nvSpPr>
        <p:spPr>
          <a:xfrm>
            <a:off x="1066680" y="3352680"/>
            <a:ext cx="7239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583560" y="35971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160880" y="35830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eur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7662240" y="35971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sych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1066680" y="31240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0"/>
          <p:cNvSpPr/>
          <p:nvPr/>
        </p:nvSpPr>
        <p:spPr>
          <a:xfrm>
            <a:off x="8305920" y="31240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AutoShape 6"/>
          <p:cNvSpPr/>
          <p:nvPr/>
        </p:nvSpPr>
        <p:spPr>
          <a:xfrm>
            <a:off x="4670280" y="2468520"/>
            <a:ext cx="2133720" cy="914400"/>
          </a:xfrm>
          <a:prstGeom prst="wedgeEllipseCallout">
            <a:avLst>
              <a:gd name="adj1" fmla="val -47319"/>
              <a:gd name="adj2" fmla="val 633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5183280" y="27432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8" descr=""/>
          <p:cNvPicPr/>
          <p:nvPr/>
        </p:nvPicPr>
        <p:blipFill>
          <a:blip r:embed="rId1"/>
          <a:stretch/>
        </p:blipFill>
        <p:spPr>
          <a:xfrm>
            <a:off x="3276720" y="3110040"/>
            <a:ext cx="1736640" cy="2431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HOW ARE ABNORMAL BEHAVIOR PATTERNS CLASSIFIED?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1" name="TextBox 4"/>
          <p:cNvSpPr/>
          <p:nvPr/>
        </p:nvSpPr>
        <p:spPr>
          <a:xfrm>
            <a:off x="685800" y="1450800"/>
            <a:ext cx="8381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DSM was introduced in 1952. The latest version, published in 2013, is the DSM-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nother common system of classification, published by the World Health Organization, is used mainly for compiling statistics on the worldwide occurrence of disorders: the International Statistical Classification of Diseases and Related Health Problems (ICD), which is now in its tenth revision (the ICD-10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DSM-V is compatible with the ICD, so that DSM diagnoses could be coded in the ICD system as we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itle 1"/>
          <p:cNvSpPr/>
          <p:nvPr/>
        </p:nvSpPr>
        <p:spPr>
          <a:xfrm>
            <a:off x="685800" y="2286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HOW ARE ABNORMAL BEHAVIOR PATTERNS CLASSIF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4"/>
          <p:cNvSpPr/>
          <p:nvPr/>
        </p:nvSpPr>
        <p:spPr>
          <a:xfrm>
            <a:off x="685800" y="14508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its third edition, the CCMD (Chinese Classification of Mental Disorders) maintains a focus on issues that are of interest to Chinese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ome disorders identified in the ICD-10 and the DSM-5 that are not common in China (ie, anorexia nervosa) are left out; others are included that appear to be culture-bound disorders (ie, ego-dystonic homosexual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Century Gothic"/>
              </a:rPr>
              <a:t>The DSM and Models of Abnormal Behavior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5" name="TextBox 4"/>
          <p:cNvSpPr/>
          <p:nvPr/>
        </p:nvSpPr>
        <p:spPr>
          <a:xfrm>
            <a:off x="533520" y="1511280"/>
            <a:ext cx="8534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DSM system, like the medical model, treats abnormal behaviors as signs or symptoms of underlying disorders or patholog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However, the DSM does not assume that abnormal behaviors necessarily reflect biological causes or def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authors of the DSM recognize that their use of the term mental disorder is problematic because it perpetuates a long-standing but dubious distinction between mental and physical disord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eatures of the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DS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TextBox 4"/>
          <p:cNvSpPr/>
          <p:nvPr/>
        </p:nvSpPr>
        <p:spPr>
          <a:xfrm>
            <a:off x="533520" y="1295280"/>
            <a:ext cx="853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DSM is descriptive, not explanato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t describes the diagnostic features—or, in medical terms, symptoms—of abnormal behavi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t does not attempt to explain their origins or adopt any particular theoretical framework, such as psychodynamic or learning theo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eatures of the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DS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9" name="TextBox 4"/>
          <p:cNvSpPr/>
          <p:nvPr/>
        </p:nvSpPr>
        <p:spPr>
          <a:xfrm>
            <a:off x="533520" y="1219320"/>
            <a:ext cx="8534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DSM IV recommended that clinicians assess an individual’s mental state according to five factors, or axes. Together the five axes provide a broad range of information about the individual’s functioning, not just a diagno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system contained the following axes (</a:t>
            </a:r>
            <a:r>
              <a:rPr b="0" lang="en-US" sz="2200" spc="-1" strike="noStrike">
                <a:solidFill>
                  <a:srgbClr val="cc3300"/>
                </a:solidFill>
                <a:latin typeface="Georgia"/>
              </a:rPr>
              <a:t>see textbook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Axis I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linical Disorders and Other Conditions That May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e a Focus of Clinical Atten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Axis II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ersonality Disorders and Mental Retard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Axis III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General Medical Cond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Axis IV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sychosocial and Environmental Probl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Axis V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Global Assessment of Functio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Georgia"/>
              </a:rPr>
              <a:t>THE DSM-5 HAS MOVED TO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Georgia"/>
              </a:rPr>
              <a:t>NONAXIAL DCUMENTATION OF DIAGNO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eatures of the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DS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91" name="Picture 5" descr="tab03"/>
          <p:cNvPicPr/>
          <p:nvPr/>
        </p:nvPicPr>
        <p:blipFill>
          <a:blip r:embed="rId1"/>
          <a:stretch/>
        </p:blipFill>
        <p:spPr>
          <a:xfrm>
            <a:off x="762120" y="1143000"/>
            <a:ext cx="8001000" cy="5173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eatures of the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DS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93" name="Picture 6" descr="tab03"/>
          <p:cNvPicPr/>
          <p:nvPr/>
        </p:nvPicPr>
        <p:blipFill>
          <a:blip r:embed="rId1"/>
          <a:stretch/>
        </p:blipFill>
        <p:spPr>
          <a:xfrm>
            <a:off x="762120" y="914400"/>
            <a:ext cx="8229600" cy="5167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ulture-Bound Syndrome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TextBox 4"/>
          <p:cNvSpPr/>
          <p:nvPr/>
        </p:nvSpPr>
        <p:spPr>
          <a:xfrm>
            <a:off x="609480" y="1219320"/>
            <a:ext cx="8458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Culture-bound syndromes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Patterns of abnormal behavior found within only one or a few cult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ulture-bound syndromes may reflect exaggerated forms of common folk 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superstition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and belief patterns within a particular cul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ulture-bound syndromes in the United States include 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anorexia nervosa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dissociative identity disorder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(formerly called multiple personality disorde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01:16:07Z</dcterms:created>
  <dc:creator>Mark</dc:creator>
  <dc:description/>
  <dc:language>en-US</dc:language>
  <cp:lastModifiedBy>Mark</cp:lastModifiedBy>
  <dcterms:modified xsi:type="dcterms:W3CDTF">2013-09-24T18:43:06Z</dcterms:modified>
  <cp:revision>57</cp:revision>
  <dc:subject/>
  <dc:title>Slide 1</dc:title>
</cp:coreProperties>
</file>