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29AF-D726-4AC6-93A1-1148CD2F4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D46F-DB32-4375-87ED-3757FE5E8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ACA5-C721-4E88-B9DA-BDF245B9E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1F84-17AA-4805-B8C8-4ADF14129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7383-E217-4CB9-9E51-5826AA6B3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0A57-3424-4115-A47D-A2E2F592D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534F-35DF-4FB7-833E-2024BACAF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CBF0-88F7-45F1-B401-0971A0107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2926-45DC-4D7F-BC31-C3CBA0B06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BED5-04AA-4D6C-8FA0-D5DD6D138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01AA-CF89-42FF-9302-B358EE682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C680-00F4-442B-AFB2-CA4A6797F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0C67-B183-4B7A-B478-37D27EBC8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D1A1E-00D5-45EE-8093-0BC7417925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4A023-EB02-415A-B2A4-FBDDBD3461E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7C1A1-F643-4C9E-9D10-E48DA61DDC8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F699C-CEB3-42A4-8638-78467B66CCF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B3BC0-8542-4447-84ED-29E8D5D4E1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BFABD-99A1-4A45-A61C-58C0149B92C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F75BB-A820-487A-8C17-C6A59C1F201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D27C0-726C-4EFC-A63B-AE32607AA3C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E5059-075E-406E-811A-977D89E3379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3EAD8-65E7-449C-8A66-90A07F1D325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42D07-384F-4782-8880-EDC7AD37F69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E1AC5-EFEB-426F-89D0-B3C738CAFE0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8370-B1EB-418F-AF85-A5AD8B41C2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838080" y="0"/>
            <a:ext cx="74678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Abnormal Psychology in a Changing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EVENTH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Jeffrey S. Nevid / Spencer A. Rathus / Beverly Gre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5" descr="nevid_7e_COVER"/>
          <p:cNvPicPr/>
          <p:nvPr/>
        </p:nvPicPr>
        <p:blipFill>
          <a:blip r:embed="rId2"/>
          <a:stretch/>
        </p:blipFill>
        <p:spPr>
          <a:xfrm>
            <a:off x="609480" y="2286000"/>
            <a:ext cx="3587760" cy="4233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ph_logo"/>
          <p:cNvPicPr/>
          <p:nvPr/>
        </p:nvPicPr>
        <p:blipFill>
          <a:blip r:embed="rId3"/>
          <a:stretch/>
        </p:blipFill>
        <p:spPr>
          <a:xfrm>
            <a:off x="8477280" y="6354720"/>
            <a:ext cx="666720" cy="503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4800600" y="6381360"/>
            <a:ext cx="3733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723920" y="2590920"/>
            <a:ext cx="39625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hapter 3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(Pp 69-77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entury Gothic"/>
              </a:rPr>
              <a:t>Classification and Assessment of Abnormal Behavior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4" descr="tab03"/>
          <p:cNvPicPr/>
          <p:nvPr/>
        </p:nvPicPr>
        <p:blipFill>
          <a:blip r:embed="rId1"/>
          <a:stretch/>
        </p:blipFill>
        <p:spPr>
          <a:xfrm>
            <a:off x="1523880" y="304920"/>
            <a:ext cx="6477120" cy="6203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ulture and Psychology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 all abnormal behaviors were entirely etic in their expression and presentation, then creating reliable and valid diagnostic categories would not be a proble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SM-5 does not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requir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n assessment of cultural elements that may be necessary to recognize and classify a culture-bound syndrom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ocal diagnostic systems (CCMD) have been created to address the problem of the lack of cultural considerations in the assessment of mental disorde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4"/>
          <p:cNvSpPr/>
          <p:nvPr/>
        </p:nvSpPr>
        <p:spPr>
          <a:xfrm>
            <a:off x="685800" y="27468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ulture and Psych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5"/>
          <p:cNvSpPr/>
          <p:nvPr/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 can be difficult to use a psychological assessment from one culture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verpathologizing and underpathologizing can be problems if a clinician does not understand a person’s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Evaluating the </a:t>
            </a: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DSM System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2" name="TextBox 4"/>
          <p:cNvSpPr/>
          <p:nvPr/>
        </p:nvSpPr>
        <p:spPr>
          <a:xfrm>
            <a:off x="609480" y="1219320"/>
            <a:ext cx="8458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o be useful, a diagnostic system such as the DSM must demonstrate 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reliability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validity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Reliability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- In psychological assessment, the consistency of a measure or diagnostic instrument or syst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Validity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-  The degree to which a test or diagnostic system measures the traits or constructs it purports to meas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dvantages and Disadvantages of the </a:t>
            </a: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DSM System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4" name="TextBox 4"/>
          <p:cNvSpPr/>
          <p:nvPr/>
        </p:nvSpPr>
        <p:spPr>
          <a:xfrm>
            <a:off x="533520" y="1219320"/>
            <a:ext cx="85341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he major advantage of the DSM may be its designation of specific diagnostic crite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ritics challenge the utility of particular symptoms or features associated with particular syndromes or of specified diagnostic crite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nother concern is that the medical model focuses on categorizing psychological (or mental) disorders rather than describing people’s behavioral strengths and weaknes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dvantages and Disadvantages of the </a:t>
            </a: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DSM System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6" name="TextBox 4"/>
          <p:cNvSpPr/>
          <p:nvPr/>
        </p:nvSpPr>
        <p:spPr>
          <a:xfrm>
            <a:off x="533520" y="1405080"/>
            <a:ext cx="8534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ritics also complain that the DSM system might stigmatize people by labeling them with psychiatric diagno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Sanism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- The negative stereotyping of people who are identified as mentally il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The DSM system, despite its critics, has become part and parcel of the everyday practice of most U.S. mental health professiona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Century Gothic"/>
              </a:rPr>
              <a:t>What are some possible consequences of being labeled with a “mental illness”?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 Continuum of Mental Illness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(Dr. Tom Burish, 1977)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Line 5"/>
          <p:cNvSpPr/>
          <p:nvPr/>
        </p:nvSpPr>
        <p:spPr>
          <a:xfrm>
            <a:off x="1066680" y="3352680"/>
            <a:ext cx="7239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583560" y="359712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4160880" y="358308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Neuro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7662240" y="35971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sycho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9"/>
          <p:cNvSpPr/>
          <p:nvPr/>
        </p:nvSpPr>
        <p:spPr>
          <a:xfrm>
            <a:off x="1066680" y="31240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10"/>
          <p:cNvSpPr/>
          <p:nvPr/>
        </p:nvSpPr>
        <p:spPr>
          <a:xfrm>
            <a:off x="8305920" y="31240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AutoShape 6"/>
          <p:cNvSpPr/>
          <p:nvPr/>
        </p:nvSpPr>
        <p:spPr>
          <a:xfrm>
            <a:off x="4670280" y="2468520"/>
            <a:ext cx="2133720" cy="914400"/>
          </a:xfrm>
          <a:prstGeom prst="wedgeEllipseCallout">
            <a:avLst>
              <a:gd name="adj1" fmla="val -47319"/>
              <a:gd name="adj2" fmla="val 633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7"/>
          <p:cNvSpPr/>
          <p:nvPr/>
        </p:nvSpPr>
        <p:spPr>
          <a:xfrm>
            <a:off x="5183280" y="274320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8" descr=""/>
          <p:cNvPicPr/>
          <p:nvPr/>
        </p:nvPicPr>
        <p:blipFill>
          <a:blip r:embed="rId1"/>
          <a:stretch/>
        </p:blipFill>
        <p:spPr>
          <a:xfrm>
            <a:off x="3276720" y="3110040"/>
            <a:ext cx="1736640" cy="2431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entury Gothic"/>
              </a:rPr>
              <a:t>HOW ARE ABNORMAL BEHAVIOR PATTERNS CLASSIFIED?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1" name="TextBox 4"/>
          <p:cNvSpPr/>
          <p:nvPr/>
        </p:nvSpPr>
        <p:spPr>
          <a:xfrm>
            <a:off x="685800" y="1450800"/>
            <a:ext cx="8381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he DSM was introduced in 1952. The latest version, published in 2013, is the DSM-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nother common system of classification, published by the World Health Organization, is used mainly for compiling statistics on the worldwide occurrence of disorders: the International Statistical Classification of Diseases and Related Health Problems (ICD), which is now in its tenth revision (the ICD-10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he DSM-V is compatible with the ICD, so that DSM diagnoses could be coded in the ICD system as wel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itle 1"/>
          <p:cNvSpPr/>
          <p:nvPr/>
        </p:nvSpPr>
        <p:spPr>
          <a:xfrm>
            <a:off x="685800" y="22860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entury Gothic"/>
              </a:rPr>
              <a:t>HOW ARE ABNORMAL BEHAVIOR PATTERNS CLASSIF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4"/>
          <p:cNvSpPr/>
          <p:nvPr/>
        </p:nvSpPr>
        <p:spPr>
          <a:xfrm>
            <a:off x="685800" y="14508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its third edition, the CCMD (Chinese Classification of Mental Disorders) maintains a focus on issues that are of interest to Chinese cul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ome disorders identified in the ICD-10 and the DSM-5 that are not common in China (ie, anorexia nervosa) are left out; others are included that appear to be culture-bound disorders (ie, ego-dystonic homosexualit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Century Gothic"/>
              </a:rPr>
              <a:t>The DSM and Models of Abnormal Behavior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5" name="TextBox 4"/>
          <p:cNvSpPr/>
          <p:nvPr/>
        </p:nvSpPr>
        <p:spPr>
          <a:xfrm>
            <a:off x="533520" y="1511280"/>
            <a:ext cx="85341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he DSM system, like the medical model, treats abnormal behaviors as signs or symptoms of underlying disorders or pathologi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However, the DSM does not assume that abnormal behaviors necessarily reflect biological causes or defec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he authors of the DSM recognize that their use of the term mental disorder is problematic because it perpetuates a long-standing but dubious distinction between mental and physical disord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eatures of the </a:t>
            </a: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DSM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7" name="TextBox 4"/>
          <p:cNvSpPr/>
          <p:nvPr/>
        </p:nvSpPr>
        <p:spPr>
          <a:xfrm>
            <a:off x="533520" y="1295280"/>
            <a:ext cx="8534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he DSM is descriptive, not explanator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It describes the diagnostic features—or, in medical terms, symptoms—of abnormal behavio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It does not attempt to explain their origins or adopt any particular theoretical framework, such as psychodynamic or learning theo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eatures of the </a:t>
            </a: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DSM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9" name="TextBox 4"/>
          <p:cNvSpPr/>
          <p:nvPr/>
        </p:nvSpPr>
        <p:spPr>
          <a:xfrm>
            <a:off x="533520" y="1219320"/>
            <a:ext cx="85341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he DSM IV recommended that clinicians assess an individual’s mental state according to five factors, or axes. Together the five axes provide a broad range of information about the individual’s functioning, not just a diagnos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he system contained the following axes (</a:t>
            </a:r>
            <a:r>
              <a:rPr b="0" lang="en-US" sz="2200" spc="-1" strike="noStrike">
                <a:solidFill>
                  <a:srgbClr val="cc3300"/>
                </a:solidFill>
                <a:latin typeface="Georgia"/>
              </a:rPr>
              <a:t>see textbook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Axis I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linical Disorders and Other Conditions That May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Be a Focus of Clinical Atten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Axis II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Personality Disorders and Mental Retard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Axis III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General Medical Condi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Axis IV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Psychosocial and Environmental Proble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Axis V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Global Assessment of Function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Georgia"/>
              </a:rPr>
              <a:t>THE DSM-5 HAS MOVED TO 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Georgia"/>
              </a:rPr>
              <a:t>NONAXIAL DCUMENTATION OF DIAGNO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4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4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eatures of the </a:t>
            </a: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DSM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91" name="Picture 5" descr="tab03"/>
          <p:cNvPicPr/>
          <p:nvPr/>
        </p:nvPicPr>
        <p:blipFill>
          <a:blip r:embed="rId1"/>
          <a:stretch/>
        </p:blipFill>
        <p:spPr>
          <a:xfrm>
            <a:off x="762120" y="1143000"/>
            <a:ext cx="8001000" cy="5173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eatures of the </a:t>
            </a: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DSM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93" name="Picture 6" descr="tab03"/>
          <p:cNvPicPr/>
          <p:nvPr/>
        </p:nvPicPr>
        <p:blipFill>
          <a:blip r:embed="rId1"/>
          <a:stretch/>
        </p:blipFill>
        <p:spPr>
          <a:xfrm>
            <a:off x="762120" y="914400"/>
            <a:ext cx="8229600" cy="5167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ulture-Bound Syndrome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5" name="TextBox 4"/>
          <p:cNvSpPr/>
          <p:nvPr/>
        </p:nvSpPr>
        <p:spPr>
          <a:xfrm>
            <a:off x="609480" y="1219320"/>
            <a:ext cx="84582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Culture-bound syndromes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- Patterns of abnormal behavior found within only one or a few cult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ulture-bound syndromes may reflect exaggerated forms of common folk </a:t>
            </a: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superstitions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and belief patterns within a particular cul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ulture-bound syndromes in the United States include </a:t>
            </a: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anorexia nervosa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nd </a:t>
            </a: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dissociative identity disorder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(formerly called multiple personality disorder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01:16:07Z</dcterms:created>
  <dc:creator>Mark</dc:creator>
  <dc:description/>
  <dc:language>en-US</dc:language>
  <cp:lastModifiedBy>Mark</cp:lastModifiedBy>
  <dcterms:modified xsi:type="dcterms:W3CDTF">2013-09-24T18:43:06Z</dcterms:modified>
  <cp:revision>57</cp:revision>
  <dc:subject/>
  <dc:title>Slide 1</dc:title>
</cp:coreProperties>
</file>