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FABF4-3DDA-4B5D-B29E-66B0B1EF75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19661-7AD1-47D3-8D3D-777B41489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F6FC1-6CF8-4930-B09F-92458AD77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0B238-36B0-482B-8922-96248DFC7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6F67E-AF84-46C4-9B92-F633DE0E1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1D8E0-FE6F-4AA2-A6BA-5DF2B7750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0FF34-182A-4B45-876B-635EA003A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BBF1D-2DA9-4875-8A8E-B25807BC2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89D35-EC1D-4531-8719-BDC8A1F16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DD847-6351-436E-BD6F-0B733CD3F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7E6EE-904B-4F4E-B06F-D387214CD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D7A35-FD9F-497F-B645-A9390020F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EF5A0-A3B8-4813-A03D-99609B66E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53097-D395-48D3-B5C1-DD1E19D47E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FE8C1-0F80-479E-BCD2-6B8778E2E91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DCB56-85FD-41E9-8055-9CA436E208E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C9D80-814F-4100-8784-1EF8877D698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F5AA6-9925-4945-9D45-9E8E814E6C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9FBBA-0890-4128-A8CE-74FEC119FDA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E8536-FE49-46CE-BA6A-F64347FFF83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6E6D7-A6E0-454A-885F-13A1FF620A6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B98AF-F812-42CF-843D-711BBB16706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9981F-1085-4246-BF05-CAAE8CB7FD4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E9D10-651F-43EB-A1C7-C4051387981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A470C-75DA-4CD2-A241-662E78E07B5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F8CA0-82A5-4350-9633-007768816F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4"/>
          <p:cNvSpPr/>
          <p:nvPr/>
        </p:nvSpPr>
        <p:spPr>
          <a:xfrm>
            <a:off x="838080" y="0"/>
            <a:ext cx="746784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Abnormal Psychology in a Changing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EVENTH E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Jeffrey S. Nevid / Spencer A. Rathus / Beverly Gre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5" descr="nevid_7e_COVER"/>
          <p:cNvPicPr/>
          <p:nvPr/>
        </p:nvPicPr>
        <p:blipFill>
          <a:blip r:embed="rId2"/>
          <a:stretch/>
        </p:blipFill>
        <p:spPr>
          <a:xfrm>
            <a:off x="609480" y="2286000"/>
            <a:ext cx="3587760" cy="4233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ph_logo"/>
          <p:cNvPicPr/>
          <p:nvPr/>
        </p:nvPicPr>
        <p:blipFill>
          <a:blip r:embed="rId3"/>
          <a:stretch/>
        </p:blipFill>
        <p:spPr>
          <a:xfrm>
            <a:off x="8477280" y="6354720"/>
            <a:ext cx="666720" cy="503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4800600" y="6381360"/>
            <a:ext cx="3733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723920" y="2590920"/>
            <a:ext cx="396252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hapter 3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(Pp 69-77)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entury Gothic"/>
              </a:rPr>
              <a:t>Classification and Assessment of Abnormal Behavior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Picture 4" descr="tab03"/>
          <p:cNvPicPr/>
          <p:nvPr/>
        </p:nvPicPr>
        <p:blipFill>
          <a:blip r:embed="rId1"/>
          <a:stretch/>
        </p:blipFill>
        <p:spPr>
          <a:xfrm>
            <a:off x="1523880" y="304920"/>
            <a:ext cx="6477120" cy="6203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ulture and Psychology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f all abnormal behaviors were entirely etic in their expression and presentation, then creating reliable and valid diagnostic categories would not be a proble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SM-5 does not 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requir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an assessment of cultural elements that may be necessary to recognize and classify a culture-bound syndrom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ocal diagnostic systems (CCMD) have been created to address the problem of the lack of cultural considerations in the assessment of mental disorder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4"/>
          <p:cNvSpPr/>
          <p:nvPr/>
        </p:nvSpPr>
        <p:spPr>
          <a:xfrm>
            <a:off x="685800" y="27468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ulture and Psych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5"/>
          <p:cNvSpPr/>
          <p:nvPr/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t can be difficult to use a psychological assessment from one culture to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verpathologizing and underpathologizing can be problems if a clinician does not understand a person’s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Evaluating the </a:t>
            </a:r>
            <a:r>
              <a:rPr b="1" i="1" lang="en-US" sz="3200" spc="-1" strike="noStrike">
                <a:solidFill>
                  <a:srgbClr val="000000"/>
                </a:solidFill>
                <a:latin typeface="Century Gothic"/>
              </a:rPr>
              <a:t>DSM System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2" name="TextBox 4"/>
          <p:cNvSpPr/>
          <p:nvPr/>
        </p:nvSpPr>
        <p:spPr>
          <a:xfrm>
            <a:off x="609480" y="1219320"/>
            <a:ext cx="84582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To be useful, a diagnostic system such as the DSM must demonstrate </a:t>
            </a: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reliability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validity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Reliability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- In psychological assessment, the consistency of a measure or diagnostic instrument or syst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Validity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-  The degree to which a test or diagnostic system measures the traits or constructs it purports to meas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dvantages and Disadvantages of the </a:t>
            </a:r>
            <a:r>
              <a:rPr b="1" i="1" lang="en-US" sz="3200" spc="-1" strike="noStrike">
                <a:solidFill>
                  <a:srgbClr val="000000"/>
                </a:solidFill>
                <a:latin typeface="Century Gothic"/>
              </a:rPr>
              <a:t>DSM System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4" name="TextBox 4"/>
          <p:cNvSpPr/>
          <p:nvPr/>
        </p:nvSpPr>
        <p:spPr>
          <a:xfrm>
            <a:off x="533520" y="1219320"/>
            <a:ext cx="85341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The major advantage of the DSM may be its designation of specific diagnostic criter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Critics challenge the utility of particular symptoms or features associated with particular syndromes or of specified diagnostic criter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Another concern is that the medical model focuses on categorizing psychological (or mental) disorders rather than describing people’s behavioral strengths and weakness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dvantages and Disadvantages of the </a:t>
            </a:r>
            <a:r>
              <a:rPr b="1" i="1" lang="en-US" sz="3200" spc="-1" strike="noStrike">
                <a:solidFill>
                  <a:srgbClr val="000000"/>
                </a:solidFill>
                <a:latin typeface="Century Gothic"/>
              </a:rPr>
              <a:t>DSM System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6" name="TextBox 4"/>
          <p:cNvSpPr/>
          <p:nvPr/>
        </p:nvSpPr>
        <p:spPr>
          <a:xfrm>
            <a:off x="533520" y="1405080"/>
            <a:ext cx="85341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Critics also complain that the DSM system might stigmatize people by labeling them with psychiatric diagnos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Sanism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- The negative stereotyping of people who are identified as mentally il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The DSM system, despite its critics, has become part and parcel of the everyday practice of most U.S. mental health professiona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5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Century Gothic"/>
              </a:rPr>
              <a:t>What are some possible consequences of being labeled with a “mental illness”?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A Continuum of Mental Illness</a:t>
            </a: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(Dr. Tom Burish, 1977)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Line 5"/>
          <p:cNvSpPr/>
          <p:nvPr/>
        </p:nvSpPr>
        <p:spPr>
          <a:xfrm>
            <a:off x="1066680" y="3352680"/>
            <a:ext cx="7239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6"/>
          <p:cNvSpPr/>
          <p:nvPr/>
        </p:nvSpPr>
        <p:spPr>
          <a:xfrm>
            <a:off x="583560" y="359712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Nor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4160880" y="358308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Neuro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8"/>
          <p:cNvSpPr/>
          <p:nvPr/>
        </p:nvSpPr>
        <p:spPr>
          <a:xfrm>
            <a:off x="7662240" y="35971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Psycho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9"/>
          <p:cNvSpPr/>
          <p:nvPr/>
        </p:nvSpPr>
        <p:spPr>
          <a:xfrm>
            <a:off x="1066680" y="31240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10"/>
          <p:cNvSpPr/>
          <p:nvPr/>
        </p:nvSpPr>
        <p:spPr>
          <a:xfrm>
            <a:off x="8305920" y="31240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AutoShape 6"/>
          <p:cNvSpPr/>
          <p:nvPr/>
        </p:nvSpPr>
        <p:spPr>
          <a:xfrm>
            <a:off x="4670280" y="2468520"/>
            <a:ext cx="2133720" cy="914400"/>
          </a:xfrm>
          <a:prstGeom prst="wedgeEllipseCallout">
            <a:avLst>
              <a:gd name="adj1" fmla="val -47319"/>
              <a:gd name="adj2" fmla="val 633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7"/>
          <p:cNvSpPr/>
          <p:nvPr/>
        </p:nvSpPr>
        <p:spPr>
          <a:xfrm>
            <a:off x="5183280" y="274320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n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8" descr=""/>
          <p:cNvPicPr/>
          <p:nvPr/>
        </p:nvPicPr>
        <p:blipFill>
          <a:blip r:embed="rId1"/>
          <a:stretch/>
        </p:blipFill>
        <p:spPr>
          <a:xfrm>
            <a:off x="3276720" y="3110040"/>
            <a:ext cx="1736640" cy="2431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entury Gothic"/>
              </a:rPr>
              <a:t>HOW ARE ABNORMAL BEHAVIOR PATTERNS CLASSIFIED?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1" name="TextBox 4"/>
          <p:cNvSpPr/>
          <p:nvPr/>
        </p:nvSpPr>
        <p:spPr>
          <a:xfrm>
            <a:off x="685800" y="1450800"/>
            <a:ext cx="83818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The DSM was introduced in 1952. The latest version, published in 2013, is the DSM-5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Another common system of classification, published by the World Health Organization, is used mainly for compiling statistics on the worldwide occurrence of disorders: the International Statistical Classification of Diseases and Related Health Problems (ICD), which is now in its tenth revision (the ICD-10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The DSM-V is compatible with the ICD, so that DSM diagnoses could be coded in the ICD system as wel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Title 1"/>
          <p:cNvSpPr/>
          <p:nvPr/>
        </p:nvSpPr>
        <p:spPr>
          <a:xfrm>
            <a:off x="685800" y="22860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entury Gothic"/>
              </a:rPr>
              <a:t>HOW ARE ABNORMAL BEHAVIOR PATTERNS CLASSIFI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4"/>
          <p:cNvSpPr/>
          <p:nvPr/>
        </p:nvSpPr>
        <p:spPr>
          <a:xfrm>
            <a:off x="685800" y="145080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 its third edition, the CCMD (Chinese Classification of Mental Disorders) maintains a focus on issues that are of interest to Chinese cul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ome disorders identified in the ICD-10 and the DSM-5 that are not common in China (ie, anorexia nervosa) are left out; others are included that appear to be culture-bound disorders (ie, ego-dystonic homosexualit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Century Gothic"/>
              </a:rPr>
              <a:t>The DSM and Models of Abnormal Behavior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5" name="TextBox 4"/>
          <p:cNvSpPr/>
          <p:nvPr/>
        </p:nvSpPr>
        <p:spPr>
          <a:xfrm>
            <a:off x="533520" y="1511280"/>
            <a:ext cx="853416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The DSM system, like the medical model, treats abnormal behaviors as signs or symptoms of underlying disorders or pathologi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However, the DSM does not assume that abnormal behaviors necessarily reflect biological causes or defec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The authors of the DSM recognize that their use of the term mental disorder is problematic because it perpetuates a long-standing but dubious distinction between mental and physical disord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eatures of the </a:t>
            </a:r>
            <a:r>
              <a:rPr b="1" i="1" lang="en-US" sz="3200" spc="-1" strike="noStrike">
                <a:solidFill>
                  <a:srgbClr val="000000"/>
                </a:solidFill>
                <a:latin typeface="Century Gothic"/>
              </a:rPr>
              <a:t>DSM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7" name="TextBox 4"/>
          <p:cNvSpPr/>
          <p:nvPr/>
        </p:nvSpPr>
        <p:spPr>
          <a:xfrm>
            <a:off x="533520" y="1295280"/>
            <a:ext cx="8534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The DSM is descriptive, not explanator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It describes the diagnostic features—or, in medical terms, symptoms—of abnormal behavio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It does not attempt to explain their origins or adopt any particular theoretical framework, such as psychodynamic or learning theo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eatures of the </a:t>
            </a:r>
            <a:r>
              <a:rPr b="1" i="1" lang="en-US" sz="3200" spc="-1" strike="noStrike">
                <a:solidFill>
                  <a:srgbClr val="000000"/>
                </a:solidFill>
                <a:latin typeface="Century Gothic"/>
              </a:rPr>
              <a:t>DSM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9" name="TextBox 4"/>
          <p:cNvSpPr/>
          <p:nvPr/>
        </p:nvSpPr>
        <p:spPr>
          <a:xfrm>
            <a:off x="533520" y="1219320"/>
            <a:ext cx="85341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The DSM IV recommended that clinicians assess an individual’s mental state according to five factors, or axes. Together the five axes provide a broad range of information about the individual’s functioning, not just a diagnos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The system contained the following axes (</a:t>
            </a:r>
            <a:r>
              <a:rPr b="0" lang="en-US" sz="2200" spc="-1" strike="noStrike">
                <a:solidFill>
                  <a:srgbClr val="cc3300"/>
                </a:solidFill>
                <a:latin typeface="Georgia"/>
              </a:rPr>
              <a:t>see textbook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Axis I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Clinical Disorders and Other Conditions That May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Be a Focus of Clinical Atten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Axis II</a:t>
            </a: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Personality Disorders and Mental Retard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Axis III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General Medical Condi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Axis IV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Psychosocial and Environmental Problem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Axis V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Global Assessment of Function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Georgia"/>
              </a:rPr>
              <a:t>THE DSM-5 HAS MOVED TO 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Georgia"/>
              </a:rPr>
              <a:t>NONAXIAL DCUMENTATION OF DIAGNO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4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4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4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4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4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eatures of the </a:t>
            </a:r>
            <a:r>
              <a:rPr b="1" i="1" lang="en-US" sz="3200" spc="-1" strike="noStrike">
                <a:solidFill>
                  <a:srgbClr val="000000"/>
                </a:solidFill>
                <a:latin typeface="Century Gothic"/>
              </a:rPr>
              <a:t>DSM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91" name="Picture 5" descr="tab03"/>
          <p:cNvPicPr/>
          <p:nvPr/>
        </p:nvPicPr>
        <p:blipFill>
          <a:blip r:embed="rId1"/>
          <a:stretch/>
        </p:blipFill>
        <p:spPr>
          <a:xfrm>
            <a:off x="762120" y="1143000"/>
            <a:ext cx="8001000" cy="5173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eatures of the </a:t>
            </a:r>
            <a:r>
              <a:rPr b="1" i="1" lang="en-US" sz="3200" spc="-1" strike="noStrike">
                <a:solidFill>
                  <a:srgbClr val="000000"/>
                </a:solidFill>
                <a:latin typeface="Century Gothic"/>
              </a:rPr>
              <a:t>DSM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93" name="Picture 6" descr="tab03"/>
          <p:cNvPicPr/>
          <p:nvPr/>
        </p:nvPicPr>
        <p:blipFill>
          <a:blip r:embed="rId1"/>
          <a:stretch/>
        </p:blipFill>
        <p:spPr>
          <a:xfrm>
            <a:off x="762120" y="914400"/>
            <a:ext cx="8229600" cy="5167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ulture-Bound Syndromes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5" name="TextBox 4"/>
          <p:cNvSpPr/>
          <p:nvPr/>
        </p:nvSpPr>
        <p:spPr>
          <a:xfrm>
            <a:off x="609480" y="1219320"/>
            <a:ext cx="84582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Culture-bound syndromes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- Patterns of abnormal behavior found within only one or a few cult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Culture-bound syndromes may reflect exaggerated forms of common folk </a:t>
            </a:r>
            <a:r>
              <a:rPr b="1" i="1" lang="en-US" sz="2200" spc="-1" strike="noStrike">
                <a:solidFill>
                  <a:srgbClr val="000000"/>
                </a:solidFill>
                <a:latin typeface="Georgia"/>
              </a:rPr>
              <a:t>superstitions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and belief patterns within a particular cul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Culture-bound syndromes in the United States include </a:t>
            </a:r>
            <a:r>
              <a:rPr b="1" i="1" lang="en-US" sz="2200" spc="-1" strike="noStrike">
                <a:solidFill>
                  <a:srgbClr val="000000"/>
                </a:solidFill>
                <a:latin typeface="Georgia"/>
              </a:rPr>
              <a:t>anorexia nervosa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and </a:t>
            </a:r>
            <a:r>
              <a:rPr b="1" i="1" lang="en-US" sz="2200" spc="-1" strike="noStrike">
                <a:solidFill>
                  <a:srgbClr val="000000"/>
                </a:solidFill>
                <a:latin typeface="Georgia"/>
              </a:rPr>
              <a:t>dissociative identity disorder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(formerly called multiple personality disorder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01:16:07Z</dcterms:created>
  <dc:creator>Mark</dc:creator>
  <dc:description/>
  <dc:language>en-US</dc:language>
  <cp:lastModifiedBy>Mark</cp:lastModifiedBy>
  <dcterms:modified xsi:type="dcterms:W3CDTF">2013-09-24T18:43:06Z</dcterms:modified>
  <cp:revision>57</cp:revision>
  <dc:subject/>
  <dc:title>Slide 1</dc:title>
</cp:coreProperties>
</file>