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D04-A05E-4E2A-BF71-C759C867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F1A8-67D1-4201-B84F-2B69258C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ECE-CBDE-441A-95B1-1DB6C4E6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C13-BE70-4BDB-9C00-E9648F63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6EE2-66C0-4032-838F-D56FBB58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6ECC-5D6A-4C53-9976-349AC127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41DF-329C-4497-8FBE-19D51AB4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21D3-A480-4C54-A70E-116390E8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E392-D000-401D-B5BD-FD9D5474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74D7-A888-401A-A19C-0478C6C8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EB7D-4350-4C57-9CE5-F4235CFD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5CB-3560-4AB5-8C6A-2D13C05C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ED50-B09C-45A3-A720-8D77FE72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5AEC-569B-4616-92BD-D0E9C6DA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51FA-66D8-428C-B60A-FB980E08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E813-B935-4C92-A2BA-67D8091F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B069-D104-4A75-9EF0-545F1A45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7ED-43D6-45C4-BD4A-9F3FAE63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DD4-12F2-4AA3-8ECA-E1CFF6EB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021-FBA0-4269-9F67-24012DC3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3C9-33B2-4C02-ADDB-4F4DC9EE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FD3-7EE6-4C81-9DB3-FFB2BB7F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A47-2CD7-4E47-96B3-98975138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196-972E-4729-8F14-CD8D9CAA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3479-470E-4D97-B4FA-9518DD2D9B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079B-22A1-4F0F-8FDA-3D32529BA3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The Southern Poverty 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Law Center: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How to Reduce Bullying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outhern Poverty Law Center is a nonprofit civil rights organization dedicated to fighting hate and bigotry, and to seeking justice for the most vulnerable members of society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HOW SAFE IS LNHS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nymous Surv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BULLIED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HEMES IN FOC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022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URAGE AND EMPAT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id Jamie hope to accomplish by filing a lawsu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think Jamie felt on a typical d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HEMES IN FOC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IMPACT OF BULLY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ALING WITH DISCRI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le did bystanders play in Jamie’s bull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some common misconceptions about bull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HEMES IN FOCU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KING HISTO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ANDING UP FOR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constitutional basis of Jamie’s case (Nabozny v. Podlesny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Jamie’s key messages when he speaks at the assemb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MAKING A DIFFEREN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v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el of Ca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 Acti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NORWAY STUDY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(P. 398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ychologist Dan Olweus (1991) curbed bullying in Norway b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ying all 90,000 schoolchildr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the data (that bullying was serious and widespread), communitywide meetings were held to explain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es discussed ways to prevent bull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selors intervened using a combination of mild punishments and intensive therapy with the bully and counseling with his/her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Youth Inf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lyinginfo 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 Schools Coal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schoolscoalitio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ittee for Child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fchildre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y, Lesbian and Straight Education Network (GLS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se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938400" y="289548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ARTICLE REAC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Bullying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your own words, how would you define bull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Bullying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sing, taunting or verbal ab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nching, shoving and physical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eading rum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uding someone from a 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ging up on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</a:t>
            </a:r>
            <a:r>
              <a:rPr b="0" i="1" lang="en-US" sz="4400" spc="-1" strike="noStrike">
                <a:solidFill>
                  <a:srgbClr val="dbbd71"/>
                </a:solidFill>
                <a:latin typeface="Arial"/>
              </a:rPr>
              <a:t>Cyberbullying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</a:t>
            </a:r>
            <a:r>
              <a:rPr b="0" i="1" lang="en-US" sz="4400" spc="-1" strike="noStrike">
                <a:solidFill>
                  <a:srgbClr val="dbbd71"/>
                </a:solidFill>
                <a:latin typeface="Arial"/>
              </a:rPr>
              <a:t>Cyberbullying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ding mean text, e-mail or instant mess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ing damaging pictures or hurtful messages in blogs or on Web s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eading rumors or lies about someone, sometimes using a fake ident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BULLYING BY THE NUMB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0,000… Estimated number of U.S. students who skip school daily to avoid being bull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2%... Students who report being bullied at school during the school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%... Gay or lesbian students who report being bull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BULLYING BY THE NUMB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22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0%... Teachers surveyed who say that educators “almost always” intervene when bullying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%... 9th graders who believe their teachers are interested in trying to stop bull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6%... Bullying victims who believe school professionals responded poorly to the bullying they observ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FACTS AND MYTHS ABOUT BULLI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UE OR FAL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arly one-third of American teens are involved in bully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wer than 10% of American teens admit to bullying oth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students who bully are insec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le bullies are not usually bigger or physically stronger than their pe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lies have trouble making frie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lies do poorly in school compared to students who do not bu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bullies discontinue aggressive behavior in adultho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3:51:16Z</dcterms:created>
  <dc:creator>dfrankum</dc:creator>
  <dc:description/>
  <dc:language>en-US</dc:language>
  <cp:lastModifiedBy>D. Mark Frankum</cp:lastModifiedBy>
  <dcterms:modified xsi:type="dcterms:W3CDTF">2011-03-05T17:05:51Z</dcterms:modified>
  <cp:revision>30</cp:revision>
  <dc:subject/>
  <dc:title>The Southern Poverty Law Center</dc:title>
</cp:coreProperties>
</file>