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EB6-EB5D-48FF-9BAC-4E5FE23D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AF5-8D5C-4013-9F58-1E70565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DEE-A6D4-4FBB-A169-FAC29796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EBE-8899-454E-83F8-6E4EBF59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547-CFE8-45C8-BD62-E6E5E5BC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7723-FEAE-438B-83BD-6D376799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AFF6-213E-4572-BB60-9CF657D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3D4C-D6DC-48E4-808B-A058ED8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10C-6EF9-46B4-8F3E-2708F729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468C-670F-4315-9095-0289DDB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6540-6FE8-47EA-A1EF-57618D4E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5E8-6760-416F-AA62-B867927D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B890-DA63-477D-9B83-24C5E6F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E3A-4502-43CA-BF98-97E489D1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33ED-A321-4D5A-B875-633F05C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F651-157A-41CB-81E2-A570DA38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94B9-7748-4DFB-936C-CFF405D3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1EE-D05F-4A4E-B7FE-5A69AD81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96C-E7D3-4EAD-A38C-1E143DF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149-D3EE-4D95-9F95-A3ACE9D2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589-F4FB-436F-874A-5EBA6B2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D11-BFBE-4833-84CA-193D460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312-FFD0-453D-AD60-BB17D67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0B4-9405-4AB3-930F-81269B5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6D4-BB97-4EEE-8B0A-4FDC4B0D65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E259-B3CF-4A4E-9DED-FFFCF02EC9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he Southern Poverty 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Law Center: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How to Reduce Bullying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uthern Poverty Law Center is a nonprofit civil rights organization dedicated to fighting hate and bigotry, and to seeking justice for the most vulnerable members of society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HOW SAFE IS LNH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nymous 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BULLIED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URAGE AND EMPA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d Jamie hope to accomplish by filing a lawsu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Jamie felt on a typical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MPACT OF BULLY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ALING WITH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id bystanders play in Jamie’s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common misconceptions about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KING HIS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NDING UP FOR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constitutional basis of Jamie’s case (Nabozny v. Podlesny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Jamie’s key messages when he speaks at the assemb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MAKING A DIFFER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el of C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NORWAY STUDY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P. 39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st Dan Olweus (1991) curbed bullying in Norway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ing all 90,000 school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data (that bullying was serious and widespread), communitywide meetings were held to explain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es discussed ways to prevent bul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selors intervened using a combination of mild punishments and intensive therapy with the bully and counseling with his/her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Youth Inf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yinginfo 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Schools Coal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schoolscoalitio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ittee for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fchildre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y, Lesbian and Straight Education Network (GLS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se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38400" y="28954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RTICLE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own words, how would you define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sing, taunting or verbal ab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hing, shoving and physical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eading rum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ing someone from a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ing up on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ing mean text, e-mail or instant mess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ing damaging pictures or hurtful messages in blogs or on Web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eading rumors or lies about someone, sometimes using a fake id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BULLYING BY THE NUMB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,000… Estimated number of U.S. students who skip school daily to avoid being bull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2%... Students who report being bullied at school during the school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%... Gay or lesbian students who report being bull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BULLYING BY THE NUMB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%... Teachers surveyed who say that educators “almost always” intervene when bullying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... 9th graders who believe their teachers are interested in trying to stop bul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6%... Bullying victims who believe school professionals responded poorly to the bullying they observ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FACTS AND MYTHS ABOUT BULLI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UE OR FAL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one-third of American teens are involved in bully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er than 10% of American teens admit to bullying ot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students who bully are insec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e bullies are not usually bigger or physically stronger than their pe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ies have trouble making frie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ies do poorly in school compared to students who do not bu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bullies discontinue aggressive behavior in adulth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3:51:16Z</dcterms:created>
  <dc:creator>dfrankum</dc:creator>
  <dc:description/>
  <dc:language>en-US</dc:language>
  <cp:lastModifiedBy>D. Mark Frankum</cp:lastModifiedBy>
  <dcterms:modified xsi:type="dcterms:W3CDTF">2011-03-05T17:05:51Z</dcterms:modified>
  <cp:revision>30</cp:revision>
  <dc:subject/>
  <dc:title>The Southern Poverty Law Center</dc:title>
</cp:coreProperties>
</file>