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28A-63F3-45DB-8992-A02F0EA4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FB6-A81A-4E2A-B240-1842B297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841-E023-43D0-B4F0-D37DA718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E21-9D4B-4114-943B-F9C63011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031B-B454-4166-AEC4-579CAE59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20C9-8429-4CC4-81A2-75A1FFA0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F750-5D2E-4919-8B9D-679A2F3D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87CD-B980-4BD3-9E76-7DE650F0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3309-FF20-48C3-A0F1-4D2021F8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809C-DBD1-4BB4-A108-34A81EE8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CB3B-5B1A-4F76-95C0-F3DA90AF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921-1D9F-45A8-92C3-82B510F6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FAA7-198F-42B5-A9C6-6AE5587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463C-3CCC-4B15-A625-8070645C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0232-DC4F-40EA-85B9-15E3732E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5990-1E16-4C20-A898-8B0B5E9A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D2FA-05B9-4E84-9860-D1BC4E08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C8F-3FA1-4982-B4B7-90EF869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E22-19EF-4469-897A-2DF4D80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310-BA49-4804-B52B-5689CFBB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4B9-C197-4B8A-9C23-14FF3722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D54-3D45-49A5-8D1C-8043193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20A-EC32-4E01-BEFA-D65D370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FDF-10B4-4E1E-8F4E-B94FA14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36AC-25DB-459B-8D8D-65F5AC54C0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B5D6-E0A9-40EE-AED9-389B094D9C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The Southern Poverty 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Law Center: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How to Reduce Bullying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outhern Poverty Law Center is a nonprofit civil rights organization dedicated to fighting hate and bigotry, and to seeking justice for the most vulnerable members of society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HOW SAFE IS LNHS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nymous Surv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BULLIED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HEMES IN FOC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URAGE AND EMPAT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id Jamie hope to accomplish by filing a lawsu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Jamie felt on a typical 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HEMES IN FOC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IMPACT OF BULLY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ALING WITH DISCRI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 did bystanders play in Jamie’s bul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some common misconceptions about bul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HEMES IN FOC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KING HIST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NDING UP FOR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constitutional basis of Jamie’s case (Nabozny v. Podlesny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Jamie’s key messages when he speaks at the assemb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MAKING A DIFFEREN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v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el of C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 Ac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NORWAY STUDY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(P. 398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ychologist Dan Olweus (1991) curbed bullying in Norway b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ing all 90,000 schoolchildr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data (that bullying was serious and widespread), communitywide meetings were held to explain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es discussed ways to prevent bull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selors intervened using a combination of mild punishments and intensive therapy with the bully and counseling with his/her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Youth Inf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yinginfo 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Schools Coal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schoolscoalitio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ittee for Child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fchildre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y, Lesbian and Straight Education Network (GLS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se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38400" y="28954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ARTICLE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Bullying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your own words, how would you define bul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Bullying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sing, taunting or verbal ab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nching, shoving and physical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eading rum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ing someone from a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ing up on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Cyberbullying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Cyberbullying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ing mean text, e-mail or instant mess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ing damaging pictures or hurtful messages in blogs or on Web s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eading rumors or lies about someone, sometimes using a fake ident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BULLYING BY THE NUMB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0,000… Estimated number of U.S. students who skip school daily to avoid being bull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2%... Students who report being bullied at school during the school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%... Gay or lesbian students who report being bull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BULLYING BY THE NUMB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%... Teachers surveyed who say that educators “almost always” intervene when bullying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%... 9th graders who believe their teachers are interested in trying to stop bull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6%... Bullying victims who believe school professionals responded poorly to the bullying they observ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FACTS AND MYTHS ABOUT BULLI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UE OR FAL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rly one-third of American teens are involved in bully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wer than 10% of American teens admit to bullying oth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students who bully are insec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e bullies are not usually bigger or physically stronger than their pe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ies have trouble making frie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ies do poorly in school compared to students who do not bu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bullies discontinue aggressive behavior in adulth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3:51:16Z</dcterms:created>
  <dc:creator>dfrankum</dc:creator>
  <dc:description/>
  <dc:language>en-US</dc:language>
  <cp:lastModifiedBy>D. Mark Frankum</cp:lastModifiedBy>
  <dcterms:modified xsi:type="dcterms:W3CDTF">2011-03-05T17:05:51Z</dcterms:modified>
  <cp:revision>30</cp:revision>
  <dc:subject/>
  <dc:title>The Southern Poverty Law Center</dc:title>
</cp:coreProperties>
</file>