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C9CB-C140-48DC-8BF6-9C3CA3AA9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5AC7-076C-4F26-8A30-E0131C735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4AAF-A9F4-4D22-9BE6-0CDF5049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C29-7ED8-413A-8513-4C82E22CE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922-EA04-4AB7-84EC-59101504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B7F-F184-4409-8D41-8C7CB07B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AE00-A357-4E6B-96F3-FBB160AB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06C1-F6B4-4E26-BDC2-8AB59B4C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3D4B-8788-4D8A-8EEF-5447A9EA0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FA93-B44C-4C5B-8855-32052494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E6E4-13FC-401C-961B-91BD52EDE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0797-DE3D-4A01-B52F-94B25F99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F50B-B46D-4978-B7AA-F0EF17A30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E0FD-5BE3-43C5-AD2A-4FC526455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E406-B446-4066-A1F0-34E2C4104E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05D3-4354-441C-8D6D-3271FC3004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ADD-082C-4F9B-BC30-F8E98C18799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4B6F-CE7F-4D22-A365-9453FAE0F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24F3-367D-449F-8830-DF11563143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C80F-0157-4E9A-AD4E-5D58668AAB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160D-E9FF-4DE2-9D6D-66CDC862B8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C011-52BE-4DDE-AFFB-D66853BC27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20D4-49C6-49BE-B309-D417AEA6DA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AE97-C4A6-4453-90FD-B90FC5A89F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950F-9140-4EDA-8C44-E4206C5AA1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485-74EC-41A1-814F-66FD479DF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103-112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Methods of Treatme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Behavior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533520" y="977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erapeutic application of learning-based techn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Behavior Therapy Techniqu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533520" y="1066680"/>
            <a:ext cx="85341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ystematic desensitization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behavior therapy technique for overcoming phobias by means of exposure to progressively more fearful stimuli while one remains deeply relax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radual exposure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behavior therapy  technique for overcoming fears through direct exposure to increasingly fearfu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imu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Modeling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A behavior therapy technique for helping an individual acquire a new behavior by means of having a therapist or another individual demonstrate a target behavior that is then imitated by the cl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oken econom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Behavioral treatment program in which a controlled environment is constructed such that people are reinforced for desired behaviors by receiving tokens that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Humanist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533520" y="1103400"/>
            <a:ext cx="853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umanistic therapists focus on clients’ subjective, conscious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ke behavior therapists, humanistic therapists also focus more on what clients are experiencing in the present—the here and now—than on the p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ajor form of humanistic therapy is person-centered therapy (also called client-centered therapy), which was developed by the psychologist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arl Roger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-Centered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533520" y="120636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establishment of a warm, accepting therapeutic relationship that frees clients to engage in self-exploration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chieve self-accept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-centered therapy is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nondirectiv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… client, not the therapist, takes the l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erapist uses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reflection…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restating or paraphrasing of the client’s expressed feelings without interpreting them or passing judgment on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alities and Attributes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-Centered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533520" y="183204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Unconditional positive regard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expression of unconditional acceptance of another person’s basic worth as a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Empath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ability to understand someone’s experiences and feelings from that person’s point of vie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enuinenes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ability to recognize and express one’s true feel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ongruen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fit between one’s thoughts, behaviors, and feel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Student"/>
          <p:cNvPicPr/>
          <p:nvPr/>
        </p:nvPicPr>
        <p:blipFill>
          <a:blip r:embed="rId1"/>
          <a:stretch/>
        </p:blipFill>
        <p:spPr>
          <a:xfrm>
            <a:off x="4191120" y="2666880"/>
            <a:ext cx="1407960" cy="19828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257800" y="2362320"/>
            <a:ext cx="1600200" cy="685800"/>
          </a:xfrm>
          <a:prstGeom prst="wedgeEllipseCallout">
            <a:avLst>
              <a:gd name="adj1" fmla="val -46430"/>
              <a:gd name="adj2" fmla="val 56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entury Gothic"/>
              </a:rPr>
              <a:t>TREATMENT VARIABLES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esire/Motiv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ost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TYPES OF HELPING PROFESSIONAL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58784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PSYCHO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TextBox 4"/>
          <p:cNvSpPr/>
          <p:nvPr/>
        </p:nvSpPr>
        <p:spPr>
          <a:xfrm>
            <a:off x="533520" y="838080"/>
            <a:ext cx="8534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therap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– Also known as “talking therapy” is a structured form of treatment derived from a psychological framework that consists of one or more verbal interactions or treatment sessions between a client and a therapis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eatures of psychotherap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Systematic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Psychological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Behavior, thoughts, and feel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Abnormal behavior, problem solving, and personal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   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Nonspecific treatment factor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Factors not specific to any one form of psychotherapy, such as therapist attention and support, and creating positive expectancies of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Psychodynam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533520" y="100332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analys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method of psychotherapy developed by Sigmund Freu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dynamic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rapy that helps individuals gain insight into, and resolve, unconscious confli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Free association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method of verbalizing thoughts as they occur without a conscious attempt to edit or censure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ream Analysi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TextBox 5"/>
          <p:cNvSpPr/>
          <p:nvPr/>
        </p:nvSpPr>
        <p:spPr>
          <a:xfrm>
            <a:off x="914400" y="55627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eud believed that dreams represent the “royal road to the unconscious.” Dream interpretation was one of the principal techniques that Freud used to uncover unconscious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5764320" cy="47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ream Analysi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533520" y="1373040"/>
            <a:ext cx="8534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 psychoanalytic theory, dreams have two levels of content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Manifest cont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the material of the dream the dreamer experiences and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Latent cont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: the unconscious material the dream symbolizes or repres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itle 1"/>
          <p:cNvSpPr/>
          <p:nvPr/>
        </p:nvSpPr>
        <p:spPr>
          <a:xfrm>
            <a:off x="685800" y="763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ns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533520" y="1038240"/>
            <a:ext cx="8534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ransference relationship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In psychoanalysis, the client’s transfer or generalization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o the analys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of feelings and attitudes the client holds toward important figures in his or her life; considered an essential component of psychoanalysi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ountertransferenc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In psychoanalysis, the transfer of feelings or attitudes that the analyst holds toward other persons in her or his life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onto the clien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odern Psychodynamic Approach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533520" y="97776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ke Freudian psychoanalysis, the newer psychodynamic approaches aim to uncover unconscious motives and break down resistances and psychological defen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y focus more on the client’s present relationships and encourage the client to make adaptive behavior chang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ny contemporary psychodynamic therapists draw more heavily on the ideas of Erik Erikson, Karen Horney, and other theorists than on Freud’s ide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 </dc:creator>
  <dc:description/>
  <dc:language>en-US</dc:language>
  <cp:lastModifiedBy>D. Mark Frankum</cp:lastModifiedBy>
  <dcterms:modified xsi:type="dcterms:W3CDTF">2011-10-15T16:19:00Z</dcterms:modified>
  <cp:revision>58</cp:revision>
  <dc:subject/>
  <dc:title>Slide 1</dc:title>
</cp:coreProperties>
</file>