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1939F-84F2-4CEF-BDF3-B977BAF2AB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FC7F3-E917-47DD-9992-5FBF4BFD0E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29D1D-AD5E-4045-BE2A-BC640344D5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FC087-6B38-4114-A8BA-7DCA59CB6C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38127-B000-49F6-BAE2-3BF9DDFA7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79466-B9DC-4C27-8DB2-1211F55B3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44A52-E065-46D7-9261-FFBC5768B9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E2125-1A9E-45BC-A4D6-B57528E08E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96E96-25D8-4006-8774-1CF8DDB08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06F6E-8EC9-4744-88DE-29421C549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B709F-658F-4777-80E5-3E9362DF3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E9565-F473-4C9C-B928-00A46DB95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05677-DD93-42B8-ADD3-69CF726E7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0FB0B-14E0-4B71-8259-2982788167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5F1CB-AAA4-40FC-8E41-E89201CC77F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94F0D-8ABD-42D7-96C5-61FE7D04C309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82461-C202-4966-A0DB-7B3792CE68D5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13BAC-86D8-47AD-A398-8B124E7BF9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D6AA6-EE01-415F-83EC-828D60DB729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E8049-2C26-4C70-9443-29FDC2D0AE2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D788C-30F3-437A-A940-004E341F9E0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4D553-BE2D-4F1F-9C28-5AFBBB70842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00648-1069-42BB-B107-7DB698B70A0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FBA09-7BD2-4280-9FF0-43F9EC3EB57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5CE1B-A85A-4446-A1AD-CEEB5F12B04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" name="Picture 4" descr="nevid_7e_spine"/>
          <p:cNvPicPr/>
          <p:nvPr/>
        </p:nvPicPr>
        <p:blipFill>
          <a:blip r:embed="rId2"/>
          <a:stretch/>
        </p:blipFill>
        <p:spPr>
          <a:xfrm>
            <a:off x="0" y="0"/>
            <a:ext cx="55548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761E9-82EF-417E-80AC-57F44F3E1F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4" descr="nevid_7e_spine"/>
          <p:cNvPicPr/>
          <p:nvPr/>
        </p:nvPicPr>
        <p:blipFill>
          <a:blip r:embed="rId2"/>
          <a:stretch/>
        </p:blipFill>
        <p:spPr>
          <a:xfrm>
            <a:off x="0" y="0"/>
            <a:ext cx="555480" cy="685800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4" descr="nevid_7e_spine"/>
          <p:cNvPicPr/>
          <p:nvPr/>
        </p:nvPicPr>
        <p:blipFill>
          <a:blip r:embed="rId2"/>
          <a:stretch/>
        </p:blipFill>
        <p:spPr>
          <a:xfrm>
            <a:off x="0" y="0"/>
            <a:ext cx="555480" cy="6858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4" descr="nevid_7e_spine"/>
          <p:cNvPicPr/>
          <p:nvPr/>
        </p:nvPicPr>
        <p:blipFill>
          <a:blip r:embed="rId2"/>
          <a:stretch/>
        </p:blipFill>
        <p:spPr>
          <a:xfrm>
            <a:off x="0" y="0"/>
            <a:ext cx="555480" cy="685800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4"/>
          <p:cNvSpPr/>
          <p:nvPr/>
        </p:nvSpPr>
        <p:spPr>
          <a:xfrm>
            <a:off x="838080" y="0"/>
            <a:ext cx="746784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Abnormal Psychology in a Changing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SEVENTH E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Jeffrey S. Nevid / Spencer A. Rathus / Beverly Gre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5" descr="nevid_7e_COVER"/>
          <p:cNvPicPr/>
          <p:nvPr/>
        </p:nvPicPr>
        <p:blipFill>
          <a:blip r:embed="rId2"/>
          <a:stretch/>
        </p:blipFill>
        <p:spPr>
          <a:xfrm>
            <a:off x="609480" y="2286000"/>
            <a:ext cx="3587760" cy="42339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ph_logo"/>
          <p:cNvPicPr/>
          <p:nvPr/>
        </p:nvPicPr>
        <p:blipFill>
          <a:blip r:embed="rId3"/>
          <a:stretch/>
        </p:blipFill>
        <p:spPr>
          <a:xfrm>
            <a:off x="8477280" y="6354720"/>
            <a:ext cx="666720" cy="5032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4800600" y="6381360"/>
            <a:ext cx="3733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nevid_7e_spine"/>
          <p:cNvPicPr/>
          <p:nvPr/>
        </p:nvPicPr>
        <p:blipFill>
          <a:blip r:embed="rId2"/>
          <a:stretch/>
        </p:blipFill>
        <p:spPr>
          <a:xfrm>
            <a:off x="0" y="0"/>
            <a:ext cx="55548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nevid_7e_spine"/>
          <p:cNvPicPr/>
          <p:nvPr/>
        </p:nvPicPr>
        <p:blipFill>
          <a:blip r:embed="rId2"/>
          <a:stretch/>
        </p:blipFill>
        <p:spPr>
          <a:xfrm>
            <a:off x="0" y="0"/>
            <a:ext cx="55548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nevid_7e_spine"/>
          <p:cNvPicPr/>
          <p:nvPr/>
        </p:nvPicPr>
        <p:blipFill>
          <a:blip r:embed="rId2"/>
          <a:stretch/>
        </p:blipFill>
        <p:spPr>
          <a:xfrm>
            <a:off x="0" y="0"/>
            <a:ext cx="55548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nevid_7e_spine"/>
          <p:cNvPicPr/>
          <p:nvPr/>
        </p:nvPicPr>
        <p:blipFill>
          <a:blip r:embed="rId2"/>
          <a:stretch/>
        </p:blipFill>
        <p:spPr>
          <a:xfrm>
            <a:off x="0" y="0"/>
            <a:ext cx="55548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4" descr="nevid_7e_spine"/>
          <p:cNvPicPr/>
          <p:nvPr/>
        </p:nvPicPr>
        <p:blipFill>
          <a:blip r:embed="rId2"/>
          <a:stretch/>
        </p:blipFill>
        <p:spPr>
          <a:xfrm>
            <a:off x="0" y="0"/>
            <a:ext cx="55548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nevid_7e_spine"/>
          <p:cNvPicPr/>
          <p:nvPr/>
        </p:nvPicPr>
        <p:blipFill>
          <a:blip r:embed="rId2"/>
          <a:stretch/>
        </p:blipFill>
        <p:spPr>
          <a:xfrm>
            <a:off x="0" y="0"/>
            <a:ext cx="555480" cy="68580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4" descr="nevid_7e_spine"/>
          <p:cNvPicPr/>
          <p:nvPr/>
        </p:nvPicPr>
        <p:blipFill>
          <a:blip r:embed="rId2"/>
          <a:stretch/>
        </p:blipFill>
        <p:spPr>
          <a:xfrm>
            <a:off x="0" y="0"/>
            <a:ext cx="555480" cy="685800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723920" y="2590920"/>
            <a:ext cx="396252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hapter 4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(Pp 103-112)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entury Gothic"/>
              </a:rPr>
              <a:t>Methods of Treatmen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Century Gothic"/>
              </a:rPr>
              <a:t>Behavior Therapy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7" name="TextBox 4"/>
          <p:cNvSpPr/>
          <p:nvPr/>
        </p:nvSpPr>
        <p:spPr>
          <a:xfrm>
            <a:off x="533520" y="977760"/>
            <a:ext cx="8534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The therapeutic application of learning-based techniqu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Century Gothic"/>
              </a:rPr>
              <a:t>Behavior Therapy Techniques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9" name="TextBox 4"/>
          <p:cNvSpPr/>
          <p:nvPr/>
        </p:nvSpPr>
        <p:spPr>
          <a:xfrm>
            <a:off x="533520" y="1066680"/>
            <a:ext cx="853416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Systematic desensitization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- A behavior therapy technique for overcoming phobias by means of exposure to progressively more fearful stimuli while one remains deeply relax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Gradual exposure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- A behavior therapy  technique for overcoming fears through direct exposure to increasingly fearfu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stimul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Modeling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- A behavior therapy technique for helping an individual acquire a new behavior by means of having a therapist or another individual demonstrate a target behavior that is then imitated by the cli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Token economy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- Behavioral treatment program in which a controlled environment is constructed such that people are reinforced for desired behaviors by receiving tokens that m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4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4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Century Gothic"/>
              </a:rPr>
              <a:t>Humanistic Therapy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1" name="TextBox 4"/>
          <p:cNvSpPr/>
          <p:nvPr/>
        </p:nvSpPr>
        <p:spPr>
          <a:xfrm>
            <a:off x="533520" y="1103400"/>
            <a:ext cx="8534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Humanistic therapists focus on clients’ subjective, conscious experie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Like behavior therapists, humanistic therapists also focus more on what clients are experiencing in the present—the here and now—than on the pa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major form of humanistic therapy is person-centered therapy (also called client-centered therapy), which was developed by the psychologist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Carl Rogers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Person-Centered Therapy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3" name="TextBox 4"/>
          <p:cNvSpPr/>
          <p:nvPr/>
        </p:nvSpPr>
        <p:spPr>
          <a:xfrm>
            <a:off x="533520" y="1206360"/>
            <a:ext cx="85341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The establishment of a warm, accepting therapeutic relationship that frees clients to engage in self-exploration an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achieve self-acceptan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Person-centered therapy is </a:t>
            </a:r>
            <a:r>
              <a:rPr b="0" i="1" lang="en-US" sz="2200" spc="-1" strike="noStrike">
                <a:solidFill>
                  <a:srgbClr val="000000"/>
                </a:solidFill>
                <a:latin typeface="Georgia"/>
              </a:rPr>
              <a:t>nondirective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… client, not the therapist, takes the le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The therapist uses </a:t>
            </a:r>
            <a:r>
              <a:rPr b="0" i="1" lang="en-US" sz="2200" spc="-1" strike="noStrike">
                <a:solidFill>
                  <a:srgbClr val="000000"/>
                </a:solidFill>
                <a:latin typeface="Georgia"/>
              </a:rPr>
              <a:t>reflection…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the restating or paraphrasing of the client’s expressed feelings without interpreting them or passing judgment on th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5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5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Qualities and Attributes of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Person-Centered Therapy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5" name="TextBox 4"/>
          <p:cNvSpPr/>
          <p:nvPr/>
        </p:nvSpPr>
        <p:spPr>
          <a:xfrm>
            <a:off x="533520" y="1832040"/>
            <a:ext cx="85341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Unconditional positive regard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- The expression of unconditional acceptance of another person’s basic worth as a pers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Empathy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- The ability to understand someone’s experiences and feelings from that person’s point of view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Genuineness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- The ability to recognize and express one’s true feel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Congruence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- The fit between one’s thoughts, behaviors, and feel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5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" descr="Student"/>
          <p:cNvPicPr/>
          <p:nvPr/>
        </p:nvPicPr>
        <p:blipFill>
          <a:blip r:embed="rId1"/>
          <a:stretch/>
        </p:blipFill>
        <p:spPr>
          <a:xfrm>
            <a:off x="4191120" y="2666880"/>
            <a:ext cx="1407960" cy="198288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/>
          <p:nvPr/>
        </p:nvSpPr>
        <p:spPr>
          <a:xfrm>
            <a:off x="5257800" y="2362320"/>
            <a:ext cx="1600200" cy="685800"/>
          </a:xfrm>
          <a:prstGeom prst="wedgeEllipseCallout">
            <a:avLst>
              <a:gd name="adj1" fmla="val -46430"/>
              <a:gd name="adj2" fmla="val 5671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830592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entury Gothic"/>
              </a:rPr>
              <a:t>TREATMENT VARIABLES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Desire/Motivation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ost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entury Gothic"/>
              </a:rPr>
              <a:t>TYPES OF HELPING PROFESSIONALS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2286000" y="685800"/>
            <a:ext cx="4587840" cy="6172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entury Gothic"/>
              </a:rPr>
              <a:t>PSYCHOTHERAPY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4" name="TextBox 4"/>
          <p:cNvSpPr/>
          <p:nvPr/>
        </p:nvSpPr>
        <p:spPr>
          <a:xfrm>
            <a:off x="533520" y="838080"/>
            <a:ext cx="85341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Psychotherapy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– Also known as “talking therapy” is a structured form of treatment derived from a psychological framework that consists of one or more verbal interactions or treatment sessions between a client and a therapis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Features of psychotherap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1.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Georgia"/>
              </a:rPr>
              <a:t>Systematic inter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2.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Georgia"/>
              </a:rPr>
              <a:t>Psychological princip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3.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Georgia"/>
              </a:rPr>
              <a:t>Behavior, thoughts, and feelin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4.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Georgia"/>
              </a:rPr>
              <a:t>Abnormal behavior, problem solving, and personal </a:t>
            </a:r>
            <a:r>
              <a:rPr b="0" i="1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Georgia"/>
              </a:rPr>
              <a:t>    growt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Nonspecific treatment factors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- Factors not specific to any one form of psychotherapy, such as therapist attention and support, and creating positive expectancies of 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Century Gothic"/>
              </a:rPr>
              <a:t>Psychodynamic Therapy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6" name="TextBox 4"/>
          <p:cNvSpPr/>
          <p:nvPr/>
        </p:nvSpPr>
        <p:spPr>
          <a:xfrm>
            <a:off x="533520" y="1003320"/>
            <a:ext cx="8534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Psychoanalysis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- The method of psychotherapy developed by Sigmund Freu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Psychodynamic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- Therapy that helps individuals gain insight into, and resolve, unconscious conflic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Free association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- The method of verbalizing thoughts as they occur without a conscious attempt to edit or censure th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4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Dream Analysis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8" name="TextBox 5"/>
          <p:cNvSpPr/>
          <p:nvPr/>
        </p:nvSpPr>
        <p:spPr>
          <a:xfrm>
            <a:off x="914400" y="5562720"/>
            <a:ext cx="784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Freud believed that dreams represent the “royal road to the unconscious.” Dream interpretation was one of the principal techniques that Freud used to uncover unconscious materi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1"/>
          <a:stretch/>
        </p:blipFill>
        <p:spPr>
          <a:xfrm>
            <a:off x="1981080" y="762120"/>
            <a:ext cx="5764320" cy="4705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Dream Analysis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1" name="TextBox 4"/>
          <p:cNvSpPr/>
          <p:nvPr/>
        </p:nvSpPr>
        <p:spPr>
          <a:xfrm>
            <a:off x="533520" y="1373040"/>
            <a:ext cx="853416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In psychoanalytic theory, dreams have two levels of content: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1.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Georgia"/>
              </a:rPr>
              <a:t>Manifest content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: the material of the dream the dreamer experiences and repo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2.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Georgia"/>
              </a:rPr>
              <a:t>Latent content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: the unconscious material the dream symbolizes or repres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itle 1"/>
          <p:cNvSpPr/>
          <p:nvPr/>
        </p:nvSpPr>
        <p:spPr>
          <a:xfrm>
            <a:off x="685800" y="76320"/>
            <a:ext cx="8305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rans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Box 4"/>
          <p:cNvSpPr/>
          <p:nvPr/>
        </p:nvSpPr>
        <p:spPr>
          <a:xfrm>
            <a:off x="533520" y="1038240"/>
            <a:ext cx="85341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Transference relationship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- In psychoanalysis, the client’s transfer or generalization </a:t>
            </a:r>
            <a:r>
              <a:rPr b="0" i="1" lang="en-US" sz="2200" spc="-1" strike="noStrike">
                <a:solidFill>
                  <a:srgbClr val="000000"/>
                </a:solidFill>
                <a:latin typeface="Georgia"/>
              </a:rPr>
              <a:t>to the analyst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of feelings and attitudes the client holds toward important figures in his or her life; considered an essential component of psychoanalysis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Countertransference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- In psychoanalysis, the transfer of feelings or attitudes that the analyst holds toward other persons in her or his life </a:t>
            </a:r>
            <a:r>
              <a:rPr b="0" i="1" lang="en-US" sz="2200" spc="-1" strike="noStrike">
                <a:solidFill>
                  <a:srgbClr val="000000"/>
                </a:solidFill>
                <a:latin typeface="Georgia"/>
              </a:rPr>
              <a:t>onto the client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Modern Psychodynamic Approaches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5" name="TextBox 4"/>
          <p:cNvSpPr/>
          <p:nvPr/>
        </p:nvSpPr>
        <p:spPr>
          <a:xfrm>
            <a:off x="533520" y="977760"/>
            <a:ext cx="85341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Like Freudian psychoanalysis, the newer psychodynamic approaches aim to uncover unconscious motives and break down resistances and psychological defens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They focus more on the client’s present relationships and encourage the client to make adaptive behavior chang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Many contemporary psychodynamic therapists draw more heavily on the ideas of Erik Erikson, Karen Horney, and other theorists than on Freud’s ide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01:16:07Z</dcterms:created>
  <dc:creator> </dc:creator>
  <dc:description/>
  <dc:language>en-US</dc:language>
  <cp:lastModifiedBy>D. Mark Frankum</cp:lastModifiedBy>
  <dcterms:modified xsi:type="dcterms:W3CDTF">2011-10-15T16:19:00Z</dcterms:modified>
  <cp:revision>58</cp:revision>
  <dc:subject/>
  <dc:title>Slide 1</dc:title>
</cp:coreProperties>
</file>