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F4A-CE67-4213-8BDB-A378B688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F8E-D9EF-40B0-92E5-9CD00E27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6F7-F159-4B67-925D-B77A9824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92F-C082-48FA-BBD0-EB737181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2D5-40E5-4888-949E-C7E3F963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CB9-6F56-48BA-96C5-11E4F005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726-7769-4A46-9F68-911083A0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ABA-A2A0-45DA-BA06-6552EAE6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11A8-B3A1-4ABC-9BF7-102D55BC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491-BBAB-43CF-A53D-ECFEA446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868-5566-4F62-9D7B-2A5B90D6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88F-F85F-474D-B028-8DF4110B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B22C-8EF7-4BBB-9115-4A8E0E6F8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search Methods in Psycholog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p 1-3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ampling in Quantitative and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ve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sample that represents a target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random sampling (SRS) and stratified random samp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kind of sampling that allows for the generalization of study results (unless triangulation is u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ampling in Quantitative and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representative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sampling- used by most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ive sampling- selecting a sample for a particular purpose; participants have particular characteristics (age, gender etc) based o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ypes of Purposive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experts on a topic or people selected because of common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owball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ing an expert who then suggests the next expert participant and so on (Rosenthal, 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thical Considerations in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ed cons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ity and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protected from potential h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s protected from potential h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Lewis (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Why are women from Venus and men from M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2514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Gray (1996) tried to answer this question in his book but is his theory the best ou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urrent theories should ha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iangul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earch before being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rian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19320" y="2514240"/>
            <a:ext cx="6781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use of two or more methods of data collection in the study of some aspect of human behavior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Manion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Types of Triangul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 data gathered with qualitative meth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rian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ian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analysis in trian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 trian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/respondent trian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The Effect of Triangulation on the Credibility/Trustworthiness of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the results of qualitative research more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multiple sources increases the credibility of data gathered with qualitativ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eneralizing Findings From Qualitative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resentational Gener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ing outside th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high-quality purposiv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dvised by some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eneralizing Findings From Qualitative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ential Gener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ing outside the study conditions to other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ck descri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tudy setting, the observations and participant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esearch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y particular attention to research studies cited throughout your textbook(s) as you prepare          to respond t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IB Learning 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eneralizing Findings From Qualitative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etical Gener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ng to theories about human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need to be checked against the results of other studies on a simila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eneralizing Findings From Qualitative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ability and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trust that experie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fairly similar from one context to an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researcher interpretations include a detailed statement of reflexivity and are procedures clearly outlined with thick descrip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ffects of Participant Expectations and Researcher 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re potential challenges for qualitative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participant expectations through careful planning (ie, interview questions); conduct a covert observation study (ethical concer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researcher bias with a detailed statement of reflexivity (interviews) or use of thick descriptions (observation stud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mportance of Credibility in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ing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reflex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 things to increase the generalizibility of th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ing triangulation (appropriate for qualitative resea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mportance of Credibility in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8288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ing the Quality of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he categories generated in the interpretation are a good fit with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describe the life circumstances of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interpretations against those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whether the results are transferable to other people and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457200"/>
            <a:ext cx="82296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flexivity in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7524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reflex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that researchers reflect on the way their values, experiences and social identities influence th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istemological reflex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that researchers have considered their assumptions about the nature of the world and the nature of knowledge that relates to a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flexivity in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research is high in 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ds in generalizing from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836600" y="175248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2568600" cy="3425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1523880"/>
            <a:ext cx="2286000" cy="1143000"/>
          </a:xfrm>
          <a:prstGeom prst="wedgeEllipseCallout">
            <a:avLst>
              <a:gd name="adj1" fmla="val -47500"/>
              <a:gd name="adj2" fmla="val 5402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eneral Approaches to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ntitative vs Qualit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 method serves a different purpose and is selected depending on what we want to know about behavior; researchers frequently combine bot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xamples of Quant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352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xamples of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572000"/>
            <a:ext cx="8305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Quantitative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ow and fo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struc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cological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Qualitative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288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rich range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the natural environment of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sely structured (or unstructu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cological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mic vs E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alitative method i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roach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behavior which delve in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perspective of individuals and/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ometimes challenges the assu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niversal behaviors) which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have at the beginning of research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rengths of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64628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choice for studying the context of a person (how a person makes meaning in a situation or documents a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s the richness and complexities of real-life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y for studying certain behavio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s the limitations of quantitativ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imitations of Qualitative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ntrolled and hard to re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in population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ce qualitative research is supposed to portray the context of participants, we should not criticize the research for meeting its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3:51:57Z</dcterms:created>
  <dc:creator>D. Mark Frankum</dc:creator>
  <dc:description/>
  <dc:language>en-US</dc:language>
  <cp:lastModifiedBy>D. Mark Frankum</cp:lastModifiedBy>
  <dcterms:modified xsi:type="dcterms:W3CDTF">2011-07-19T17:53:32Z</dcterms:modified>
  <cp:revision>93</cp:revision>
  <dc:subject/>
  <dc:title>Triangulation</dc:title>
</cp:coreProperties>
</file>