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13E-6EA8-4705-B720-9E8A9F95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4C5-51CF-427B-A60B-87C84629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544-9EA9-46C5-9AA8-1F955E13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241-5CB3-4CED-9A61-5B675E4E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A3B-437E-4D5A-9592-B0ED0678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E21-F9B8-4244-ADC0-44378E6D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E0B-6BC1-4D3C-A203-5C1A73B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328-990E-4AC9-B068-D9555FB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22D-97EC-4E47-A00B-A54A9FE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E8E-6771-44B3-AF70-727CBC9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3C8-709D-4B07-80DE-0E26414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ABF-5BDE-47AF-A3C9-FA8912E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318-04BB-456B-B64D-AC255014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p 1-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sample that represents a targe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ing (SRS) and stratified random samp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kind of sampling that allows for the generalization of study results (unless triangulation i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representativ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sampling- used by most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ive sampling- selecting a sample for a particular purpose; participants have particular characteristics (age, gender etc) based 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ypes of Purposiv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experts on a topic or people selected because of comm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bal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 an expert who then suggests the next expert participant and so on (Rosenthal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hical Considerations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d cons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and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Lewis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y are women from Venus and men from M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Gray (1996) tried to answer this question in his book but is his theory the best ou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urrent theories should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iangu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earch before being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use of two or more methods of data collection in the study of some aspect of human behavior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Manion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ypes of Triangul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data gathered with qualitative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nalysis in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/respondent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Effect of Triangulation on the Credibility/Trustworthines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results of qualitative research more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ultiple sources increases the credibility of data gathered with qualita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tion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high-quality purposiv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dvised by some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tudy conditions to other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ck descri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udy setting, the observations and participant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search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 particular attention to research studies cited throughout your textbook(s) as you prepare          to respond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IB Learning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etic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to theories about huma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need to be checked against the results of other studies on a simila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 and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trust that experi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airly similar from one context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searcher interpretations include a detailed statement of reflexivity and are procedures clearly outlined with thick descrip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ffects of Participant Expectations and Researcher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potential challenges for qualitativ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articipant expectations through careful planning (ie, interview questions); conduct a covert observation study (ethical conce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searcher bias with a detailed statement of reflexivity (interviews) or use of thick descriptions (observation stu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flex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things to increase the generalizibility of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ing triangulation (appropriate for qualitative re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the Quality o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he categories generated in the interpretation are a good fit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scribe the life circumstances of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nterpretations against those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whether the results are transferable to other people and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457200"/>
            <a:ext cx="8229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reflect on the way their values, experiences and social identities influence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stemologic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have considered their assumptions about the nature of the world and the nature of knowledge that relates to a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research is high in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s in generalizing from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36600" y="17524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2568600" cy="3425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523880"/>
            <a:ext cx="2286000" cy="1143000"/>
          </a:xfrm>
          <a:prstGeom prst="wedgeEllipseCallout">
            <a:avLst>
              <a:gd name="adj1" fmla="val -47500"/>
              <a:gd name="adj2" fmla="val 5402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 Approaches to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ntitative vs Qualit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method serves a different purpose and is selected depending on what we want to know about behavior; researchers frequently combine bot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nt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57200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nt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and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l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288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rich rang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the natural environment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structured (or unstruct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mic vs 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litative method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behavior which delve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perspective of individuals 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metimes challenges the assu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iversal behaviors) which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at the beginning of research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ength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hoice for studying the context of a person (how a person makes meaning in a situation or documents a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s the richness and complexities of real-lif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y for studying certain behavi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the limitations of quantita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imitation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and hard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population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ce qualitative research is supposed to portray the context of participants, we should not criticize the research for meeting its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17:53:32Z</dcterms:modified>
  <cp:revision>93</cp:revision>
  <dc:subject/>
  <dc:title>Triangulation</dc:title>
</cp:coreProperties>
</file>