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04B-E36D-434F-9BB0-EE466FF9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CC1-4B41-48F2-A4F5-E8461C86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FCB-8C82-4A9A-8428-ECBD2F4F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989-C726-4282-9228-F3AD6702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53F-4188-463C-98D3-0F75E422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037-1B82-4013-BE33-B0B32342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371-54A3-48AD-A4A4-92CE717B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11F-B67E-42C2-8950-9A237084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FFDE-5944-41E4-8648-6CECB5C8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4AF-A56B-463F-9BB4-A9ACCFAD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71B-0AA9-4C45-914D-BB82E65D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975-1849-47EB-BD80-2057B68C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B9D5-D985-42D7-91D6-DA0E926C5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cc.ibo.org/ibis/occ/home/subjectHome.cfm?subject=psych" TargetMode="External"/><Relationship Id="rId2" Type="http://schemas.openxmlformats.org/officeDocument/2006/relationships/hyperlink" Target="http://occ.ibo.org/ibis/occ/home/subjectHome.cfm?subject=psych" TargetMode="External"/><Relationship Id="rId3" Type="http://schemas.openxmlformats.org/officeDocument/2006/relationships/hyperlink" Target="http://occ.ibo.org/ibis/occ/home/subjectHome.cfm?subject=psych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search Methods in Psycholog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p 32-4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ructured but Open-ended Inter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t question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er still allows participants to respond any way they w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tructured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ed with a predetermined scale (i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kert Sc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bjective, requires less training to administer and reduces researche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s the richness of less structured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nsiderations Involved        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Befor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an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2179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interviewe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 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e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nsiderations Involved        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During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an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1798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d maintain good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record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e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sensitiv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nsiderations Involved          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After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an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1798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should feel appreciated, be told how to obtain results of the study and be allowed to withdraw data if des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be interview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atim tran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modern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ductive Content Analysis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Thematic Analys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for analyzing interview tran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organizing it i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ord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emerge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to organizing raw data into coh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which is hard work an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ding Process</a:t>
            </a:r>
            <a:br>
              <a:rPr sz="40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Interpretative Phenomenological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ers read and reread transcripts reflecting on what is being 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identified and n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are named based on clusters of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mmary table of the theme categories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488200" y="14479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mor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44680" y="2286000"/>
            <a:ext cx="3218040" cy="3218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76920" y="1219320"/>
            <a:ext cx="3504960" cy="1371600"/>
          </a:xfrm>
          <a:prstGeom prst="wedgeEllipseCallout">
            <a:avLst>
              <a:gd name="adj1" fmla="val -48370"/>
              <a:gd name="adj2" fmla="val 589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B Video</a:t>
            </a:r>
            <a:br>
              <a:rPr sz="4000"/>
            </a:br>
            <a:br>
              <a:rPr sz="40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cc.ibo.org/ibis/occ/home/subjectHome.cfm?subject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ps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urpose of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get someone’s point of view by asking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terview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di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struc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but open-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ondirective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ational where participants talk about anything they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help participants understand themselves (therapy sessions) more than to gather data for a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formal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ational in nature but researcher wants to gather data for a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er keeps interview focused on a general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emistructured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ers have a specific topic but questions are not asked in the same way to all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t to be flexible and interactive with follow-up questions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-to-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rra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gn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emistructured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rich account of a person’s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can be adapted to probe the context and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laxed, participants are likely to give detailed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can be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mall samples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raining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cus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atural setting allows people to express the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ing others’ responses helps participants think of other points or clarify their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ing their opinions count, people feel empo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 among members provide richness and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participation in a focus group, an individual’s attitude may become more extr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topic at a time can be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have less time to 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oderator may unknowingly inject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arrative Inter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narratives allow people to “tell their story”, these interviews provide a rich form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s provide a window into someone’s lif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(creating categories about important emerging themes) individual stories from an entire group may be challe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3:51:57Z</dcterms:created>
  <dc:creator>D. Mark Frankum</dc:creator>
  <dc:description/>
  <dc:language>en-US</dc:language>
  <cp:lastModifiedBy>D. Mark Frankum</cp:lastModifiedBy>
  <dcterms:modified xsi:type="dcterms:W3CDTF">2011-07-19T20:52:34Z</dcterms:modified>
  <cp:revision>74</cp:revision>
  <dc:subject/>
  <dc:title>Triangulation</dc:title>
</cp:coreProperties>
</file>