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81D-9FA4-48FD-9234-E1C245CF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5ED-53AB-49F6-A0D7-861C5DAE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B4C-E6B3-4A20-9DE1-8C67F318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44F-31DE-4182-912C-E0FBA6AC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BA1-5015-48AC-8806-9C082F58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294-59F3-4B67-8C12-9A947778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5CE-0584-4906-915D-22139A02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239-B87E-4CD9-ABA0-0CB5E609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979-78DC-4171-A692-AF990315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64B1-80E5-4171-8CA3-CC0E281B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C41-FCCC-4695-9F88-1823A24D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603-C1E3-47A3-B460-5964CFA6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D209-B278-4767-B696-1B90750FA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occ.ibo.org/ibis/occ/home/subjectHome.cfm?subject=psych" TargetMode="External"/><Relationship Id="rId2" Type="http://schemas.openxmlformats.org/officeDocument/2006/relationships/hyperlink" Target="http://occ.ibo.org/ibis/occ/home/subjectHome.cfm?subject=psych" TargetMode="External"/><Relationship Id="rId3" Type="http://schemas.openxmlformats.org/officeDocument/2006/relationships/hyperlink" Target="http://occ.ibo.org/ibis/occ/home/subjectHome.cfm?subject=psych" TargetMode="Externa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search Methods in Psycholog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p 32-4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ructured but Open-ended Inter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t questions as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er still allows participants to respond any way they w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tructured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ed with a predetermined scale (i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kert Sc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bjective, requires less training to administer and reduces researcher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s the richness of less structured 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nsiderations Involved        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Before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an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2179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interviewe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and character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er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nsiderations Involved        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During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an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1798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d maintain good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of record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 empa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sensitiv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nsiderations Involved          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fter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an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1798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should feel appreciated, be told how to obtain results of the study and be allowed to withdraw data if des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be interview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atim tran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modern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nductive Content Analysis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Thematic Analys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cess for analyzing interview tran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organizing it i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eg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ord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emerg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to organizing raw data into coh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s which is hard work an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ding Process</a:t>
            </a:r>
            <a:br>
              <a:rPr sz="40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Interpretative Phenomenological Analy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ers read and reread transcripts reflecting on what is being 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identified and na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are named based on clusters of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mmary table of the theme categories is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488200" y="1447920"/>
            <a:ext cx="22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mor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 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44680" y="2286000"/>
            <a:ext cx="3218040" cy="3218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76920" y="1219320"/>
            <a:ext cx="3504960" cy="1371600"/>
          </a:xfrm>
          <a:prstGeom prst="wedgeEllipseCallout">
            <a:avLst>
              <a:gd name="adj1" fmla="val -48370"/>
              <a:gd name="adj2" fmla="val 589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74284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B Video</a:t>
            </a:r>
            <a:br>
              <a:rPr sz="4000"/>
            </a:br>
            <a:br>
              <a:rPr sz="40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cc.ibo.org/ibis/occ/home/subjectHome.cfm?subject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ps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urpose of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get someone’s point of view by asking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terview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di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struct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but open-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ondirective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ational where participants talk about anything they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to help participants understand themselves (therapy sessions) more than to gather data for a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formal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ational in nature but researcher wants to gather data for a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er keeps interview focused on a general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emistructured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ers have a specific topic but questions are not asked in the same way to all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t to be flexible and interactive with follow-up questions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o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-to-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rra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gn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emistructured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rich account of a person’s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can be adapted to probe the context and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laxed, participants are likely to give detailed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can be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mall samples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raining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ocus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atural setting allows people to express thei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i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ing others’ responses helps participants think of other points or clarify their opi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 their opinions count, people feel empow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s among members provide richness and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participation in a focus group, an individual’s attitude may become more ext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topic at a time can be discu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 have less time to 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oderator may unknowingly inject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arrative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narratives allow people to “tell their story”, these interviews provide a rich form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ives provide a window into someone’s lif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(creating categories about important emerging themes) individual stories from an entire group may be challe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3:51:57Z</dcterms:created>
  <dc:creator>D. Mark Frankum</dc:creator>
  <dc:description/>
  <dc:language>en-US</dc:language>
  <cp:lastModifiedBy>D. Mark Frankum</cp:lastModifiedBy>
  <dcterms:modified xsi:type="dcterms:W3CDTF">2011-07-19T20:52:34Z</dcterms:modified>
  <cp:revision>74</cp:revision>
  <dc:subject/>
  <dc:title>Triangulation</dc:title>
</cp:coreProperties>
</file>