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9F6-04FC-47E5-83BD-E78A909D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147-592A-4135-B794-0BEB9EB9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BF3-817A-47A2-BF7E-F892A84D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6AE-843A-40F7-8CD3-F20657A9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946-AFD2-43AC-990E-B162BF7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A64-C2DD-42B9-B148-1D976C6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D25-C345-49A6-805C-FC0A9C3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757-78D0-43AC-8B44-F86A6DCC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F99-0F81-45B7-95D0-539154C6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58E-857D-4B9D-929F-5F0432B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756-B4FD-438D-97E9-502EAD8A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4E2-7BDC-4C14-85BF-FB3F131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C108-9E8E-4724-ACF9-D8A9156B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p 45-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522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s and Cons of Observatio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37160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valuable to see how people behave in a natural setting and an observation provides very detailed qualitative information which can be used as a starting point for further, more controlled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used when other methods might be uneth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ce of observers could influence the behaviour of those being observed, and it is difficult to control extraneous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difficult for another psychologist to replicate the observation (inter-rater reli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there are so many variables which could affect behaviour it is not possible to draw conclusions about cause and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VD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ualitative Research: Methods in the Social 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in both experiment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xperimental research;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ly or qualit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ypes of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952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vert observ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when the researcher pretends to be an ordinary member of the group and observes in secret. Though participant expectancy is less of a problem, ethical dilemmas occur with the dece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t observ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when the researcher tells the group he or she is conducting research (i.e. they know they are being observed); increa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 expectanc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may alter the participants natural behavior (Hawthorne eff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icipant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blends in with the natur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i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vert or 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vert, reliability and validity increase but ethics is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vert, ethical dilemmas are reduced but participant expectancy may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participant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does not blend in with the natur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vert or 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vert, reliability and validity increase but ethics is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vert, ethical dilemmas are reduced but participant expectancy may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turalistic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8288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hi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nograph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ument group cultural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accounts of behavior possible often kept through d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covert or o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vert, reliability and validity increase but ethics is a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vert, ethical dilemmas are reduced but participant expectancy may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tting Up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goal of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topic (ie, addi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research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researche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access to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rrying Out An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vert, build and maintain rapport with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quality data through rigorous notes; collect thick descriptions (extremely detailed accounts of the setting and context as well as what happe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what is important for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interviews with key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nterpretations with othe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rie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alyz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i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experiment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 of descriptiv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interviews, inductive methods (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ed 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the best choice for analyzing qualitative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constantly code data into categories until a point is reached when no new themes emer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20T15:29:12Z</dcterms:modified>
  <cp:revision>79</cp:revision>
  <dc:subject/>
  <dc:title>Triangulation</dc:title>
</cp:coreProperties>
</file>