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64BB-829E-48A8-87DB-CC5F252E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D7FE-E1EA-4BD5-858E-FD9C05E0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75BF-A85F-4F38-984B-63EF6BBC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1E47-9C59-43AC-AAEA-16B8C85F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6B06-7A25-4B29-9C5A-A86D4A1C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85E7-58DD-4303-B1A0-C4573D02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773B-4783-4C8D-93EE-1BECE3FB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9E9B-9E86-4705-B3DB-09705AEC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84A0-D4C3-4D14-94A4-1EB40D24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A12B-672D-44DE-B41A-92E98BD1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0964-0C4B-4147-8B5D-5DD923D0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7D9D-DE7F-45B1-9849-871CE019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3FC7-2A0B-4969-9F3B-50FF98283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59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Research Methods in Psychology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p 45-5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1522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os and Cons of Observation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371600"/>
            <a:ext cx="83059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valuable to see how people behave in a natural setting and an observation provides very detailed qualitative information which can be used as a starting point for further, more controlled resear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an be used when other methods might be unethic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esence of observers could influence the behaviour of those being observed, and it is difficult to control extraneous variab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difficult for another psychologist to replicate the observation (inter-rater reliabi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ause there are so many variables which could affect behaviour it is not possible to draw conclusions about cause and eff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VD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Qualitative Research: Methods in the Social Scie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in both experimental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xperimental research; can be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ly or qualita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Types of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95280"/>
            <a:ext cx="82296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vert observ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when the researcher pretends to be an ordinary member of the group and observes in secret. Though participant expectancy is less of a problem, ethical dilemmas occur with the dece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t observ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when the researcher tells the group he or she is conducting research (i.e. they know they are being observed); increas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cipant expectanc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may alter the participants natural behavior (Hawthorne effe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29000" y="1523880"/>
            <a:ext cx="2286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articipant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er blends in with the natur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hi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logical val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covert or ov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vert, reliability and validity increase but ethics is a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overt, ethical dilemmas are reduced but participant expectancy may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onparticipant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75248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er does not blend in with the natur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covert or ov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vert, reliability and validity increase but ethics is a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overt, ethical dilemmas are reduced but participant expectancy may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aturalistic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828800"/>
            <a:ext cx="8153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have hig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logical vali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hnograph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cument group cultural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ed accounts of behavior possible often kept through di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covert or o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overt, reliability and validity increase but ethics is a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vert, ethical dilemmas are reduced but participant expectancy may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etting Up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goal of 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about topic (ie, addi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research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on researcher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n access to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arrying Out An Ob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vert, build and maintain rapport with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quality data through rigorous notes; collect thick descriptions (extremely detailed accounts of the setting and context as well as what happen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what is important for th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interviews with key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nterpretations with other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rief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nalyzing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id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 experimenter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use of descriptive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ctiv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ith interviews, inductive methods (such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nded the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re the best choice for analyzing qualitative observ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ers constantly code data into categories until a point is reached when no new themes emer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13:51:57Z</dcterms:created>
  <dc:creator>D. Mark Frankum</dc:creator>
  <dc:description/>
  <dc:language>en-US</dc:language>
  <cp:lastModifiedBy>D. Mark Frankum</cp:lastModifiedBy>
  <dcterms:modified xsi:type="dcterms:W3CDTF">2011-07-20T15:29:12Z</dcterms:modified>
  <cp:revision>79</cp:revision>
  <dc:subject/>
  <dc:title>Triangulation</dc:title>
</cp:coreProperties>
</file>