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082-AC43-4B6F-84F7-3497E0D7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CC1-7D68-4991-9775-01F5ACF5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B69-AEDF-462E-A1F3-E9425CEB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1CE-2384-4ECA-85E5-5E663B7E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8A85-A4FF-4277-8B20-BD0074BC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C92C-E0F0-4B39-AAAF-85CED209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44DE-8066-4647-82DD-D5617845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A637-9489-4B46-BB72-781A86FC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8569-FA4C-442D-A6BC-1CFC424E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9403-5DC9-4C2F-861A-C756CFAA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C30F-7EFE-46EA-9CF0-49854E1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C37-69C0-4FDF-9061-2FBE642C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70DA-0446-4D27-9791-1F0E2710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AB8E-B159-4364-A5B1-9BD64056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8002-8689-4C30-B52D-89713B66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1837-3E00-4170-A991-A0CED100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BBE1-F72A-458C-A939-9D61300F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885-2BA9-4D67-B1C2-8A653396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043-4AAE-4F3E-8299-AA9C3A9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930-EB5A-4073-9CA5-726F5F08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350-41DF-4734-A185-4C2AC7F1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6E0-5878-42AA-A2B6-422A33F0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CF5-9E78-45CF-B323-CECE5C26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F2D-2F2E-44F8-A0ED-7F741FA5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6658-EED6-4DA2-A166-E4F44021F6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0AB4-DD21-4BD8-88F4-5C8732CB48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ill.srnr.arizona.edu/gifs/DoNoHarm.gif&amp;imgrefurl=http://bill.srnr.arizona.edu/PLHWhatsNew.htm&amp;usg=__3E70zQ8_lx5_GgjXwGpVNx02BgI=&amp;h=406&amp;w=203&amp;sz=18&amp;hl=en&amp;start=65&amp;tbnid=j4ecNw1WB5kYfM:&amp;tbnh=124&amp;tbnw=62&amp;prev=/images%3Fq%3DFirst%2BDo%2BNo%2BHarm%26gbv%3D2%26ndsp%3D21%26hl%3Den%26safe%3Dactive%26sa%3DN%26start%3D63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frankumstein.com/images/Personal%20Pics/1974%20Senior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search Methods in Psychology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(Pp 84-104)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304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perimental Val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External Valid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what degree the results of an experiment can be generalized to the population and to what extent it represents a “real life”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Internal Valid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ers to whether the manipulated change in the independent variable caused the change in the dependent variable or whether something else caused the chang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experiment. Internal validity concerns come from random errors or systematic err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iangu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 use of two or more methods of data collection in the study of some aspect 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uman behavi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ohen et al, 20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trian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triangulation (cross-sectional, longitudin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er trian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ory trian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 trian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ed levels of trian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ystematic and Random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0988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atic errors are made by the researcher (and should be controlled if poss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dom errors are characteristics subjects bring with them to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792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Types of Systematic and Random Errors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(Goodwin, 1998; Schumacher and McMillan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le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rta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 or 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tu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 or 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ffusion of Treat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ponse Sty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der Effe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wthorne Effec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 or 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erimenter Bi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cy of Conditi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ing and Progressive Err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792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ypes of Experimental Design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4522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ependent Samples (Between Group Design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ubjects are only exposed to part of the independent variable. Utilizes control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peated Measures (Within Group Designs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l subjects are exposed to all parts of the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ched Pai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ame kinds of subjects are assigned to each level of the independent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Independent Samples/Betwee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1" descr="MPj03143710000[1]"/>
          <p:cNvPicPr/>
          <p:nvPr/>
        </p:nvPicPr>
        <p:blipFill>
          <a:blip r:embed="rId1"/>
          <a:stretch/>
        </p:blipFill>
        <p:spPr>
          <a:xfrm>
            <a:off x="395280" y="4724280"/>
            <a:ext cx="67644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76"/>
          <p:cNvGrpSpPr/>
          <p:nvPr/>
        </p:nvGrpSpPr>
        <p:grpSpPr>
          <a:xfrm>
            <a:off x="4356000" y="1484280"/>
            <a:ext cx="1081080" cy="1008000"/>
            <a:chOff x="4356000" y="1484280"/>
            <a:chExt cx="1081080" cy="1008000"/>
          </a:xfrm>
        </p:grpSpPr>
        <p:pic>
          <p:nvPicPr>
            <p:cNvPr id="123" name="Picture 45" descr="people"/>
            <p:cNvPicPr/>
            <p:nvPr/>
          </p:nvPicPr>
          <p:blipFill>
            <a:blip r:embed="rId2"/>
            <a:stretch/>
          </p:blipFill>
          <p:spPr>
            <a:xfrm>
              <a:off x="4861080" y="148428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8" descr="people"/>
            <p:cNvPicPr/>
            <p:nvPr/>
          </p:nvPicPr>
          <p:blipFill>
            <a:blip r:embed="rId3"/>
            <a:stretch/>
          </p:blipFill>
          <p:spPr>
            <a:xfrm>
              <a:off x="4427640" y="191628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2" descr="people"/>
            <p:cNvPicPr/>
            <p:nvPr/>
          </p:nvPicPr>
          <p:blipFill>
            <a:blip r:embed="rId4"/>
            <a:stretch/>
          </p:blipFill>
          <p:spPr>
            <a:xfrm>
              <a:off x="4861080" y="1916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3" descr="people"/>
            <p:cNvPicPr/>
            <p:nvPr/>
          </p:nvPicPr>
          <p:blipFill>
            <a:blip r:embed="rId5"/>
            <a:stretch/>
          </p:blipFill>
          <p:spPr>
            <a:xfrm>
              <a:off x="4788000" y="162900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4" descr="people"/>
            <p:cNvPicPr/>
            <p:nvPr/>
          </p:nvPicPr>
          <p:blipFill>
            <a:blip r:embed="rId6"/>
            <a:stretch/>
          </p:blipFill>
          <p:spPr>
            <a:xfrm>
              <a:off x="4356000" y="1555920"/>
              <a:ext cx="57636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75"/>
          <p:cNvGrpSpPr/>
          <p:nvPr/>
        </p:nvGrpSpPr>
        <p:grpSpPr>
          <a:xfrm>
            <a:off x="3708360" y="1484280"/>
            <a:ext cx="1081080" cy="1079280"/>
            <a:chOff x="3708360" y="1484280"/>
            <a:chExt cx="1081080" cy="1079280"/>
          </a:xfrm>
        </p:grpSpPr>
        <p:pic>
          <p:nvPicPr>
            <p:cNvPr id="129" name="Picture 65" descr="people"/>
            <p:cNvPicPr/>
            <p:nvPr/>
          </p:nvPicPr>
          <p:blipFill>
            <a:blip r:embed="rId7"/>
            <a:stretch/>
          </p:blipFill>
          <p:spPr>
            <a:xfrm>
              <a:off x="3708360" y="169992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6" descr="people"/>
            <p:cNvPicPr/>
            <p:nvPr/>
          </p:nvPicPr>
          <p:blipFill>
            <a:blip r:embed="rId8"/>
            <a:stretch/>
          </p:blipFill>
          <p:spPr>
            <a:xfrm>
              <a:off x="3924360" y="148428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7" descr="people"/>
            <p:cNvPicPr/>
            <p:nvPr/>
          </p:nvPicPr>
          <p:blipFill>
            <a:blip r:embed="rId9"/>
            <a:stretch/>
          </p:blipFill>
          <p:spPr>
            <a:xfrm>
              <a:off x="3997440" y="19872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68" descr="people"/>
            <p:cNvPicPr/>
            <p:nvPr/>
          </p:nvPicPr>
          <p:blipFill>
            <a:blip r:embed="rId10"/>
            <a:stretch/>
          </p:blipFill>
          <p:spPr>
            <a:xfrm>
              <a:off x="4213080" y="17715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9" descr="people"/>
            <p:cNvPicPr/>
            <p:nvPr/>
          </p:nvPicPr>
          <p:blipFill>
            <a:blip r:embed="rId11"/>
            <a:stretch/>
          </p:blipFill>
          <p:spPr>
            <a:xfrm>
              <a:off x="4068720" y="1771560"/>
              <a:ext cx="57636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77"/>
          <p:cNvSpPr/>
          <p:nvPr/>
        </p:nvSpPr>
        <p:spPr>
          <a:xfrm>
            <a:off x="900000" y="1413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it a group of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8"/>
          <p:cNvSpPr/>
          <p:nvPr/>
        </p:nvSpPr>
        <p:spPr>
          <a:xfrm>
            <a:off x="5724360" y="1413000"/>
            <a:ext cx="265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m into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9"/>
          <p:cNvSpPr/>
          <p:nvPr/>
        </p:nvSpPr>
        <p:spPr>
          <a:xfrm>
            <a:off x="457200" y="350532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oup does the experimental task with the IV set for condi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0"/>
          <p:cNvSpPr/>
          <p:nvPr/>
        </p:nvSpPr>
        <p:spPr>
          <a:xfrm>
            <a:off x="5219640" y="3500280"/>
            <a:ext cx="31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oup does the experimental task with the IV set for condi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3"/>
          <p:cNvSpPr/>
          <p:nvPr/>
        </p:nvSpPr>
        <p:spPr>
          <a:xfrm>
            <a:off x="3059280" y="472428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the DV for each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86"/>
          <p:cNvGrpSpPr/>
          <p:nvPr/>
        </p:nvGrpSpPr>
        <p:grpSpPr>
          <a:xfrm>
            <a:off x="1547640" y="5516640"/>
            <a:ext cx="5977080" cy="893160"/>
            <a:chOff x="1547640" y="5516640"/>
            <a:chExt cx="5977080" cy="893160"/>
          </a:xfrm>
        </p:grpSpPr>
        <p:sp>
          <p:nvSpPr>
            <p:cNvPr id="140" name="Text Box 84"/>
            <p:cNvSpPr/>
            <p:nvPr/>
          </p:nvSpPr>
          <p:spPr>
            <a:xfrm>
              <a:off x="1547640" y="5950080"/>
              <a:ext cx="59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are the results for the two grou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85"/>
            <p:cNvSpPr/>
            <p:nvPr/>
          </p:nvSpPr>
          <p:spPr>
            <a:xfrm>
              <a:off x="3924360" y="5516640"/>
              <a:ext cx="792000" cy="433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553400" y="2895480"/>
            <a:ext cx="56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101E-006 C -0.00764 0.00046 -0.01493 0.00069 -0.02239 0.00162 C -0.03194 0.00278 -0.03594 0.01946 -0.04271 0.02757 C -0.04531 0.03429 -0.04531 0.04101 -0.04687 0.04842 C -0.04757 0.0519 -0.04896 0.05885 -0.04896 0.05908 C -0.04913 0.11376 -0.04913 0.16867 -0.04982 0.22358 C -0.05 0.22984 -0.05555 0.23656 -0.05712 0.23911 C -0.06198 0.24745 -0.06614 0.25672 -0.07118 0.26506 C -0.07396 0.26969 -0.08038 0.27711 -0.08038 0.27734 C -0.09739 0.27618 -0.1026 0.27873 -0.11493 0.27201 C -0.12083 0.26552 -0.11528 0.27062 -0.12413 0.26691 C -0.12621 0.26598 -0.13021 0.26344 -0.13021 0.26367 C -0.13507 0.25533 -0.14045 0.24814 -0.14566 0.24073 C -0.1493 0.2354 -0.15191 0.23633 -0.15469 0.22683 C -0.15764 0.21756 -0.1559 0.22219 -0.15972 0.21316 C -0.16094 0.20737 -0.16493 0.1974 -0.16493 0.19763 C -0.16649 0.18906 -0.17014 0.18281 -0.17205 0.17493 C -0.17396 0.16543 -0.17604 0.15523 -0.18107 0.14898 C -0.18576 0.14342 -0.19149 0.14319 -0.19653 0.14017 C -0.21024 0.14156 -0.21337 0.14156 -0.22396 0.1455 C -0.22725 0.14921 -0.22569 0.14898 -0.22778 0.14898 E">
                                      <p:cBhvr>
                                        <p:cTn id="1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3.41057E-006 C 0.00208 0.02086 -0.00087 -0.000920000000000001 0.00243 0.01367 C 0.00312 0.01715 0.00434 0.0241 0.00434 0.02433 C 0.00486 0.08457 0.00625 0.14273 0.00798 0.20274 C 0.00885 0.22892 0.00642 0.24653 0.01371 0.26692 C 0.01614 0.28406 0.02222 0.2975 0.0276 0.31187 C 0.03507 0.33202 0.03125 0.32832 0.03802 0.33272 C 0.03923 0.33504 0.04166 0.34176 0.04444 0.34129 C 0.05017 0.34013 0.05555 0.33434 0.06128 0.33272 C 0.06371 0.3304 0.06718 0.32994 0.06875 0.32577 C 0.07205 0.3172 0.07031 0.32044 0.0743 0.31534 C 0.07552 0.31048 0.0776 0.30631 0.07899 0.30144 C 0.07951 0.29935 0.07934 0.29657 0.07986 0.29449 C 0.0809 0.29032 0.08246 0.28661 0.0835 0.28244 C 0.08316 0.26182 0.08437 0.22568 0.07066 0.21479 C 0.06805 0.21293 0.0592 0.21154 0.05833 0.21131 C 0.0467 0.20042 0.0526 0.20204 0.04062 0.20436 C 0.0368 0.20783 0.03316 0.21062 0.02951 0.21479 C 0.02621 0.21849 0.02378 0.22313 0.02031 0.22521 C 0.01302 0.23865 0.00764 0.25348 0.00521 0.27201 C 0.0059 0.29959 0.00694 0.33527 0.01649 0.35867 C 0.01979 0.37883 0.02743 0.39574 0.03889 0.40037 C 0.05 0.41404 0.06007 0.41752 0.07239 0.42447 C 0.08646 0.42401 0.10034 0.42401 0.11441 0.42285 C 0.11996 0.42239 0.12448 0.40617 0.12934 0.40037 C 0.13107 0.38948 0.13402 0.37998 0.13767 0.37072 C 0.13941 0.36214 0.14149 0.35403 0.14427 0.34662 C 0.14687 0.33133 0.15104 0.31673 0.15347 0.30144 C 0.15521 0.29125 0.15555 0.28059 0.15729 0.27039 C 0.15798 0.24815 0.1592 0.23355 0.16198 0.21316 C 0.16267 0.1988 0.16371 0.17563 0.16475 0.16289 C 0.16493 0.15964 0.16979 0.15153 0.17031 0.15061 C 0.17465 0.14389 0.17899 0.1367 0.18437 0.13346 C 0.18854 0.12558 0.18576 0.12813 0.19288 0.12813 E">
                                      <p:cBhvr>
                                        <p:cTn id="18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10473E-006 C 0.0033 0.00672 0.00851 0.01298 0.01424 0.01576 C 0.03125 0.03846 0.06337 0.02155 0.08316 0.02086 C 0.0842 0.0197 0.08559 0.01808 0.08698 0.01738 C 0.08837 0.01645 0.09045 0.01692 0.09219 0.01576 C 0.10417 0.00649 0.0875 0.01298 0.10122 0.00881 C 0.10226 -0.02201 0.10382 -0.05166 0.0974 -0.08132 C 0.09653 -0.08503 0.09462 -0.09638 0.09323 -0.0987 C 0.08976 -0.10611 0.08542 -0.11237 0.08177 -0.11955 C 0.07396 -0.13461 0.08472 -0.11909 0.07535 -0.1316 C 0.0724 -0.14249 0.07639 -0.13183 0.07014 -0.13855 C 0.06684 -0.14203 0.06441 -0.14736 0.06094 -0.1506 C 0.05972 -0.15176 0.05833 -0.15292 0.05712 -0.15407 C 0.05278 -0.16288 0.04653 -0.16728 0.04149 -0.17493 C 0.03802 -0.18049 0.03576 -0.18466 0.03108 -0.18883 C 0.03073 -0.19045 0.03073 -0.19277 0.02986 -0.19393 C 0.0276 -0.19694 0.02205 -0.20088 0.02205 -0.20088 C 0.01736 -0.21014 0.0125 -0.21895 0.00642 -0.22683 C 0.00469 -0.23702 -0.00104 -0.24328 -0.00399 -0.25301 C -0.00503 -0.25648 -0.0066 -0.26344 -0.0066 -0.26344 C -0.00816 -0.28267 -0.0099 -0.30236 -0.00399 -0.32043 C -0.00278 -0.32437 -0.00278 -0.32785 -1.38889E-006 -0.33086 C 0.00312 -0.33433 0.00729 -0.33549 0.01042 -0.33966 E">
                                      <p:cBhvr>
                                        <p:cTn id="21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42 -0.33966 C 0.02014 -0.34152 0.02899 -0.34476 0.03889 -0.34638 C 0.04583 -0.34592 0.05278 -0.34615 0.05972 -0.34476 C 0.06163 -0.3443 0.06302 -0.34198 0.06493 -0.34129 C 0.06701 -0.34036 0.06927 -0.34036 0.07135 -0.33966 C 0.07396 -0.33874 0.07917 -0.33619 0.07917 -0.33619 C 0.08247 -0.32368 0.08941 -0.31395 0.09479 -0.30306 C 0.11059 -0.27085 0.09427 -0.30051 0.11163 -0.27016 C 0.1151 -0.26413 0.1151 -0.25579 0.11806 -0.24954 C 0.12309 -0.23818 0.12049 -0.24351 0.12587 -0.23378 C 0.12795 -0.2215 0.13212 -0.20968 0.13368 -0.1974 C 0.13524 -0.18536 0.13507 -0.17308 0.14028 -0.16288 C 0.1441 -0.14759 0.14757 -0.13114 0.15451 -0.1177 C 0.15694 -0.10032 0.16302 -0.08503 0.17396 -0.07437 C 0.17639 -0.06534 0.17378 -0.07229 0.18056 -0.06395 C 0.18785 -0.05491 0.19566 -0.04541 0.2026 -0.03614 C 0.20781 -0.02919 0.21076 -0.02062 0.21806 -0.01714 C 0.22587 -0.00347 0.23733 0.00788 0.24931 0.0139 C 0.25469 0.02132 0.26181 0.02479 0.26875 0.02966 C 0.2724 0.03221 0.27569 0.03545 0.27917 0.03823 C 0.28594 0.04379 0.29861 0.0468 0.30642 0.04866 C 0.33507 0.06835 0.36823 0.06951 0.4 0.07113 C 0.41528 0.07021 0.42569 0.0716 0.43889 0.06603 C 0.45035 0.05074 0.43646 0.06766 0.4467 0.05908 C 0.45434 0.05283 0.46024 0.04634 0.46875 0.04171 C 0.47257 0.03684 0.47674 0.0329 0.48056 0.02781 C 0.48212 0.02109 0.48698 0.00881 0.48698 0.00881 C 0.48837 0.000699999999999999 0.49115 -0.00602 0.4934 -0.01367 C 0.50035 -0.06511 0.49392 -0.12465 0.48559 -0.17655 C 0.4849 -0.18651 0.48316 -0.19624 0.48316 -0.20621 C 0.48316 -0.23934 0.48125 -0.28776 0.48958 -0.32391 C 0.49306 -0.33874 0.51146 -0.35241 0.52205 -0.35681 C 0.54132 -0.37396 0.53264 -0.37071 0.56094 -0.37071 E">
                                      <p:cBhvr>
                                        <p:cTn id="21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093 -0.37072 C 0.56371 -0.36029 0.56145 -0.36655 0.57135 -0.35334 C 0.57274 -0.35149 0.57534 -0.34824 0.57534 -0.34824 C 0.57829 -0.3355 0.58541 -0.32623 0.59079 -0.31534 C 0.59236 -0.31233 0.5934 -0.30491 0.5934 -0.30491 C 0.59305 -0.29217 0.59288 -0.27943 0.59218 -0.26669 C 0.59166 -0.25927 0.5868 -0.2507 0.58437 -0.24421 C 0.57864 -0.22938 0.57864 -0.21872 0.56874 -0.20621 C 0.56614 -0.19509 0.56319 -0.18443 0.55833 -0.17493 C 0.55798 -0.17215 0.55763 -0.16914 0.55711 -0.16636 C 0.55642 -0.16289 0.55451 -0.15593 0.55451 -0.15593 C 0.55242 -0.13694 0.5493 -0.11446 0.55572 -0.09685 C 0.55642 -0.095 0.55763 -0.09361 0.55833 -0.09175 C 0.55937 -0.08851 0.55902 -0.08388 0.56093 -0.08133 C 0.5684 -0.07183 0.57447 -0.06001 0.58298 -0.0519 C 0.59722 -0.03823 0.61406 -0.02827 0.63107 -0.0241 C 0.65399 -0.02479 0.67708 -0.02503 0.69999 -0.02595 C 0.70468 -0.02618 0.71215 -0.0285 0.71683 -0.02943 C 0.72326 -0.03059 0.73628 -0.0329 0.73628 -0.0329 C 0.78159 -0.03175 0.80347 -0.02989 0.84409 -0.02757 C 0.86753 -0.02271 0.89322 -0.01761 0.91545 -0.00672 C 0.92725 0.00486 0.94183 0.01251 0.95572 0.01923 C 0.95954 0.02664 0.96996 0.03545 0.97656 0.03823 C 0.98142 0.03614 0.98593 0.0278 0.99079 0.0278 E">
                                      <p:cBhvr>
                                        <p:cTn id="21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495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9900"/>
                </a:solidFill>
                <a:latin typeface="Garamond"/>
              </a:rPr>
              <a:t>Independent Samples/Betwee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1600200"/>
            <a:ext cx="82296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sort of problems are likely to arise from using two different groups of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571680" y="3098880"/>
            <a:ext cx="371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ural variation between the individuals  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articipant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in each group may affect the DV measurements, making it look as if the IV has had an effect when it actually ha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714920" y="3159000"/>
            <a:ext cx="3714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the subjects have been recruited, they should b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andomly assign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their groups.  This should ensure the groups are similar, on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Repeated Measures/Withi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MPj03143710000[1]"/>
          <p:cNvPicPr/>
          <p:nvPr/>
        </p:nvPicPr>
        <p:blipFill>
          <a:blip r:embed="rId1"/>
          <a:stretch/>
        </p:blipFill>
        <p:spPr>
          <a:xfrm>
            <a:off x="250920" y="5157720"/>
            <a:ext cx="606240" cy="12463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6"/>
          <p:cNvGrpSpPr/>
          <p:nvPr/>
        </p:nvGrpSpPr>
        <p:grpSpPr>
          <a:xfrm>
            <a:off x="3708360" y="1413000"/>
            <a:ext cx="1513080" cy="1150560"/>
            <a:chOff x="3708360" y="1413000"/>
            <a:chExt cx="1513080" cy="1150560"/>
          </a:xfrm>
        </p:grpSpPr>
        <p:grpSp>
          <p:nvGrpSpPr>
            <p:cNvPr id="151" name="Group 4"/>
            <p:cNvGrpSpPr/>
            <p:nvPr/>
          </p:nvGrpSpPr>
          <p:grpSpPr>
            <a:xfrm>
              <a:off x="3708360" y="1484280"/>
              <a:ext cx="1081080" cy="1079280"/>
              <a:chOff x="3708360" y="1484280"/>
              <a:chExt cx="1081080" cy="1079280"/>
            </a:xfrm>
          </p:grpSpPr>
          <p:pic>
            <p:nvPicPr>
              <p:cNvPr id="152" name="Picture 5" descr="people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1699920"/>
                <a:ext cx="57636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6" descr="people"/>
              <p:cNvPicPr/>
              <p:nvPr/>
            </p:nvPicPr>
            <p:blipFill>
              <a:blip r:embed="rId3"/>
              <a:stretch/>
            </p:blipFill>
            <p:spPr>
              <a:xfrm>
                <a:off x="3924360" y="148428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7" descr="people"/>
              <p:cNvPicPr/>
              <p:nvPr/>
            </p:nvPicPr>
            <p:blipFill>
              <a:blip r:embed="rId4"/>
              <a:stretch/>
            </p:blipFill>
            <p:spPr>
              <a:xfrm>
                <a:off x="3997440" y="1987200"/>
                <a:ext cx="576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8" descr="people"/>
              <p:cNvPicPr/>
              <p:nvPr/>
            </p:nvPicPr>
            <p:blipFill>
              <a:blip r:embed="rId5"/>
              <a:stretch/>
            </p:blipFill>
            <p:spPr>
              <a:xfrm>
                <a:off x="4213080" y="177156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9" descr="people"/>
              <p:cNvPicPr/>
              <p:nvPr/>
            </p:nvPicPr>
            <p:blipFill>
              <a:blip r:embed="rId6"/>
              <a:stretch/>
            </p:blipFill>
            <p:spPr>
              <a:xfrm>
                <a:off x="4068720" y="177156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Group 10"/>
            <p:cNvGrpSpPr/>
            <p:nvPr/>
          </p:nvGrpSpPr>
          <p:grpSpPr>
            <a:xfrm>
              <a:off x="4140360" y="1413000"/>
              <a:ext cx="1081080" cy="1079280"/>
              <a:chOff x="4140360" y="1413000"/>
              <a:chExt cx="1081080" cy="1079280"/>
            </a:xfrm>
          </p:grpSpPr>
          <p:pic>
            <p:nvPicPr>
              <p:cNvPr id="158" name="Picture 11" descr="people"/>
              <p:cNvPicPr/>
              <p:nvPr/>
            </p:nvPicPr>
            <p:blipFill>
              <a:blip r:embed="rId7"/>
              <a:stretch/>
            </p:blipFill>
            <p:spPr>
              <a:xfrm>
                <a:off x="4140360" y="1628640"/>
                <a:ext cx="57636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12" descr="people"/>
              <p:cNvPicPr/>
              <p:nvPr/>
            </p:nvPicPr>
            <p:blipFill>
              <a:blip r:embed="rId8"/>
              <a:stretch/>
            </p:blipFill>
            <p:spPr>
              <a:xfrm>
                <a:off x="4356360" y="141300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13" descr="people"/>
              <p:cNvPicPr/>
              <p:nvPr/>
            </p:nvPicPr>
            <p:blipFill>
              <a:blip r:embed="rId9"/>
              <a:stretch/>
            </p:blipFill>
            <p:spPr>
              <a:xfrm>
                <a:off x="4429440" y="1915920"/>
                <a:ext cx="576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14" descr="people"/>
              <p:cNvPicPr/>
              <p:nvPr/>
            </p:nvPicPr>
            <p:blipFill>
              <a:blip r:embed="rId10"/>
              <a:stretch/>
            </p:blipFill>
            <p:spPr>
              <a:xfrm>
                <a:off x="4645080" y="170028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15" descr="people"/>
              <p:cNvPicPr/>
              <p:nvPr/>
            </p:nvPicPr>
            <p:blipFill>
              <a:blip r:embed="rId11"/>
              <a:stretch/>
            </p:blipFill>
            <p:spPr>
              <a:xfrm>
                <a:off x="4500720" y="170028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3" name="Text Box 17"/>
          <p:cNvSpPr/>
          <p:nvPr/>
        </p:nvSpPr>
        <p:spPr>
          <a:xfrm>
            <a:off x="900000" y="1413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it a group of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762120" y="2924280"/>
            <a:ext cx="7619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Condi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morize 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(Memoriz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musi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with mu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457200" y="441972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oup does the experimental task with the IV set for condi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5181480" y="4419720"/>
            <a:ext cx="31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oup repeats the experimental task with the IV set for condi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914400" y="5410080"/>
            <a:ext cx="7391160" cy="1258920"/>
            <a:chOff x="914400" y="5410080"/>
            <a:chExt cx="7391160" cy="1258920"/>
          </a:xfrm>
        </p:grpSpPr>
        <p:sp>
          <p:nvSpPr>
            <p:cNvPr id="168" name="Text Box 24"/>
            <p:cNvSpPr/>
            <p:nvPr/>
          </p:nvSpPr>
          <p:spPr>
            <a:xfrm>
              <a:off x="914400" y="5843520"/>
              <a:ext cx="739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are the before/after result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the two cond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25"/>
            <p:cNvSpPr/>
            <p:nvPr/>
          </p:nvSpPr>
          <p:spPr>
            <a:xfrm>
              <a:off x="3853440" y="5410080"/>
              <a:ext cx="979200" cy="433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08804E-006 C -0.02587 0.01252 -0.05521 -0.00416 -0.08177 0.00534 C -0.08298 0.0065 -0.08455 0.00742 -0.08559 0.00881 C -0.08663 0.0102 -0.08698 0.01252 -0.08819 0.01391 C -0.09409 0.02063 -0.09583 0.01901 -0.1 0.02596 C -0.10191 0.0292 -0.10521 0.03638 -0.10521 0.03638 C -0.1118 0.06511 -0.10764 0.07438 -0.10903 0.11794 C -0.1092 0.12536 -0.11371 0.12605 -0.11805 0.12999 C -0.12031 0.13208 -0.12587 0.13347 -0.12587 0.13347 C -0.15712 0.13068 -0.19913 0.13138 -0.23246 0.11956 C -0.24462 0.12026 -0.25677 0.12003 -0.26875 0.12142 C -0.27795 0.12258 -0.27604 0.12489 -0.28298 0.12837 C -0.29409 0.1337 -0.30399 0.13347 -0.31423 0.14227 C -0.31771 0.14922 -0.32378 0.15339 -0.32986 0.15594 C -0.34114 0.16613 -0.34653 0.18212 -0.3493 0.1995 C -0.34843 0.21294 -0.35069 0.22174 -0.34288 0.22892 C -0.33889 0.23703 -0.3342 0.24815 -0.32725 0.2514 C -0.32326 0.25928 -0.31024 0.27387 -0.3026 0.27387 E">
                                      <p:cBhvr>
                                        <p:cTn id="26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9.7127E-006 C 0.00851 -0.01738 0.00295 -0.00371 0.00139 -0.04866 C 0.00052 -0.07299 -0.00121 -0.12141 -0.00121 -0.12141 C -0.00069 -0.14505 0.00643 -0.2266 -0.00521 -0.24954 C -0.00798 -0.26182 -0.00399 -0.27341 0.00521 -0.27735 C 0.01268 -0.2843 0.01563 -0.28244 0.02604 -0.28244 E">
                                      <p:cBhvr>
                                        <p:cTn id="27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26 0.27387 C -0.29739 0.27456 -0.29218 0.2741 -0.28732 0.27572 C -0.27812 0.27897 -0.27604 0.28707 -0.26684 0.28939 C -0.25277 0.30005 -0.25486 0.29959 -0.23715 0.30167 C -0.23072 0.30329 -0.22482 0.30538 -0.2184 0.30677 C -0.20625 0.30492 -0.20399 0.3019 -0.19357 0.2982 C -0.19027 0.28731 -0.1677 0.26947 -0.15902 0.25997 C -0.15468 0.2551 -0.1526 0.25 -0.14652 0.24792 C -0.14218 0.24282 -0.13906 0.2368 -0.1342 0.23239 C -0.12083 0.22011 -0.10329 0.21803 -0.08732 0.21316 C -0.08246 0.2134 -0.04392 0.21386 -0.02951 0.21664 C -0.025 0.21757 -0.02135 0.2215 -0.01718 0.22359 C -0.00885 0.22799 -0.00086 0.23031 0.00782 0.23239 C 0.00955 0.23355 0.01094 0.23494 0.01268 0.23587 C 0.01459 0.2368 0.01702 0.23633 0.01893 0.23749 C 0.02448 0.24074 0.02917 0.2456 0.03438 0.24954 C 0.03994 0.25371 0.04705 0.25649 0.05313 0.25997 C 0.07032 0.26947 0.08594 0.28198 0.10296 0.29125 C 0.11494 0.29773 0.12778 0.30051 0.14063 0.30329 C 0.15053 0.30561 0.16007 0.31001 0.17014 0.3121 C 0.19584 0.31117 0.21337 0.31302 0.23577 0.30515 C 0.24028 0.2975 0.24688 0.28846 0.25452 0.28429 C 0.25747 0.28267 0.26389 0.28082 0.26389 0.28105 C 0.26928 0.27665 0.27448 0.27572 0.28108 0.27387 C 0.28421 0.27155 0.28681 0.26553 0.29046 0.26692 C 0.29202 0.26761 0.29532 0.26877 0.29532 0.269 E">
                                      <p:cBhvr>
                                        <p:cTn id="27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05 -0.28244 C 0.02952 -0.2792 0.03247 -0.2748 0.03629 -0.27202 C 0.04341 -0.26692 0.0533 -0.26622 0.06112 -0.26344 C 0.06875 -0.2558 0.06494 -0.25858 0.07657 -0.25302 C 0.07917 -0.25186 0.08178 -0.2507 0.08438 -0.24954 C 0.08577 -0.24908 0.08837 -0.24792 0.08837 -0.24792 C 0.09271 -0.24398 0.09375 -0.23958 0.09879 -0.23749 C 0.10435 -0.22985 0.10764 -0.22869 0.11563 -0.22707 C 0.13681 -0.21687 0.12622 -0.22128 0.17657 -0.22707 C 0.17813 -0.2273 0.17813 -0.23054 0.17917 -0.23217 C 0.1816 -0.23587 0.18438 -0.23912 0.18698 -0.24259 C 0.18837 -0.24445 0.19098 -0.24792 0.19098 -0.24792 C 0.1941 -0.2602 0.19202 -0.25533 0.19619 -0.26344 C 0.1974 -0.26901 0.20261 -0.27897 0.20261 -0.27897 C 0.20417 -0.28615 0.2073 -0.29356 0.21042 -0.29982 C 0.21389 -0.31488 0.22205 -0.31905 0.23247 -0.3223 C 0.25712 -0.32067 0.25365 -0.32044 0.27136 -0.31534 C 0.27726 -0.31048 0.28664 -0.30445 0.29358 -0.30167 C 0.29862 -0.29704 0.30591 -0.29194 0.31042 -0.28592 C 0.31424 -0.28082 0.31615 -0.27619 0.32084 -0.27202 C 0.32553 -0.26298 0.32952 -0.25325 0.33768 -0.24954 C 0.34046 -0.23796 0.33646 -0.25116 0.34671 -0.23749 C 0.35851 -0.22174 0.36077 -0.22243 0.37917 -0.22012 C 0.39862 -0.22081 0.41806 -0.22081 0.43768 -0.22197 C 0.4441 -0.22243 0.45209 -0.22962 0.45834 -0.23217 C 0.46007 -0.23958 0.4625 -0.2419 0.46615 -0.24792 C 0.47136 -0.25719 0.47535 -0.26576 0.48299 -0.27202 C 0.48803 -0.28198 0.49219 -0.28082 0.49983 -0.28777 C 0.50695 -0.29403 0.50886 -0.29542 0.51685 -0.2982 C 0.53473 -0.2931 0.55695 -0.30376 0.56598 -0.27735 E">
                                      <p:cBhvr>
                                        <p:cTn id="28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597 -0.27735 C 0.56614 -0.24561 0.5493 -0.14992 0.57361 -0.10219 C 0.57673 -0.08689 0.58177 -0.0767 0.59184 -0.06743 C 0.60087 -0.06813 0.61007 -0.0672 0.6191 -0.06928 C 0.62361 -0.07044 0.64097 -0.08319 0.64635 -0.08828 C 0.65104 -0.09269 0.65243 -0.09639 0.65816 -0.09871 C 0.66285 -0.10334 0.66823 -0.10751 0.67361 -0.11076 C 0.67604 -0.11215 0.67882 -0.11308 0.68142 -0.11423 C 0.68281 -0.11493 0.68541 -0.11609 0.68541 -0.11609 C 0.69357 -0.11539 0.70191 -0.11586 0.71007 -0.11423 C 0.71632 -0.11308 0.71979 -0.10311 0.7243 -0.09709 C 0.72725 -0.09315 0.73125 -0.0913 0.73472 -0.08828 C 0.73594 -0.08713 0.7375 -0.0862 0.73854 -0.08481 C 0.74566 -0.07531 0.75173 -0.06488 0.76076 -0.05886 C 0.76111 -0.05724 0.76111 -0.05492 0.76198 -0.05376 C 0.76337 -0.05191 0.76562 -0.05191 0.76719 -0.05029 C 0.77552 -0.04218 0.76649 -0.04681 0.775 -0.04333 C 0.77899 -0.03754 0.7816 -0.03615 0.78663 -0.03291 C 0.7908 -0.03013 0.7941 -0.0248 0.79844 -0.02248 C 0.8066 -0.01831 0.81701 -0.01715 0.82569 -0.01553 C 0.8493 -0.00557 0.89253 -0.0204 0.9191 -0.02596 C 0.92899 -0.02526 0.93906 -0.02503 0.94896 -0.0241 C 0.95607 -0.02341 0.95538 -0.02202 0.96198 -0.01901 C 0.97048 -0.01507 0.98038 -0.01275 0.98923 -0.01043 C 0.99566 -0.00603 1.00243 -0.0014 1.00868 0.00347 C 1.02135 0.01366 1.01614 0.01204 1.0243 0.01575 C 1.02882 0.01783 1.03281 0.02038 1.03732 0.0227 C 1.03993 0.02409 1.04514 0.02617 1.04514 0.02617 C 1.04635 0.02548 1.04896 0.02432 1.04896 0.02432 E">
                                      <p:cBhvr>
                                        <p:cTn id="28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9900"/>
                </a:solidFill>
                <a:latin typeface="Garamond"/>
              </a:rPr>
              <a:t>Repeated Measures/Within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457200" y="1600200"/>
            <a:ext cx="82296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sort of problems are likely to arise from using the same group of people tw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71680" y="3038400"/>
            <a:ext cx="3714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ng both conditions may (1) give Subjects practice on the task; (2) make them bored or tired; (3) allow them to work out the aim of the study, all of which might affect the DV measurement.  (4) Reuse of stimuli is not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4714920" y="303840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ide the Subjects into two groups.  Half does condition A first, then condition B.  The rest do condition B then condition A.  DV measurements for the conditions A and B are then compared 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unterbalanc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B Internal Assess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B Psychology Guide states that S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s are required to replicate a simp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riment; HL studen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plicate a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tudy or conduct a modification o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xisting stud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7" descr="MPj03143710000[1]"/>
          <p:cNvPicPr/>
          <p:nvPr/>
        </p:nvPicPr>
        <p:blipFill>
          <a:blip r:embed="rId1"/>
          <a:stretch/>
        </p:blipFill>
        <p:spPr>
          <a:xfrm>
            <a:off x="250920" y="5229360"/>
            <a:ext cx="677880" cy="1390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personyellow"/>
          <p:cNvPicPr/>
          <p:nvPr/>
        </p:nvPicPr>
        <p:blipFill>
          <a:blip r:embed="rId2"/>
          <a:stretch/>
        </p:blipFill>
        <p:spPr>
          <a:xfrm>
            <a:off x="3995640" y="1341360"/>
            <a:ext cx="324000" cy="647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persongreen"/>
          <p:cNvPicPr/>
          <p:nvPr/>
        </p:nvPicPr>
        <p:blipFill>
          <a:blip r:embed="rId3"/>
          <a:stretch/>
        </p:blipFill>
        <p:spPr>
          <a:xfrm>
            <a:off x="3708360" y="1341360"/>
            <a:ext cx="32400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persongrey"/>
          <p:cNvPicPr/>
          <p:nvPr/>
        </p:nvPicPr>
        <p:blipFill>
          <a:blip r:embed="rId4"/>
          <a:stretch/>
        </p:blipFill>
        <p:spPr>
          <a:xfrm>
            <a:off x="3419640" y="1630440"/>
            <a:ext cx="32364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personred"/>
          <p:cNvPicPr/>
          <p:nvPr/>
        </p:nvPicPr>
        <p:blipFill>
          <a:blip r:embed="rId5"/>
          <a:stretch/>
        </p:blipFill>
        <p:spPr>
          <a:xfrm>
            <a:off x="3492360" y="1341360"/>
            <a:ext cx="32400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personyellow"/>
          <p:cNvPicPr/>
          <p:nvPr/>
        </p:nvPicPr>
        <p:blipFill>
          <a:blip r:embed="rId6"/>
          <a:stretch/>
        </p:blipFill>
        <p:spPr>
          <a:xfrm>
            <a:off x="3564000" y="1557360"/>
            <a:ext cx="323640" cy="647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persongreen"/>
          <p:cNvPicPr/>
          <p:nvPr/>
        </p:nvPicPr>
        <p:blipFill>
          <a:blip r:embed="rId7"/>
          <a:stretch/>
        </p:blipFill>
        <p:spPr>
          <a:xfrm>
            <a:off x="3995640" y="1701720"/>
            <a:ext cx="324000" cy="64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persongrey"/>
          <p:cNvPicPr/>
          <p:nvPr/>
        </p:nvPicPr>
        <p:blipFill>
          <a:blip r:embed="rId8"/>
          <a:stretch/>
        </p:blipFill>
        <p:spPr>
          <a:xfrm>
            <a:off x="3851280" y="1628640"/>
            <a:ext cx="324000" cy="64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personred"/>
          <p:cNvPicPr/>
          <p:nvPr/>
        </p:nvPicPr>
        <p:blipFill>
          <a:blip r:embed="rId9"/>
          <a:stretch/>
        </p:blipFill>
        <p:spPr>
          <a:xfrm>
            <a:off x="3733920" y="1413000"/>
            <a:ext cx="323640" cy="6476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3"/>
          <p:cNvSpPr/>
          <p:nvPr/>
        </p:nvSpPr>
        <p:spPr>
          <a:xfrm>
            <a:off x="468360" y="1413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it a group of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468360" y="227664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out what sorts of people you have in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6084720" y="2276640"/>
            <a:ext cx="22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it another group that matches them one for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1042920" y="5084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9"/>
          <p:cNvGrpSpPr/>
          <p:nvPr/>
        </p:nvGrpSpPr>
        <p:grpSpPr>
          <a:xfrm>
            <a:off x="304920" y="5602320"/>
            <a:ext cx="8838720" cy="885240"/>
            <a:chOff x="304920" y="5602320"/>
            <a:chExt cx="8838720" cy="885240"/>
          </a:xfrm>
        </p:grpSpPr>
        <p:sp>
          <p:nvSpPr>
            <p:cNvPr id="189" name="Text Box 20"/>
            <p:cNvSpPr/>
            <p:nvPr/>
          </p:nvSpPr>
          <p:spPr>
            <a:xfrm>
              <a:off x="304920" y="6027840"/>
              <a:ext cx="883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are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ifferenc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between the matched pai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1"/>
            <p:cNvSpPr/>
            <p:nvPr/>
          </p:nvSpPr>
          <p:spPr>
            <a:xfrm>
              <a:off x="3819600" y="5602320"/>
              <a:ext cx="1171080" cy="425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22"/>
          <p:cNvSpPr/>
          <p:nvPr/>
        </p:nvSpPr>
        <p:spPr>
          <a:xfrm>
            <a:off x="250920" y="3789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experiment as independent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71 -0.03684 L -0.10243 0.08411 E">
                                      <p:cBhvr>
                                        <p:cTn id="34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35589E-007 L -0.08837 0.0892 E">
                                      <p:cBhvr>
                                        <p:cTn id="34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0533 L -0.09462 0.11562 E">
                                      <p:cBhvr>
                                        <p:cTn id="34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91659E-007 L 0.13385 0.14712 E">
                                      <p:cBhvr>
                                        <p:cTn id="35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31233E-006 L -0.11823 0.11562 E">
                                      <p:cBhvr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099E-006 L 0.16528 0.07344 E">
                                      <p:cBhvr>
                                        <p:cTn id="35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91659E-007 L 0.15747 0.11562 E">
                                      <p:cBhvr>
                                        <p:cTn id="35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91659E-007 L 0.13385 0.1367 E">
                                      <p:cBhvr>
                                        <p:cTn id="35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62 0.11562 L 0.03733 0.15246 E">
                                      <p:cBhvr>
                                        <p:cTn id="36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434 0.13161 L 0.02952 0.35218 E">
                                      <p:cBhvr>
                                        <p:cTn id="36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7345 L 0.04532 0.45714 E">
                                      <p:cBhvr>
                                        <p:cTn id="36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11562 L 0.01372 0.26807 E">
                                      <p:cBhvr>
                                        <p:cTn id="36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85 0.14713 L 0.06892 0.38369 E">
                                      <p:cBhvr>
                                        <p:cTn id="37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6 0.1367 L 0.09253 0.14017 E">
                                      <p:cBhvr>
                                        <p:cTn id="381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0.10519 L 0.08472 0.45737 E">
                                      <p:cBhvr>
                                        <p:cTn id="38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85 0.09453 L 0.06892 0.21547 E">
                                      <p:cBhvr>
                                        <p:cTn id="387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98332E-006 C 0.00225 0.0095 0.00625 0.01112 0.01284 0.0139 C 0.01545 0.01506 0.02066 0.01714 0.02066 0.01714 C 0.05191 0.01529 0.03854 0.01691 0.05451 0.01042 C 0.05833 0.00509 0.05972 1.98332000000013E-006 0.06354 -0.00533 C 0.06631 -0.01553 0.06857 -0.02618 0.07135 -0.03638 C 0.07378 -0.05746 0.07847 -0.07808 0.08177 -0.09894 C 0.0835 -0.16034 0.08142 -0.22359 0.08958 -0.28429 C 0.09045 -0.3019 0.09166 -0.32044 0.0934 -0.33805 C 0.09409 -0.34546 0.09756 -0.35288 0.09861 -0.36052 C 0.10017 -0.37141 0.10017 -0.38276 0.1026 -0.39342 C 0.10503 -0.40362 0.10989 -0.41474 0.11284 -0.4247 C 0.11857 -0.4444 0.12343 -0.46594 0.13246 -0.48355 C 0.13385 -0.48981 0.13316 -0.48934 0.1375 -0.49398 C 0.13993 -0.49653 0.14531 -0.50093 0.14531 -0.50093 C 0.15538 -0.52132 0.17725 -0.52364 0.1934 -0.53035 C 0.22638 -0.52896 0.2243 -0.52966 0.24531 -0.52526 C 0.25208 -0.52201 0.25902 -0.5197 0.26614 -0.51831 C 0.26736 -0.51715 0.26857 -0.51553 0.26996 -0.51483 C 0.27204 -0.5139 0.27465 -0.51483 0.27656 -0.51321 C 0.28663 -0.50487 0.28177 -0.5044 0.28819 -0.49583 C 0.28923 -0.49444 0.29097 -0.49375 0.29218 -0.49236 C 0.29843 -0.48541 0.30225 -0.4766 0.30902 -0.46988 C 0.31475 -0.4583 0.31979 -0.44648 0.32586 -0.43513 C 0.3276 -0.43165 0.33107 -0.4247 0.33107 -0.4247 C 0.33472 -0.40223 0.33402 -0.3487 0.32204 -0.32415 C 0.31961 -0.31187 0.31458 -0.29912 0.31024 -0.28777 C 0.30798 -0.28198 0.30399 -0.27757 0.30121 -0.27225 C 0.29965 -0.26506 0.29652 -0.25765 0.2934 -0.25139 C 0.29201 -0.24583 0.28975 -0.24143 0.28819 -0.23587 C 0.28906 -0.2076 0.29218 -0.18073 0.29218 -0.15269 E">
                                      <p:cBhvr>
                                        <p:cTn id="403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218 -0.15269 C 0.29305 -0.13786 0.29218 -0.13392 0.29739 -0.12327 C 0.29965 -0.11377 0.31093 -0.10913 0.31684 -0.10427 C 0.32795 -0.09523 0.33837 -0.08619 0.3493 -0.07646 C 0.35468 -0.0716 0.3618 -0.06998 0.36753 -0.06604 C 0.3684 -0.06557 0.37795 -0.05793 0.38177 -0.05746 C 0.38958 -0.05654 0.39739 -0.05631 0.40521 -0.05561 C 0.4342 -0.04634 0.45989 -0.05329 0.49218 -0.05399 C 0.50468 -0.05723 0.51753 -0.06743 0.52465 -0.08179 C 0.52812 -0.09662 0.52864 -0.11539 0.53507 -0.12859 C 0.5335 -0.13439 0.53368 -0.13184 0.53368 -0.13555 E">
                                      <p:cBhvr>
                                        <p:cTn id="40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369 -0.13555 C 0.53421 -0.15524 0.53299 -0.17517 0.53507 -0.19463 C 0.53542 -0.19718 0.53872 -0.19671 0.54028 -0.1981 C 0.54896 -0.20644 0.55955 -0.21108 0.57014 -0.21525 C 0.58004 -0.21479 0.59011 -0.21455 0.6 -0.21363 C 0.60921 -0.2127 0.61632 -0.20158 0.62466 -0.1981 C 0.62796 -0.19138 0.63507 -0.18698 0.64028 -0.18235 C 0.64167 -0.17285 0.64289 -0.17007 0.6481 -0.16335 C 0.65191 -0.15315 0.65625 -0.14319 0.66112 -0.13392 C 0.66337 -0.12049 0.66702 -0.11029 0.67014 -0.09755 C 0.6731 -0.08527 0.67327 -0.07137 0.67657 -0.05932 C 0.6783 -0.05283 0.68125 -0.04657 0.68316 -0.04032 C 0.68438 -0.03638 0.68455 -0.03198 0.68577 -0.02804 C 0.68889 -0.01831 0.69428 -0.00927 0.69879 -0.00047 C 0.70157 0.00486 0.70348 0.01204 0.70643 0.01691 C 0.70869 0.02085 0.71268 0.02293 0.71424 0.02734 C 0.71875 0.03938 0.73525 0.05885 0.74549 0.06371 C 0.76007 0.07066 0.78889 0.06835 0.8 0.06881 C 0.81164 0.07043 0.81441 0.07205 0.82605 0.06881 C 0.83073 0.06742 0.83542 0.06348 0.84028 0.06209 C 0.85261 0.05375 0.86164 0.03869 0.87535 0.03429 C 0.87969 0.03128 0.88369 0.02919 0.88837 0.02734 C 0.8908 0.01714 0.89549 0.01598 0.90261 0.01343 C 0.90869 0.00787 0.91511 0.00787 0.92205 0.00486 C 0.94098 0.00579 0.95487 0.00764 0.97275 0.00996 C 0.97535 0.01112 0.97865 0.01089 0.98056 0.01343 C 0.98386 0.01761 0.9849 0.03081 0.99098 0.03081 E">
                                      <p:cBhvr>
                                        <p:cTn id="40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ontent Placeholder 2"/>
          <p:cNvSpPr/>
          <p:nvPr/>
        </p:nvSpPr>
        <p:spPr>
          <a:xfrm>
            <a:off x="457200" y="1600200"/>
            <a:ext cx="82296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sort of problems are likely to arise from using matched pairs of P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571680" y="2990880"/>
            <a:ext cx="371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problems: (1) time consuming; (2) an exact match is rarely possible; (3) if one PP drops out you lose 2 PPs’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4714920" y="2975040"/>
            <a:ext cx="37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of each pair should be randomly assigned to conditions.  However, this does not solve all thes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277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hoosing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0988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you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arget popul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n choose participants with the same characteristics as the population throu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random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ified random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0318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portunity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andom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7524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ardless of how samples are obtained,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e random allocation to assign participants to the groups or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4572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ys to Collect Data</a:t>
            </a:r>
            <a:br>
              <a:rPr sz="4400"/>
            </a:b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(Based on Type of Data to Coll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224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task for subjects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ation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 (see pp 101-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lways pilot your materials on a group similar to your participant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efore you run your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7524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procedures used must be clear and precise so others could replicate th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any control features applied to your experiment that the design itself does no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 how you met ethical requirements throughout th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perimental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9907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A requirements – “first do no har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ed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B Ethical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219320"/>
            <a:ext cx="2057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formed Consent</a:t>
            </a:r>
            <a:br>
              <a:rPr sz="44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(APA, 2002)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pose of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thing the participant is required to 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tential risks and benefits from partici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situation where participants might be identified or quo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ntary partici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he data will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contact someone to find out the results of the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ission from parents for minors (under 1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B Ethical Guideli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ture 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905160" y="35812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4114800"/>
            <a:ext cx="1517760" cy="2201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629400" y="3429000"/>
            <a:ext cx="1752480" cy="838080"/>
          </a:xfrm>
          <a:prstGeom prst="wedgeEllipseCallout">
            <a:avLst>
              <a:gd name="adj1" fmla="val -46740"/>
              <a:gd name="adj2" fmla="val 64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Principles of Experimental Desig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095560" cy="2838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90920" y="38098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16600" y="3809880"/>
            <a:ext cx="30751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Overview of the Scientific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1801800"/>
            <a:ext cx="7315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Literature Re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riting your (IA) experimental repor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need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relevant the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-3 research studies (where one is explained in more detail than the oth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perimental Variab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9900"/>
                </a:solidFill>
                <a:uFillTx/>
                <a:latin typeface="Verdana"/>
              </a:rPr>
              <a:t>Independent Variable</a:t>
            </a:r>
            <a:r>
              <a:rPr b="1" lang="en-US" sz="2800" spc="-1" strike="noStrike">
                <a:solidFill>
                  <a:srgbClr val="999900"/>
                </a:solidFill>
                <a:latin typeface="Verdana"/>
              </a:rPr>
              <a:t> (IV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variable being manipulated and controlled by the experimenter so that the effect can be measured. (Caus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9900"/>
                </a:solidFill>
                <a:uFillTx/>
                <a:latin typeface="Verdana"/>
              </a:rPr>
              <a:t>Dependent Variable</a:t>
            </a:r>
            <a:r>
              <a:rPr b="1" lang="en-US" sz="2800" spc="-1" strike="noStrike">
                <a:solidFill>
                  <a:srgbClr val="999900"/>
                </a:solidFill>
                <a:latin typeface="Verdana"/>
              </a:rPr>
              <a:t> (DV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behavior to be measured that is “dependent” on the independent variable.  (Effect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search Grou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Experimental Group</a:t>
            </a: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subjects exposed to the independent vari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Control Group</a:t>
            </a: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jects not exposed to some or all of the independent variable; used to compare with the experimental group.</a:t>
            </a:r>
            <a:r>
              <a:rPr b="0" lang="en-US" sz="2400" spc="-1" strike="noStrike">
                <a:solidFill>
                  <a:srgbClr val="cc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Hypothes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Research Hypothesis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 (H</a:t>
            </a:r>
            <a:r>
              <a:rPr b="1" lang="en-US" sz="2800" spc="-1" strike="noStrike" baseline="-25000">
                <a:solidFill>
                  <a:srgbClr val="cccc66"/>
                </a:solidFill>
                <a:latin typeface="Verdana"/>
              </a:rPr>
              <a:t>a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:</a:t>
            </a:r>
            <a:r>
              <a:rPr b="1" lang="el-GR" sz="2800" spc="-1" strike="noStrike">
                <a:solidFill>
                  <a:srgbClr val="cccc66"/>
                </a:solidFill>
                <a:latin typeface="Verdana"/>
              </a:rPr>
              <a:t>μ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 &gt; 1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clear, concise prediction of what is expected to be demonstrated in the experimen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Null Hypothesis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 (H</a:t>
            </a:r>
            <a:r>
              <a:rPr b="1" lang="en-US" sz="2800" spc="-1" strike="noStrike" baseline="-25000">
                <a:solidFill>
                  <a:srgbClr val="cccc66"/>
                </a:solidFill>
                <a:latin typeface="Verdana"/>
              </a:rPr>
              <a:t>o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:</a:t>
            </a:r>
            <a:r>
              <a:rPr b="1" lang="el-GR" sz="2800" spc="-1" strike="noStrike">
                <a:solidFill>
                  <a:srgbClr val="cccc66"/>
                </a:solidFill>
                <a:latin typeface="Verdana"/>
              </a:rPr>
              <a:t>μ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 = 1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s that no significant difference is expected to be found; any results are simply due to some random variable or to chanc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066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Types of Experimental Hypothesis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Verdana"/>
              </a:rPr>
              <a:t>One-tailed or Directional (&gt; or &lt;) Hypothesi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s the direct effect of the Independent Variable has on the Dependent Variable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or example: an authority figure observing a practiced behavior will reduce performanc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Verdana"/>
              </a:rPr>
              <a:t>Two-tailed or Nondirectional (≠) Hypothesi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s that the Independent Variable will have an effect (of some sort) on the Dependent Variable, but the direction is not specified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or example: an authority figure observing a practiced behavior will have an affect on performanc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0:10Z</dcterms:created>
  <dc:creator>jimcuellar</dc:creator>
  <dc:description/>
  <dc:language>en-US</dc:language>
  <cp:lastModifiedBy>D. Mark Frankum</cp:lastModifiedBy>
  <dcterms:modified xsi:type="dcterms:W3CDTF">2011-07-21T20:57:56Z</dcterms:modified>
  <cp:revision>79</cp:revision>
  <dc:subject/>
  <dc:title>Slide 1</dc:title>
</cp:coreProperties>
</file>