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2E3B-ACDD-40F9-B54C-767401F8D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tané (1987) put it, “We came up with the insight that perhaps what made the Genovese case so fascinating was itself what made it happen—namely, that not just one or two, but thirty-eight people had watched and done nothing” (p.  7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at study, people sat in individual cubicles, participating in a group discussion of college life (over an intercom system) with students in other cubicles.  One of the other students suddenly had a seizure, crying out for help, choking, and finally falling silent.  There was actually only one real participant in the study.  The other “participants,” including the one who had the seizure, were prerecorded voices.  The point of the study was to see whether the real participant would attempt to help the seizure victim by trying to find him or by summoning the experimenter or whether, like Kitty Genovese’s neighbors, the person would simply sit there and do nothin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tané and Darley anticipated, the answer depended on how many people the participant thought witnessed the emergency.  When people believed they were the only ones listening to the student having the seizure, most of them (85 percent) helped within sixty seconds.  By two and a half minutes, 100 percent of the people who thought they were the only bystander had offered assistance (see Figure 11.3).  In comparison, when the research participants believed there was one other student listening, fewer helped—only 62 percent within sixty seconds.  As you can see in Figure 11.3, helping occurred more slowly when there were two bystanders and never reached 100 percent, even after six minutes, when the experiment was ended.  Finally, when the participants believed there were four other students listening in addition to themselves, the percentage of people who helped dropped even more dramatically.  Only 31 percent helped in the first sixty seconds, and after six minutes, only 62 percent had offered help.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that people are less likely to help when others are present? Latané and Darley (1970) developed a step-by-step description of how people decide whether to intervene in an emergency.  Part of this description is an explanation of how the number of bystanders can make a differ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if they were thinking about helping people in need? The researchers also varied the topic of the speech they asked the students to give: Some were asked to discuss the kinds of jobs seminary students preferred; others were asked to discuss the parable of the Good Samaritan.  You might think that seminary students who were thinking about the parable of the Good Samaritan would be especially likely to stop and help a man slumped in a doorway, given the similarity of this incident to the parable, but the topic of the speech made little difference in whether they helped.  Students in a hurry were unlikely to help, even if they were very religious and about to give a speech about the Good Samarita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person in the doorway drunk or seriously ill? If we see white smoke coming out of a vent, is it something innocuous, such as mist from an air conditioner, or a sign that the building is on fire? Did that scream we just heard come from someone having a good time at a party, or is someone being attack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other people look up, shrug, and go about their business, we are likely to assume there is nothing to worry about.  If other people look panic-stricken and yell, “Fire!” we immediately assume the building is indeed on fire.  As we saw in Chapter 8, it’s often a good strategy to use other people as a source of information when we are uncertain about what’s going on.  The danger is that sometimes no one is sure what is happening.  Since an emergency is often a sudden and confusing event, bystanders tend to freeze, watching and listening with blank expressions as they try to figure out what’s going on.  When they glance at each other, they see an apparent lack of concern on the part of everyone els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Rosenthal (1964), p.  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the Latané and Darley (1968) seizure experiment in which participants believed they were the only one listening to the student while he had a seizure.  The responsibility was totally on their shoulders.  If they didn’t help, no one would, and the student might die.  As a result, in this condition most people helped almost immediately, and all helped within a few minu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d irony of Genovese’s murder is that she probably would be alive today if fewer people had heard her cries for help.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sonality, gender, culture, and mood all contribute a piece to the puzzle of why people help others, but they do not complete the pi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more fully why people help, we need to consider the social situation in which people find themselv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ate of three television network technicians who in 1982 saw a man beating a woman in a New York parking lot, tried to intervene, and were shot and killed by the assailant.  Even when we know what kind of intervention is needed, we have to weigh the costs of trying to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imagining ourselves in a group is enough to make us feel less responsible for helping oth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garet Clark and Judson Mills (1993; Mills &amp; Clark, 2001),argue that communal relationships are fundamentally different from exchange relationships: It’s not just that different kinds of rewards govern the relationship; people in communal relationships are concerned less with the benefits they will receive by helping and more with simply satisfying the needs of the other pers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k, 1984; Clark &amp; Grote, 1998; Clark, Mills, &amp; Corcoran, 198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more likely to have communal relationships with friends and are therefore more likely to help even when there is nothing in it for us.  In fact, we like to help a partner in a communal relationship more than a partner in an exchange relationship (Williamson, Clark, Pegalis, &amp; Behan, 199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are struggling to pass a difficult premed physics course, and that two other people in the class—your best friend and a complete stranger—ask you to lend them your notes from a class they missed.  According to Tesser’s (1988)  research, you will be more inclined to help the stranger than your friend (Tesser, 1991; Tesser &amp; Smith, 1980).  Why? Because it hurts to see a close friend do better than we do in an area of great importance to our self-este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ligions teach some version of the Golden Rule, urging us to do unto others as we would have others do unto us.  There are many saintly people in the world who succeed in following this rule, devoting their lives to the welfare of others.  We would all be better off, however, if prosocial behavior were more common than it is.  How can we get people, when faced with an emergency, to act more like Abe Zelmanowitz and less like Kitty Genovese’s neighbor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years ago at Cornell University, several students intervened to prevent another student from committing suicide.  As is often the case with emergencies, the situation was very confusing, and at first, the bystanders were not sure what was happening or what they should do.  The student who led the intervention said that she was reminded of a lecture she had heard on bystander intervention in her introductory psychology class a few days before and realized that if she didn’t act, no one would (Savitsky,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consider an incident at Vassar College not long ago, where students saw someone being attacked by a mugger.  Like Kitty Genovese’s neighbors, most of them did nothing, probably because they assumed that somebody else had already called the police.  One of the students, however, immediately called the campus police because she was struck by how similar the situation was to the studies on bystander intervention she had read about in her social psychology course—even though she had taken the class more than a year earlier (Coats, 1998).</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a new field known as </a:t>
            </a:r>
            <a:r>
              <a:rPr b="0" i="1" lang="en-US" sz="1200" spc="-1" strike="noStrike">
                <a:solidFill>
                  <a:srgbClr val="000000"/>
                </a:solidFill>
                <a:latin typeface="Arial"/>
              </a:rPr>
              <a:t>positive psychology</a:t>
            </a:r>
            <a:r>
              <a:rPr b="0" lang="en-US" sz="1200" spc="-1" strike="noStrike">
                <a:solidFill>
                  <a:srgbClr val="000000"/>
                </a:solidFill>
                <a:latin typeface="Arial"/>
              </a:rPr>
              <a:t> has emerged (Seligman, 2002; Seligman, Steen, &amp; Park,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Seligman, an influential clinical psychologist, observed that much of psychology—particularly clinical psychology—had focused on mental disorders, largely ignoring how to define and nurture psychological health.  Psychology should not just be the study of “disease, weakness, and damage,” he argued, but the study of “strength and virtue” (2002, p.  4).  Largely through Seligman’s efforts, many psychologists are now focusing on such topics as the nature of healthy human functioning, how to define and categorize human strengths, and how to improve people’s l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o (198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ge &amp; Yousif, 1992; Steblay, 198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were the case, people who grew in small towns would be more likely to help, even if they were visiting a big 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Milgram (1970), for example, suggested that people living in cities are constantly bombarded with stimulation and that they keep to themselves in order to avoid being overwhelmed by i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blay, 1987).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field studies conducted in thirty-six cities in the United States, population density (the number of people per square mile) was more related to helping than population size was (Levine, Martinez, Brase, &amp; Sorenson, 1994).  The greater the density of people, the less likely people were to help.  This makes sense, according to the urban overload hypothesis: There should be more stimulation in a small area packed with a lot of people than in a large area where the same number of people are spread out.  The hustle and bustle in cities can be so overwhelming that even caring, altruistic people turn inward, responding less to the people around the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areas of the world, it is common for people to move far away from where they were raised (Hochstadt, 1999).  In the year 2000, for example, nearly 1 in 5 Americans (18%) were living in a different state than they were in 1995 ("Migration and Geographic Mobility," 2003), and in many urban areas, fewer than half of the residents were living in the same house as they were in 1995 (Oishi et al., 20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1986, Oishi et al., 2006).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FD7F2-A71D-47D1-9EE5-8ECEABEF0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B34DF-1E89-4E66-829B-014ABBC4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F83CC-9AC1-4F8E-ADB8-82318F5E0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E77A8-E0C3-4DA8-B78F-7354A281E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8B2BE-F38E-400A-AB9A-A3B703FFE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8AA7-37F6-4E3F-8FC1-C6884032C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2A38B-FE3A-4EA5-A420-B5ECF79B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F6DFF-7EBC-4E73-8053-31195FC63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0F1E5-AF46-4C51-8C72-91EE5D5F1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45202-4941-49C3-9ADE-A5463F93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E2A7-DEFB-4FF9-A3B9-E26FA5A86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0D878-3525-4660-BAE3-513655C9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5A4A0-F6BE-43A2-9004-074F9DA35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1A82-FB35-49CE-8BD6-50C875111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B422E-6B4E-4F08-80EC-D63A2D4E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17E03-CC97-4FCB-BFCA-B3978B83A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A1B69-2F05-414A-B5BB-FF510F998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99BE-8CC4-43EA-8D00-ACE3ED46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57FC-979B-489F-8E32-E82BB058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4C648-21A5-44DB-94D4-FC65DA2E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D1E6-B955-4C21-8C31-71CDD6BD1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5896-8213-489B-BDE4-4CBF0900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6DFF-EE1A-4EFC-948D-2C818148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355F-8328-431B-870E-7242286E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5097-6228-4461-B01C-D5A3523A7BF4}"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0D52-5899-492A-A930-D0F241918BF4}"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57-370)</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Number of Bystanders: </a:t>
            </a:r>
            <a:br>
              <a:rPr sz="4400"/>
            </a:br>
            <a:r>
              <a:rPr b="1" lang="en-US" sz="4400" spc="-1" strike="noStrike">
                <a:solidFill>
                  <a:srgbClr val="33cc33"/>
                </a:solidFill>
                <a:latin typeface="Arial Narrow"/>
              </a:rPr>
              <a:t>The Bystander Effect</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7" name="PlaceHolder 2"/>
          <p:cNvSpPr>
            <a:spLocks noGrp="1"/>
          </p:cNvSpPr>
          <p:nvPr>
            <p:ph/>
          </p:nvPr>
        </p:nvSpPr>
        <p:spPr>
          <a:xfrm>
            <a:off x="762120" y="1905120"/>
            <a:ext cx="815328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ibb Latané and John Darley (1970) are two social psychologists who taught at universities in New York at the time of Kitty Genovese's prolonged murder, when 38 witnesses failed to call polic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radoxically, they thought, it might be that the greater the number of bystanders who observe an emergency, the less likely any one of them is to help.  </a:t>
            </a:r>
            <a:endParaRPr b="0" lang="en-US" sz="28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Number of Bystanders: </a:t>
            </a:r>
            <a:br>
              <a:rPr sz="4400"/>
            </a:br>
            <a:r>
              <a:rPr b="1" lang="en-US" sz="4400" spc="-1" strike="noStrike">
                <a:solidFill>
                  <a:srgbClr val="33cc33"/>
                </a:solidFill>
                <a:latin typeface="Arial Narrow"/>
              </a:rPr>
              <a:t>The Bystander Effect</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9"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tané and Darley (1970) found that in terms of receiving help, there is no safety in numb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zens of other studies, conducted in the laboratory and in the field, have found what they found: The greater the number of bystanders who witness an emergency, the less likely any one of them is to help the victim.</a:t>
            </a:r>
            <a:endParaRPr b="0" lang="en-US" sz="2800" spc="-1" strike="noStrike">
              <a:solidFill>
                <a:srgbClr val="000000"/>
              </a:solidFill>
              <a:latin typeface="Arial Unicode MS"/>
            </a:endParaRPr>
          </a:p>
        </p:txBody>
      </p:sp>
      <p:sp>
        <p:nvSpPr>
          <p:cNvPr id="130" name=""/>
          <p:cNvSpPr/>
          <p:nvPr/>
        </p:nvSpPr>
        <p:spPr>
          <a:xfrm>
            <a:off x="1066680" y="5715000"/>
            <a:ext cx="7391520" cy="655560"/>
          </a:xfrm>
          <a:prstGeom prst="rect">
            <a:avLst/>
          </a:prstGeom>
          <a:solidFill>
            <a:srgbClr val="feeaa0"/>
          </a:solidFill>
          <a:ln w="76320">
            <a:solidFill>
              <a:srgbClr val="000000"/>
            </a:solidFill>
            <a:miter/>
          </a:ln>
        </p:spPr>
        <p:style>
          <a:lnRef idx="0"/>
          <a:fillRef idx="0"/>
          <a:effectRef idx="0"/>
          <a:fontRef idx="minor"/>
        </p:style>
        <p:txBody>
          <a:bodyPr lIns="90000" rIns="90000" tIns="46800" bIns="46800" anchor="t">
            <a:normAutofit fontScale="92000"/>
          </a:bodyPr>
          <a:p>
            <a:pPr marL="315360" indent="-315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s known as the </a:t>
            </a:r>
            <a:r>
              <a:rPr b="1" lang="en-US" sz="3200" spc="-1" strike="noStrike">
                <a:solidFill>
                  <a:srgbClr val="000000"/>
                </a:solidFill>
                <a:latin typeface="Arial Unicode MS"/>
              </a:rPr>
              <a:t>bystander effect.</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85800" y="1387440"/>
            <a:ext cx="8153280" cy="5165640"/>
          </a:xfrm>
          <a:prstGeom prst="rect">
            <a:avLst/>
          </a:prstGeom>
          <a:ln w="0">
            <a:noFill/>
          </a:ln>
        </p:spPr>
      </p:pic>
      <p:sp>
        <p:nvSpPr>
          <p:cNvPr id="132" name=""/>
          <p:cNvSpPr/>
          <p:nvPr/>
        </p:nvSpPr>
        <p:spPr>
          <a:xfrm>
            <a:off x="990720" y="104760"/>
            <a:ext cx="7619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stander Interven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bystanders reduces hel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255680"/>
            <a:ext cx="8153280" cy="5297400"/>
          </a:xfrm>
          <a:prstGeom prst="rect">
            <a:avLst/>
          </a:prstGeom>
          <a:ln w="0">
            <a:noFill/>
          </a:ln>
        </p:spPr>
      </p:pic>
      <p:sp>
        <p:nvSpPr>
          <p:cNvPr id="134" name=""/>
          <p:cNvSpPr/>
          <p:nvPr/>
        </p:nvSpPr>
        <p:spPr>
          <a:xfrm>
            <a:off x="1979640" y="244440"/>
            <a:ext cx="570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stander Intervention Decision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ve steps to helping in an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Noticing an Event</a:t>
            </a:r>
            <a:endParaRPr b="1" lang="en-US" sz="4400" spc="-1" strike="noStrike">
              <a:solidFill>
                <a:srgbClr val="000000"/>
              </a:solidFill>
              <a:latin typeface="Arial Narrow"/>
            </a:endParaRPr>
          </a:p>
        </p:txBody>
      </p:sp>
      <p:sp>
        <p:nvSpPr>
          <p:cNvPr id="136"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rley and Batson (1973) demonstrated that something as trivial as being in a hurry can make more of a difference than what kind of person someone i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prisingly, they also found that the seminary students who were the most religious were no more likely to help than those who were the least religious.</a:t>
            </a:r>
            <a:endParaRPr b="0" lang="en-US" sz="2800" spc="-1" strike="noStrike">
              <a:solidFill>
                <a:srgbClr val="000000"/>
              </a:solidFill>
              <a:latin typeface="Arial Unicode MS"/>
            </a:endParaRPr>
          </a:p>
        </p:txBody>
      </p:sp>
      <p:pic>
        <p:nvPicPr>
          <p:cNvPr id="137" name="" descr=""/>
          <p:cNvPicPr/>
          <p:nvPr/>
        </p:nvPicPr>
        <p:blipFill>
          <a:blip r:embed="rId1"/>
          <a:stretch/>
        </p:blipFill>
        <p:spPr>
          <a:xfrm>
            <a:off x="380880" y="-76320"/>
            <a:ext cx="1981440" cy="1729080"/>
          </a:xfrm>
          <a:prstGeom prst="rect">
            <a:avLst/>
          </a:prstGeom>
          <a:ln w="0">
            <a:noFill/>
          </a:ln>
        </p:spPr>
      </p:pic>
      <p:sp>
        <p:nvSpPr>
          <p:cNvPr id="13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terpreting the Event</a:t>
            </a:r>
            <a:br>
              <a:rPr sz="4400"/>
            </a:br>
            <a:r>
              <a:rPr b="1" lang="en-US" sz="4400" spc="-1" strike="noStrike">
                <a:solidFill>
                  <a:srgbClr val="000000"/>
                </a:solidFill>
                <a:latin typeface="Arial Narrow"/>
              </a:rPr>
              <a:t>as an Emergency</a:t>
            </a:r>
            <a:endParaRPr b="1" lang="en-US" sz="4400" spc="-1" strike="noStrike">
              <a:solidFill>
                <a:srgbClr val="000000"/>
              </a:solidFill>
              <a:latin typeface="Arial Narrow"/>
            </a:endParaRPr>
          </a:p>
        </p:txBody>
      </p:sp>
      <p:sp>
        <p:nvSpPr>
          <p:cNvPr id="140"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ext determinant of helping is whether the bystander interprets the event as an emergency—as a situation where help is needed.</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 assume that nothing is wrong when an emergency is taking place, they will not help.</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other bystanders are present, people are more likely to assume that an emergency is something innocuous. </a:t>
            </a:r>
            <a:endParaRPr b="0" lang="en-US" sz="2800" spc="-1" strike="noStrike">
              <a:solidFill>
                <a:srgbClr val="000000"/>
              </a:solidFill>
              <a:latin typeface="Arial Unicode MS"/>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terpreting the Event</a:t>
            </a:r>
            <a:br>
              <a:rPr sz="4400"/>
            </a:br>
            <a:r>
              <a:rPr b="1" lang="en-US" sz="4400" spc="-1" strike="noStrike">
                <a:solidFill>
                  <a:srgbClr val="000000"/>
                </a:solidFill>
                <a:latin typeface="Arial Narrow"/>
              </a:rPr>
              <a:t>as an Emergency</a:t>
            </a:r>
            <a:endParaRPr b="1" lang="en-US" sz="4400" spc="-1" strike="noStrike">
              <a:solidFill>
                <a:srgbClr val="000000"/>
              </a:solidFill>
              <a:latin typeface="Arial Narrow"/>
            </a:endParaRPr>
          </a:p>
        </p:txBody>
      </p:sp>
      <p:sp>
        <p:nvSpPr>
          <p:cNvPr id="142" name="PlaceHolder 2"/>
          <p:cNvSpPr>
            <a:spLocks noGrp="1"/>
          </p:cNvSpPr>
          <p:nvPr>
            <p:ph/>
          </p:nvPr>
        </p:nvSpPr>
        <p:spPr>
          <a:xfrm>
            <a:off x="762120" y="2057400"/>
            <a:ext cx="807696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ext determinant of helping is whether the bystander interprets the event as an emergency—as a situation where help is needed.</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 assume that nothing is wrong when an emergency is taking place, they will not help.</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other bystanders are present, people are more likely to assume that an emergency is something innocuous. </a:t>
            </a:r>
            <a:endParaRPr b="0" lang="en-US" sz="2800" spc="-1" strike="noStrike">
              <a:solidFill>
                <a:srgbClr val="000000"/>
              </a:solidFill>
              <a:latin typeface="Arial Unicode MS"/>
            </a:endParaRPr>
          </a:p>
        </p:txBody>
      </p:sp>
      <p:sp>
        <p:nvSpPr>
          <p:cNvPr id="143" name=""/>
          <p:cNvSpPr/>
          <p:nvPr/>
        </p:nvSpPr>
        <p:spPr>
          <a:xfrm>
            <a:off x="1447920" y="1782720"/>
            <a:ext cx="6858000" cy="2332080"/>
          </a:xfrm>
          <a:prstGeom prst="rect">
            <a:avLst/>
          </a:prstGeom>
          <a:solidFill>
            <a:srgbClr val="009999"/>
          </a:soli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luralistic Ignorance</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ystanders’ assuming that nothing is wrong in an emergency because no one else looks concerned.</a:t>
            </a:r>
            <a:endParaRPr b="0" lang="en-US" sz="32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ssuming Responsibility</a:t>
            </a:r>
            <a:endParaRPr b="1" lang="en-US" sz="4400" spc="-1" strike="noStrike">
              <a:solidFill>
                <a:srgbClr val="000000"/>
              </a:solidFill>
              <a:latin typeface="Arial Narrow"/>
            </a:endParaRPr>
          </a:p>
        </p:txBody>
      </p:sp>
      <p:sp>
        <p:nvSpPr>
          <p:cNvPr id="145"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metimes it is obvious that an emergency is occurring, as when Kitty Genovese cried out, “Oh my God, he stabbed me! Please help me! Please help me!”</a:t>
            </a:r>
            <a:endParaRPr b="0" lang="en-US" sz="3200" spc="-1" strike="noStrike">
              <a:solidFill>
                <a:srgbClr val="000000"/>
              </a:solidFill>
              <a:latin typeface="Arial Unicode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ven if we interpret an event as an emergency, we have to decide that it is </a:t>
            </a:r>
            <a:r>
              <a:rPr b="0" i="1" lang="en-US" sz="3200" spc="-1" strike="noStrike">
                <a:solidFill>
                  <a:srgbClr val="000000"/>
                </a:solidFill>
                <a:latin typeface="Arial Unicode MS"/>
              </a:rPr>
              <a:t>our</a:t>
            </a:r>
            <a:r>
              <a:rPr b="0" lang="en-US" sz="3200" spc="-1" strike="noStrike">
                <a:solidFill>
                  <a:srgbClr val="000000"/>
                </a:solidFill>
                <a:latin typeface="Arial Unicode MS"/>
              </a:rPr>
              <a:t> responsibility—not someone else’s—to do something about it.  </a:t>
            </a:r>
            <a:endParaRPr b="0" lang="en-US" sz="32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80880" y="-76320"/>
            <a:ext cx="4419720" cy="7162920"/>
          </a:xfrm>
          <a:prstGeom prst="rect">
            <a:avLst/>
          </a:prstGeom>
          <a:ln w="0">
            <a:noFill/>
          </a:ln>
        </p:spPr>
      </p:pic>
      <p:pic>
        <p:nvPicPr>
          <p:cNvPr id="147" name="" descr=""/>
          <p:cNvPicPr/>
          <p:nvPr/>
        </p:nvPicPr>
        <p:blipFill>
          <a:blip r:embed="rId2"/>
          <a:stretch/>
        </p:blipFill>
        <p:spPr>
          <a:xfrm>
            <a:off x="4648320" y="-76320"/>
            <a:ext cx="4724280" cy="7162920"/>
          </a:xfrm>
          <a:prstGeom prst="rect">
            <a:avLst/>
          </a:prstGeom>
          <a:ln w="0">
            <a:noFill/>
          </a:ln>
        </p:spPr>
      </p:pic>
      <p:sp>
        <p:nvSpPr>
          <p:cNvPr id="14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Assuming Responsibility</a:t>
            </a:r>
            <a:endParaRPr b="1" lang="en-US" sz="5400" spc="-1" strike="noStrike">
              <a:solidFill>
                <a:srgbClr val="000000"/>
              </a:solidFill>
              <a:latin typeface="Arial Narrow"/>
            </a:endParaRPr>
          </a:p>
        </p:txBody>
      </p:sp>
      <p:sp>
        <p:nvSpPr>
          <p:cNvPr id="149" name="PlaceHolder 2"/>
          <p:cNvSpPr>
            <a:spLocks noGrp="1"/>
          </p:cNvSpPr>
          <p:nvPr>
            <p:ph/>
          </p:nvPr>
        </p:nvSpPr>
        <p:spPr>
          <a:xfrm>
            <a:off x="1371600" y="1782720"/>
            <a:ext cx="6781680" cy="2789280"/>
          </a:xfrm>
          <a:prstGeom prst="rect">
            <a:avLst/>
          </a:prstGeom>
          <a:gradFill rotWithShape="0">
            <a:gsLst>
              <a:gs pos="0">
                <a:srgbClr val="bbe0e3"/>
              </a:gs>
              <a:gs pos="100000">
                <a:srgbClr val="ffffff"/>
              </a:gs>
            </a:gsLst>
            <a:lin ang="5400000"/>
          </a:gradFill>
          <a:ln w="57240">
            <a:solidFill>
              <a:srgbClr val="000000"/>
            </a:solidFill>
            <a:miter/>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Diffusion of Responsibility</a:t>
            </a:r>
            <a:endParaRPr b="0" lang="en-US" sz="3200" spc="-1" strike="noStrike">
              <a:solidFill>
                <a:srgbClr val="000000"/>
              </a:solidFill>
              <a:latin typeface="Arial Unicode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phenomenon whereby each bystander’s sense of responsibility to help decreases as the number of witnesses increases. </a:t>
            </a:r>
            <a:endParaRPr b="0" lang="en-US" sz="3200" spc="-1" strike="noStrike">
              <a:solidFill>
                <a:srgbClr val="000000"/>
              </a:solidFill>
              <a:latin typeface="Arial Unicode MS"/>
            </a:endParaRPr>
          </a:p>
        </p:txBody>
      </p:sp>
      <p:sp>
        <p:nvSpPr>
          <p:cNvPr id="150"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Knowing How to Help</a:t>
            </a:r>
            <a:endParaRPr b="1" lang="en-US" sz="4400" spc="-1" strike="noStrike">
              <a:solidFill>
                <a:srgbClr val="000000"/>
              </a:solidFill>
              <a:latin typeface="Arial Narrow"/>
            </a:endParaRPr>
          </a:p>
        </p:txBody>
      </p:sp>
      <p:sp>
        <p:nvSpPr>
          <p:cNvPr id="152"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that on a hot summer day, you see a woman collapse in the street.  No one else seems to be helping, and so you decide it is up to you.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what should you do?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s the woman had a heart attack?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s she suffering from heatstroke?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hould you call an ambulance, administer CPR, or try to get her out of the sun? </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eople don’t know what form of assistance to give, obviously they will be unable to help. </a:t>
            </a:r>
            <a:endParaRPr b="0" lang="en-US" sz="2400" spc="-1" strike="noStrike">
              <a:solidFill>
                <a:srgbClr val="000000"/>
              </a:solidFill>
              <a:latin typeface="Arial Unicode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3160"/>
            <a:ext cx="78487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Situational Determinants of Prosocial Behavior: </a:t>
            </a:r>
            <a:br>
              <a:rPr sz="4800"/>
            </a:br>
            <a:r>
              <a:rPr b="1" lang="en-US" sz="4800" spc="-1" strike="noStrike">
                <a:solidFill>
                  <a:srgbClr val="f1740d"/>
                </a:solidFill>
                <a:latin typeface="Arial Narrow"/>
              </a:rPr>
              <a:t>When Will People Help?</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eciding to Implement the Help</a:t>
            </a:r>
            <a:endParaRPr b="1" lang="en-US" sz="4400" spc="-1" strike="noStrike">
              <a:solidFill>
                <a:srgbClr val="000000"/>
              </a:solidFill>
              <a:latin typeface="Arial Narrow"/>
            </a:endParaRPr>
          </a:p>
        </p:txBody>
      </p:sp>
      <p:sp>
        <p:nvSpPr>
          <p:cNvPr id="154" name="PlaceHolder 2"/>
          <p:cNvSpPr>
            <a:spLocks noGrp="1"/>
          </p:cNvSpPr>
          <p:nvPr>
            <p:ph/>
          </p:nvPr>
        </p:nvSpPr>
        <p:spPr>
          <a:xfrm>
            <a:off x="837720" y="1706040"/>
            <a:ext cx="8077320" cy="4923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ven if you know exactly what kind of help is appropriate, there are still reasons why you might decide not to intervene:</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You might not be qualified to deliver the right kind of help.</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You might be afraid of:</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king a fool of yourself, </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ing the wrong thing, or </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lacing yourself in danger</a:t>
            </a:r>
            <a:endParaRPr b="0" lang="en-US" sz="28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6" name="PlaceHolder 2"/>
          <p:cNvSpPr>
            <a:spLocks noGrp="1"/>
          </p:cNvSpPr>
          <p:nvPr>
            <p:ph/>
          </p:nvPr>
        </p:nvSpPr>
        <p:spPr>
          <a:xfrm>
            <a:off x="762120" y="1782360"/>
            <a:ext cx="807696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Communal relationships</a:t>
            </a:r>
            <a:r>
              <a:rPr b="0" lang="en-US" sz="2800" spc="-1" strike="noStrike">
                <a:solidFill>
                  <a:srgbClr val="000000"/>
                </a:solidFill>
                <a:latin typeface="Arial Unicode MS"/>
              </a:rPr>
              <a:t> are those in which people’s primary concern is with the welfare of the other person (e.g., a child), whereas </a:t>
            </a:r>
            <a:r>
              <a:rPr b="0" i="1" lang="en-US" sz="2800" spc="-1" strike="noStrike">
                <a:solidFill>
                  <a:srgbClr val="000000"/>
                </a:solidFill>
                <a:latin typeface="Arial Unicode MS"/>
              </a:rPr>
              <a:t>exchange relationships</a:t>
            </a:r>
            <a:r>
              <a:rPr b="0" lang="en-US" sz="2800" spc="-1" strike="noStrike">
                <a:solidFill>
                  <a:srgbClr val="000000"/>
                </a:solidFill>
                <a:latin typeface="Arial Unicode MS"/>
              </a:rPr>
              <a:t> are governed by concerns about equity—that what you put into the relationship equals what you get out of i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does helping occur in communal relationships?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8" name="PlaceHolder 2"/>
          <p:cNvSpPr>
            <a:spLocks noGrp="1"/>
          </p:cNvSpPr>
          <p:nvPr>
            <p:ph/>
          </p:nvPr>
        </p:nvSpPr>
        <p:spPr>
          <a:xfrm>
            <a:off x="837720" y="1858680"/>
            <a:ext cx="807732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exchange relationships, we expect our favors to be repaid pretty quickly.</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hat have they done for me lately?)</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in communal relationships pay less attention to who is getting what than people in exchange relationships do.</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60" name="PlaceHolder 2"/>
          <p:cNvSpPr>
            <a:spLocks noGrp="1"/>
          </p:cNvSpPr>
          <p:nvPr>
            <p:ph/>
          </p:nvPr>
        </p:nvSpPr>
        <p:spPr>
          <a:xfrm>
            <a:off x="762120" y="1858680"/>
            <a:ext cx="807696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Under most circumstances, people are more helpful toward friends than strang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 interesting exceptio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are less likely to help a friend in important areas than we are in areas we don’t care as much abou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838080"/>
            <a:ext cx="822960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ppose you are struggling to pass a difficult premed physics course, and that two other people in the class—your best friend and a complete stranger—ask you to lend them your notes from a class they missed.</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ording to Tesser’s (1988)  research, you will be more inclined to help the stranger than your friend (Tesser, 1991; Tesser &amp; Smith, 1980).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Unicode MS"/>
              </a:rPr>
              <a:t>W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09480"/>
            <a:ext cx="81532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cause it hurts to see a close friend do better than we do in an area of great importance to our self-esteem.</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8487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How Can Helping Be Increased?</a:t>
            </a:r>
            <a:endParaRPr b="1" lang="en-US" sz="5400" spc="-1" strike="noStrike">
              <a:solidFill>
                <a:srgbClr val="000000"/>
              </a:solidFill>
              <a:latin typeface="Arial Narrow"/>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creasing the Likelihood that Bystanders Will Interven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65" name="PlaceHolder 2"/>
          <p:cNvSpPr>
            <a:spLocks noGrp="1"/>
          </p:cNvSpPr>
          <p:nvPr>
            <p:ph/>
          </p:nvPr>
        </p:nvSpPr>
        <p:spPr>
          <a:xfrm>
            <a:off x="685440" y="1782360"/>
            <a:ext cx="8381880" cy="210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mply being aware of the barriers to helping in an emergency can increase people’s chances of overcoming those barriers.</a:t>
            </a:r>
            <a:endParaRPr b="0" lang="en-US" sz="2800" spc="-1" strike="noStrike">
              <a:solidFill>
                <a:srgbClr val="000000"/>
              </a:solidFill>
              <a:latin typeface="Arial Unicode MS"/>
            </a:endParaRPr>
          </a:p>
        </p:txBody>
      </p:sp>
      <p:pic>
        <p:nvPicPr>
          <p:cNvPr id="166" name="" descr=""/>
          <p:cNvPicPr/>
          <p:nvPr/>
        </p:nvPicPr>
        <p:blipFill>
          <a:blip r:embed="rId1"/>
          <a:stretch/>
        </p:blipFill>
        <p:spPr>
          <a:xfrm>
            <a:off x="4900680" y="3429000"/>
            <a:ext cx="3405240" cy="2809800"/>
          </a:xfrm>
          <a:prstGeom prst="rect">
            <a:avLst/>
          </a:prstGeom>
          <a:ln w="0">
            <a:noFill/>
          </a:ln>
        </p:spPr>
      </p:pic>
      <p:sp>
        <p:nvSpPr>
          <p:cNvPr id="167" name=""/>
          <p:cNvSpPr/>
          <p:nvPr/>
        </p:nvSpPr>
        <p:spPr>
          <a:xfrm>
            <a:off x="685800" y="3505320"/>
            <a:ext cx="396252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know about bystander effects can realize that if they don’t act, perhaps no one will.</a:t>
            </a:r>
            <a:endParaRPr b="0" lang="en-US" sz="28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ositive Psychology and</a:t>
            </a:r>
            <a:br>
              <a:rPr sz="4400"/>
            </a:br>
            <a:r>
              <a:rPr b="1" lang="en-US" sz="4400" spc="-1" strike="noStrike">
                <a:solidFill>
                  <a:srgbClr val="33cc33"/>
                </a:solidFill>
                <a:latin typeface="Arial Narrow"/>
              </a:rPr>
              <a:t>Prosocial Behavior</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69" name="PlaceHolder 2"/>
          <p:cNvSpPr>
            <a:spLocks noGrp="1"/>
          </p:cNvSpPr>
          <p:nvPr>
            <p:ph/>
          </p:nvPr>
        </p:nvSpPr>
        <p:spPr>
          <a:xfrm>
            <a:off x="762120" y="1935000"/>
            <a:ext cx="8076960" cy="477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new field called positive psychology has emerged that focuses on people's strengths and virtues, instead of mental diseas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ocial psychological approach is to investigate the conditions under which people act in positive (e.g., helpful) and negative (e.g., unhelpful) way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example, people will help at a cost to themselves when they feel empathy toward a person in need.  When they do not feel empathy, they will help only when it is in their self-interest. </a:t>
            </a:r>
            <a:endParaRPr b="0" lang="en-US" sz="24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iscussion Question</a:t>
            </a:r>
            <a:endParaRPr b="1" lang="en-US" sz="4400" spc="-1" strike="noStrike">
              <a:solidFill>
                <a:srgbClr val="000000"/>
              </a:solidFill>
              <a:latin typeface="Arial Narrow"/>
            </a:endParaRPr>
          </a:p>
        </p:txBody>
      </p:sp>
      <p:sp>
        <p:nvSpPr>
          <p:cNvPr id="171" name="PlaceHolder 2"/>
          <p:cNvSpPr>
            <a:spLocks noGrp="1"/>
          </p:cNvSpPr>
          <p:nvPr>
            <p:ph/>
          </p:nvPr>
        </p:nvSpPr>
        <p:spPr>
          <a:xfrm>
            <a:off x="762120" y="1752120"/>
            <a:ext cx="8153280" cy="4830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ording to </a:t>
            </a:r>
            <a:r>
              <a:rPr b="1" lang="en-US" sz="2800" spc="-1" strike="noStrike">
                <a:solidFill>
                  <a:srgbClr val="3399ff"/>
                </a:solidFill>
                <a:latin typeface="Arial Unicode MS"/>
              </a:rPr>
              <a:t>CONNECTIONS</a:t>
            </a:r>
            <a:r>
              <a:rPr b="0" lang="en-US" sz="2800" spc="-1" strike="noStrike">
                <a:solidFill>
                  <a:srgbClr val="000000"/>
                </a:solidFill>
                <a:latin typeface="Arial Unicode MS"/>
              </a:rPr>
              <a:t> (P. 368), “to increase people’s willingness to spend time helping others… some institutions have responded by requiring their members to perform community service”</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	</a:t>
            </a:r>
            <a:r>
              <a:rPr b="0" i="1" lang="en-US" sz="2800" spc="-1" strike="noStrike">
                <a:solidFill>
                  <a:srgbClr val="000000"/>
                </a:solidFill>
                <a:latin typeface="Arial Unicode MS"/>
              </a:rPr>
              <a:t>Do you think those LNHS programs which “require” volunteerism  increase a student’s willingness to help others in the future?</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2000"/>
                                        <p:tgtEl>
                                          <p:spTgt spid="1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2" dur="2000"/>
                                        <p:tgtEl>
                                          <p:spTgt spid="17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7" dur="2000"/>
                                        <p:tgtEl>
                                          <p:spTgt spid="17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2"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97" name="PlaceHolder 2"/>
          <p:cNvSpPr>
            <a:spLocks noGrp="1"/>
          </p:cNvSpPr>
          <p:nvPr>
            <p:ph/>
          </p:nvPr>
        </p:nvSpPr>
        <p:spPr>
          <a:xfrm>
            <a:off x="685800" y="202716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you are walking down the street one day when you see a man suddenly fall down and cry out with pain.  He rolls up his pants leg, revealing a bandaged shin that is bleeding heavily.  What would you do?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this event was staged in small towns, about half the people who walked by stopped and offered to help the man.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large cities, only 15% of passersby stopped to  help.</a:t>
            </a:r>
            <a:endParaRPr b="0" lang="en-US" sz="2400" spc="-1" strike="noStrike">
              <a:solidFill>
                <a:srgbClr val="000000"/>
              </a:solidFill>
              <a:latin typeface="Arial Unicode MS"/>
            </a:endParaRPr>
          </a:p>
        </p:txBody>
      </p:sp>
      <p:pic>
        <p:nvPicPr>
          <p:cNvPr id="98" name="" descr=""/>
          <p:cNvPicPr/>
          <p:nvPr/>
        </p:nvPicPr>
        <p:blipFill>
          <a:blip r:embed="rId1"/>
          <a:stretch/>
        </p:blipFill>
        <p:spPr>
          <a:xfrm>
            <a:off x="7326360" y="0"/>
            <a:ext cx="1817640" cy="1398600"/>
          </a:xfrm>
          <a:prstGeom prst="rect">
            <a:avLst/>
          </a:prstGeom>
          <a:ln w="0">
            <a:noFill/>
          </a:ln>
        </p:spPr>
      </p:pic>
      <p:pic>
        <p:nvPicPr>
          <p:cNvPr id="99" name="" descr=""/>
          <p:cNvPicPr/>
          <p:nvPr/>
        </p:nvPicPr>
        <p:blipFill>
          <a:blip r:embed="rId2"/>
          <a:stretch/>
        </p:blipFill>
        <p:spPr>
          <a:xfrm>
            <a:off x="457200" y="0"/>
            <a:ext cx="1827360" cy="1371600"/>
          </a:xfrm>
          <a:prstGeom prst="rect">
            <a:avLst/>
          </a:prstGeom>
          <a:ln w="0">
            <a:noFill/>
          </a:ln>
        </p:spPr>
      </p:pic>
      <p:sp>
        <p:nvSpPr>
          <p:cNvPr id="10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ESEARCH FINDINGS</a:t>
            </a:r>
            <a:endParaRPr b="1" lang="en-US" sz="4400" spc="-1" strike="noStrike">
              <a:solidFill>
                <a:srgbClr val="000000"/>
              </a:solidFill>
              <a:latin typeface="Arial Narrow"/>
            </a:endParaRPr>
          </a:p>
        </p:txBody>
      </p:sp>
      <p:sp>
        <p:nvSpPr>
          <p:cNvPr id="173"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re that people feel they are volunteering because of external requirements, the less likely they are to volunteer freely in the future (called the </a:t>
            </a:r>
            <a:r>
              <a:rPr b="0" i="1" lang="en-US" sz="2800" spc="-1" strike="noStrike">
                <a:solidFill>
                  <a:srgbClr val="000000"/>
                </a:solidFill>
                <a:latin typeface="Arial Unicode MS"/>
              </a:rPr>
              <a:t>overjustification effect</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Knowing this, how could LNHS programs which require volunteerism be improved?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72"/>
                                        </p:tgtEl>
                                        <p:attrNameLst>
                                          <p:attrName>style.visibility</p:attrName>
                                        </p:attrNameLst>
                                      </p:cBhvr>
                                      <p:to>
                                        <p:strVal val="visible"/>
                                      </p:to>
                                    </p:set>
                                    <p:animEffect filter="fade" transition="in">
                                      <p:cBhvr additive="repl">
                                        <p:cTn id="29" dur="2000"/>
                                        <p:tgtEl>
                                          <p:spTgt spid="17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4" dur="2000"/>
                                        <p:tgtEl>
                                          <p:spTgt spid="17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9"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479760" y="2971800"/>
            <a:ext cx="2386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02" name="PlaceHolder 2"/>
          <p:cNvSpPr>
            <a:spLocks noGrp="1"/>
          </p:cNvSpPr>
          <p:nvPr>
            <p:ph/>
          </p:nvPr>
        </p:nvSpPr>
        <p:spPr>
          <a:xfrm>
            <a:off x="685800" y="19810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 studies have found that people in small towns are more likely to help when asked to find a lost child, give directions, and return a lost letter.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has been found to be more prevalent in small towns in several countries, including the United States, Canada, Israel, Australia, Turkey, Great Britain, and the Suda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Unicode MS"/>
              </a:rPr>
              <a:t>But why?</a:t>
            </a:r>
            <a:endParaRPr b="0" lang="en-US" sz="2800" spc="-1" strike="noStrike">
              <a:solidFill>
                <a:srgbClr val="000000"/>
              </a:solidFill>
              <a:latin typeface="Arial Unicode MS"/>
            </a:endParaRPr>
          </a:p>
        </p:txBody>
      </p:sp>
      <p:pic>
        <p:nvPicPr>
          <p:cNvPr id="103" name="" descr=""/>
          <p:cNvPicPr/>
          <p:nvPr/>
        </p:nvPicPr>
        <p:blipFill>
          <a:blip r:embed="rId1"/>
          <a:stretch/>
        </p:blipFill>
        <p:spPr>
          <a:xfrm>
            <a:off x="7326360" y="0"/>
            <a:ext cx="1817640" cy="1398600"/>
          </a:xfrm>
          <a:prstGeom prst="rect">
            <a:avLst/>
          </a:prstGeom>
          <a:ln w="0">
            <a:noFill/>
          </a:ln>
        </p:spPr>
      </p:pic>
      <p:pic>
        <p:nvPicPr>
          <p:cNvPr id="104" name="" descr=""/>
          <p:cNvPicPr/>
          <p:nvPr/>
        </p:nvPicPr>
        <p:blipFill>
          <a:blip r:embed="rId2"/>
          <a:stretch/>
        </p:blipFill>
        <p:spPr>
          <a:xfrm>
            <a:off x="457200" y="0"/>
            <a:ext cx="1827360" cy="1371600"/>
          </a:xfrm>
          <a:prstGeom prst="rect">
            <a:avLst/>
          </a:prstGeom>
          <a:ln w="0">
            <a:noFill/>
          </a:ln>
        </p:spPr>
      </p:pic>
      <p:sp>
        <p:nvSpPr>
          <p:cNvPr id="1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07" name="PlaceHolder 2"/>
          <p:cNvSpPr>
            <a:spLocks noGrp="1"/>
          </p:cNvSpPr>
          <p:nvPr>
            <p:ph/>
          </p:nvPr>
        </p:nvSpPr>
        <p:spPr>
          <a:xfrm>
            <a:off x="685800" y="1980720"/>
            <a:ext cx="8153280" cy="38862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haps people who grow up in a small town are more likely to internalize altruistic values.</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2800" spc="-1" strike="noStrike">
                <a:solidFill>
                  <a:srgbClr val="000000"/>
                </a:solidFill>
                <a:latin typeface="Arial Unicode MS"/>
              </a:rPr>
              <a:t>	</a:t>
            </a:r>
            <a:r>
              <a:rPr b="0" lang="en-US" sz="2800" spc="-1" strike="noStrike">
                <a:solidFill>
                  <a:srgbClr val="000000"/>
                </a:solidFill>
                <a:latin typeface="Arial Unicode MS"/>
              </a:rPr>
              <a:t>Alternatively, the immediate surroundings might be the key and not people's internalized values.</a:t>
            </a:r>
            <a:endParaRPr b="0" lang="en-US" sz="2800" spc="-1" strike="noStrike">
              <a:solidFill>
                <a:srgbClr val="000000"/>
              </a:solidFill>
              <a:latin typeface="Arial Unicode MS"/>
            </a:endParaRPr>
          </a:p>
        </p:txBody>
      </p:sp>
      <p:pic>
        <p:nvPicPr>
          <p:cNvPr id="108" name="" descr=""/>
          <p:cNvPicPr/>
          <p:nvPr/>
        </p:nvPicPr>
        <p:blipFill>
          <a:blip r:embed="rId1"/>
          <a:stretch/>
        </p:blipFill>
        <p:spPr>
          <a:xfrm>
            <a:off x="7326360" y="0"/>
            <a:ext cx="1817640" cy="1398600"/>
          </a:xfrm>
          <a:prstGeom prst="rect">
            <a:avLst/>
          </a:prstGeom>
          <a:ln w="0">
            <a:noFill/>
          </a:ln>
        </p:spPr>
      </p:pic>
      <p:pic>
        <p:nvPicPr>
          <p:cNvPr id="109" name="" descr=""/>
          <p:cNvPicPr/>
          <p:nvPr/>
        </p:nvPicPr>
        <p:blipFill>
          <a:blip r:embed="rId2"/>
          <a:stretch/>
        </p:blipFill>
        <p:spPr>
          <a:xfrm>
            <a:off x="457200" y="0"/>
            <a:ext cx="1827360" cy="1371600"/>
          </a:xfrm>
          <a:prstGeom prst="rect">
            <a:avLst/>
          </a:prstGeom>
          <a:ln w="0">
            <a:noFill/>
          </a:ln>
        </p:spPr>
      </p:pic>
      <p:sp>
        <p:nvSpPr>
          <p:cNvPr id="11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087640"/>
            <a:ext cx="7848720" cy="2408040"/>
          </a:xfrm>
          <a:prstGeom prst="rect">
            <a:avLst/>
          </a:prstGeom>
          <a:solidFill>
            <a:srgbClr val="d2d8c6"/>
          </a:solidFill>
          <a:ln w="381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Urban Overload Hypothesis</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theory that people living in cities are constantly being bombarded with stimulation and that they keep to themselves to avoid being overwhelmed by it. </a:t>
            </a:r>
            <a:endParaRPr b="0" lang="en-US" sz="2800" spc="-1" strike="noStrike">
              <a:solidFill>
                <a:srgbClr val="000000"/>
              </a:solidFill>
              <a:latin typeface="Arial"/>
            </a:endParaRPr>
          </a:p>
        </p:txBody>
      </p:sp>
      <p:sp>
        <p:nvSpPr>
          <p:cNvPr id="112" name=""/>
          <p:cNvSpPr/>
          <p:nvPr/>
        </p:nvSpPr>
        <p:spPr>
          <a:xfrm>
            <a:off x="990720" y="4726080"/>
            <a:ext cx="7772400" cy="205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a:t>
            </a:r>
            <a:r>
              <a:rPr b="1" lang="en-US" sz="2800" spc="-1" strike="noStrike">
                <a:solidFill>
                  <a:srgbClr val="000000"/>
                </a:solidFill>
                <a:latin typeface="Arial"/>
              </a:rPr>
              <a:t>urban overload hypothesis,</a:t>
            </a:r>
            <a:r>
              <a:rPr b="0" lang="en-US" sz="2800" spc="-1" strike="noStrike">
                <a:solidFill>
                  <a:srgbClr val="000000"/>
                </a:solidFill>
                <a:latin typeface="Arial"/>
              </a:rPr>
              <a:t> if you put urban dwellers in a calmer, less stimulating environment, they would be as likely as anyone else to reach out to othe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2722680" y="149400"/>
            <a:ext cx="478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5" name="PlaceHolder 2"/>
          <p:cNvSpPr>
            <a:spLocks noGrp="1"/>
          </p:cNvSpPr>
          <p:nvPr>
            <p:ph/>
          </p:nvPr>
        </p:nvSpPr>
        <p:spPr>
          <a:xfrm>
            <a:off x="762120" y="1904760"/>
            <a:ext cx="8153280" cy="4647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 has supported the urban overload hypothesis more than the idea that living in cities makes people less altruistic by nature.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review of dozens of studies found that when an opportunity for helping arises, it matters more whether the incident occurs in a rural or urban area than where the witnesses grew up.</a:t>
            </a:r>
            <a:endParaRPr b="0" lang="en-US" sz="2800" spc="-1" strike="noStrike">
              <a:solidFill>
                <a:srgbClr val="000000"/>
              </a:solidFill>
              <a:latin typeface="Arial Unicode MS"/>
            </a:endParaRPr>
          </a:p>
        </p:txBody>
      </p:sp>
      <p:pic>
        <p:nvPicPr>
          <p:cNvPr id="116" name="" descr=""/>
          <p:cNvPicPr/>
          <p:nvPr/>
        </p:nvPicPr>
        <p:blipFill>
          <a:blip r:embed="rId1"/>
          <a:stretch/>
        </p:blipFill>
        <p:spPr>
          <a:xfrm>
            <a:off x="7326360" y="0"/>
            <a:ext cx="1817640" cy="1398600"/>
          </a:xfrm>
          <a:prstGeom prst="rect">
            <a:avLst/>
          </a:prstGeom>
          <a:ln w="0">
            <a:noFill/>
          </a:ln>
        </p:spPr>
      </p:pic>
      <p:pic>
        <p:nvPicPr>
          <p:cNvPr id="117" name="" descr=""/>
          <p:cNvPicPr/>
          <p:nvPr/>
        </p:nvPicPr>
        <p:blipFill>
          <a:blip r:embed="rId2"/>
          <a:stretch/>
        </p:blipFill>
        <p:spPr>
          <a:xfrm>
            <a:off x="457200" y="0"/>
            <a:ext cx="1827360" cy="1371600"/>
          </a:xfrm>
          <a:prstGeom prst="rect">
            <a:avLst/>
          </a:prstGeom>
          <a:ln w="0">
            <a:noFill/>
          </a:ln>
        </p:spPr>
      </p:pic>
      <p:sp>
        <p:nvSpPr>
          <p:cNvPr id="11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sidential Mobility</a:t>
            </a:r>
            <a:endParaRPr b="1" lang="en-US" sz="5400" spc="-1" strike="noStrike">
              <a:solidFill>
                <a:srgbClr val="000000"/>
              </a:solidFill>
              <a:latin typeface="Arial Narrow"/>
            </a:endParaRPr>
          </a:p>
        </p:txBody>
      </p:sp>
      <p:sp>
        <p:nvSpPr>
          <p:cNvPr id="120" name="PlaceHolder 2"/>
          <p:cNvSpPr>
            <a:spLocks noGrp="1"/>
          </p:cNvSpPr>
          <p:nvPr>
            <p:ph/>
          </p:nvPr>
        </p:nvSpPr>
        <p:spPr>
          <a:xfrm>
            <a:off x="685800" y="2133360"/>
            <a:ext cx="81532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is not only where you live that matters, but how often you have moved from one place to another.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have lived for a long time in one place are more likely to engage in prosocial behaviors that help the community. </a:t>
            </a:r>
            <a:endParaRPr b="0" lang="en-US" sz="2800" spc="-1" strike="noStrike">
              <a:solidFill>
                <a:srgbClr val="000000"/>
              </a:solidFill>
              <a:latin typeface="Arial Unicode MS"/>
            </a:endParaRPr>
          </a:p>
        </p:txBody>
      </p:sp>
      <p:pic>
        <p:nvPicPr>
          <p:cNvPr id="121" name="" descr=""/>
          <p:cNvPicPr/>
          <p:nvPr/>
        </p:nvPicPr>
        <p:blipFill>
          <a:blip r:embed="rId1"/>
          <a:stretch/>
        </p:blipFill>
        <p:spPr>
          <a:xfrm>
            <a:off x="5105520" y="3265560"/>
            <a:ext cx="1825560" cy="1230120"/>
          </a:xfrm>
          <a:prstGeom prst="rect">
            <a:avLst/>
          </a:prstGeom>
          <a:ln w="0">
            <a:noFill/>
          </a:ln>
        </p:spPr>
      </p:pic>
      <p:sp>
        <p:nvSpPr>
          <p:cNvPr id="12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sidential Mobility</a:t>
            </a:r>
            <a:endParaRPr b="1" lang="en-US" sz="5400" spc="-1" strike="noStrike">
              <a:solidFill>
                <a:srgbClr val="000000"/>
              </a:solidFill>
              <a:latin typeface="Arial Narrow"/>
            </a:endParaRPr>
          </a:p>
        </p:txBody>
      </p:sp>
      <p:sp>
        <p:nvSpPr>
          <p:cNvPr id="124"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have lived for a long time in one place are more likely to engage in prosocial behaviors that help the community. </a:t>
            </a:r>
            <a:endParaRPr b="0" lang="en-US" sz="2800" spc="-1" strike="noStrike">
              <a:solidFill>
                <a:srgbClr val="000000"/>
              </a:solidFill>
              <a:latin typeface="Arial Unicode MS"/>
            </a:endParaRPr>
          </a:p>
        </p:txBody>
      </p:sp>
      <p:sp>
        <p:nvSpPr>
          <p:cNvPr id="125" name=""/>
          <p:cNvSpPr/>
          <p:nvPr/>
        </p:nvSpPr>
        <p:spPr>
          <a:xfrm>
            <a:off x="990720" y="2011320"/>
            <a:ext cx="7543800" cy="2332080"/>
          </a:xfrm>
          <a:prstGeom prst="rect">
            <a:avLst/>
          </a:prstGeom>
          <a:solidFill>
            <a:srgbClr val="a0d3fe"/>
          </a:solidFill>
          <a:ln w="7632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ving for a long time in one place leads to:</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reater attachment to the commun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re interdependence with neighbors, an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reater concern with one's reputation in the community.</a:t>
            </a:r>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2-02T16:50:36Z</dcterms:modified>
  <cp:revision>157</cp:revision>
  <dc:subject/>
  <dc:title>Social Psychology</dc:title>
</cp:coreProperties>
</file>