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9.wmf" ContentType="image/x-wmf"/>
  <Override PartName="/ppt/media/image8.wmf" ContentType="image/x-wmf"/>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10.wmf" ContentType="image/x-wmf"/>
  <Override PartName="/ppt/media/image5.wmf" ContentType="image/x-wmf"/>
  <Override PartName="/ppt/media/image24.png" ContentType="image/pn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21.wmf" ContentType="image/x-wmf"/>
  <Override PartName="/ppt/media/image19.wmf" ContentType="image/x-wmf"/>
  <Override PartName="/ppt/media/image17.gif" ContentType="image/gif"/>
  <Override PartName="/ppt/media/image2.jpeg" ContentType="image/jpeg"/>
  <Override PartName="/ppt/media/image14.gif" ContentType="image/gif"/>
  <Override PartName="/ppt/media/image18.png" ContentType="image/png"/>
  <Override PartName="/ppt/media/image1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23DC-E95D-4F4E-82A5-F06D90769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losest relatives in the animal kingdom are two primates: the chimpanzees and the bonobos (also known as pygmy chimpanzees).  Both species have  98% of their DNA in common with human be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mpanzee is known for the aggressive behavior of its male members (Watts, Muller, Amsler, Mbabazi, Mitani 2006; Watts &amp;Mitani, 2001).  Wrangham, Wilson, and Muller (2006)  found that chimps kill each other at about the same rate that humans in hunter-gatherer societies kill each  other. Based on the research on chimpanzees we might conclude that humans, especially males, are genetically programmed for aggressive behavi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bonobo group arrives at a feeding ground, they first engage in sexual play, and then proceed to eat peacefully. In contrast, when chimps arrive at a feeding ground they compete aggressively for the food. Also, unlike the chimps, bonobo form into female dominated societies and are known for their sensitivity to others</a:t>
            </a:r>
            <a:r>
              <a:rPr b="0" lang="en-US" sz="1200" spc="-1" strike="noStrike" u="sng">
                <a:solidFill>
                  <a:srgbClr val="000000"/>
                </a:solidFill>
                <a:uFillTx/>
                <a:latin typeface="Arial"/>
              </a:rPr>
              <a:t> </a:t>
            </a:r>
            <a:r>
              <a:rPr b="0" lang="en-US" sz="1200" spc="-1" strike="noStrike">
                <a:solidFill>
                  <a:srgbClr val="000000"/>
                </a:solidFill>
                <a:latin typeface="Arial"/>
              </a:rPr>
              <a:t>in their group (Parish &amp; De Waal, 2000).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history, when condensed, consists of one major war after another; in contrast, certain “primitive” tribes, such as the Lepchas of Sikkim, the Pygmies of Central Africa, and the Arapesh of New Guinea, live in apparent peace and harmony, with acts of aggression being extremely rare (Baron &amp; Richardson,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st Teduray, a hunter-gatherer culture in the Phillipine rainforest, have established institutions and norms specifically designed to prevent intra-group violence.  In their societies, people are expected to pay special attention to the effect of their actions on the feelings of others.  When a situation arises, such as adultery, in which there is significant risk that anger will lead to violence, specific members of a Teduray village work to placate the injured individuals.  The Teduray acknowledge that humans are violent by nature, but believe that intragroup violence is not the way to live.  However, they will engage in violence to protect themselves from aggression from outside groups  (Schlegel 1998).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NDREDS OF YEARS, THE IROQUOIS OF NORTH AMERICA LIVED PEACEFULLY, AS A HUNTING NATION, WITHOUT ENGAGING IN AGGRESSIVE BEHAVIOR AGAINST OTHER TRIBES. BUT IN THE SEVENTEENTH CENTURY, BARTER WITH THE NEWLY ARRIVED EUROPEANS BROUGHT THE IROQUOIS INTO DIRECT COMPETITION WITH THE NEIGHBORING HURONS OVER FURS, WHICH DRAMATICALLY INCREASED IN VALUE, BECAUSE THEY COULD NOW BE TRADED FOR MANUFACTURED GOODS. A SERIES OF SKIRMISHES WITH THE HURONS ENSUED, AND WITHIN A SHORT TIME, THE IROQUOIS DEVELOPED INTO FEROCIOUS WARRIORS. IT WOULD BE HARD TO ARGUE THAT THEY WERE SPECTACULAR WARRIORS BECAUSE OF UNCONTROLLABLE AGGRESSIVE INSTINCTS; RATHER, THEIR (HUNT, 194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199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TERN SUGGESTS THAT THE “CULTURE OF HONOR” MAY HAVE BEGUN WITH (AND MAY BE CHARACTERISTIC OF) PARTICULAR ECONOMIC AND OCCUPATIONAL CIRCUMSTANCES, ESPECIALLY THE HERDING SOCIETY OF THE EARLY SOUTH AND THE OLD WEST, WHERE PROTECTION OF THE HERD WAS VITAL. IF YOU OWN CATTLE, CONSTANT VIGILANCE IS IMPOSSIBLE, THEREFORE, TO PROTECT YOUR CATTLE YOU WOULD WANT TO HAVE THE REPUTATION AS A PERSON OF HONOR WHO WILL BEHAVE AGGRESSIVELY AGAINST THIEVES AND RUSTL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nd his colleagues (Cohen, Nisbett, Bowdle, &amp; Schwarz, 1996) conducted a series of experiments in which they demonstrated that these norms characteristic of a “culture of honor” manifest themselves in the cognitions, emotions, behaviors, and physiological reactions of contemporary southern white males enrolled at the University of Michigan. In these experiments, each participant was “accidentally” bumped into by the experimenter’s confederate, who then insulted him by calling him a denigrating name. Compared with northern white males (who tended to simply shrug off the insult), southerners were more likely to think their masculine reputation was threatened, became more upset (as shown by a rise in cortisol levels in their bloodstream), were more physiologically primed for aggression (as shown by a rise in testosterone levels in their bloodstream), became more cognitively primed for aggression, and were ultimately more likely to engage in aggressive and dominant behavior following the incid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yer, 197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flexibility here also: The impact of neural mechanisms can be modified by social factors, even in nonhumans. For example, if a male monkey is in the presence of other less dominant monkeys, he will attack the other monkeys when the amygdale is stimulated. But if the amygdale is stimulated while the monkey is in the presence of more dominant monkeys, he will not attack but will run away instea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on, Putnam, &amp; Larson, 2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n laboratory experiments on normal people, when the natural production of serotonin is interrupted, aggressive behavior increases (Bjork, Dougherty, Moeller, Cherek, &amp; Swann, 199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yer (198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ce incarcerated, prisoners with higher testosterone levels violated more prison rules, especially those involving overt confrontation (Dabbs, Carr, Frady, &amp; Riad, 1995; Dabbs, Ruback, Frady, Hopper, &amp; Sgoutas, 1988).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amp; Dabbs,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ies generally considered most rambunctious, less socially responsible, and “cruder” were found to have the highest average testosterone levels (Dabbs, 2000; Dabbs, Hargrove, &amp; Heusel, 1996).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ux &amp; La France (1998) closely observed children at play in a variety of cultures, including the United States, Switzerland, and Ethiopia, and found these dif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e et al., 1999; Dodge &amp; Schwartz, 1997; McFadyen-Ketchum, Bates, Dodge, &amp; Pettit,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a meta-analysis of sixty-four separate experiments found that although it is true that men are far more aggressive than women under ordinary circumstances, the gender difference becomes much smaller when men and women are actually provoked (Bettencourt &amp; Miller, 199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amp; MCDANIEL (199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1998, OF THE 3,419 WOMEN KILLED IN THE UNITED STATES, 32 PERCENT DIED AT THE HANDS OF A HUSBAND, BOYFRIEND, FORMER HUSBAND, OR FORMER BOYFRIEND. THE SHOCKING FREQUENCY OF WOMEN BEING MURDERED BY INTIMATE PARTNERS PROMPTED ONE SENIOR HEALTH OFFICIAL TO REMARK: “WOMEN WORRY WHEN THEY GO OUT; PERHAPS THEY SHOULD WORRY WHEN THEY STAY IN” (GOODE, 2000, P. F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 do not prove that testosterone is the sole cause of this gender difference. When dealing with such a complex phenomenon, there is probably more than one simple cause. The gender difference in intimate homicide could be due, at least in part, to testosterone. In addition, it could be at least partly social—the reflection of a sexist society in which some men may come to feel entitled to exercise power and control over women (Eisenstat &amp; Bancroft, 1999). It may also be explained by the evolutionary psychology perspective in which male jealousy once functioned to improve the survival chances of men’s progeny ( Geen, 1998; Buss, 200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st socially active college students know, alcohol is a social lubricant that lowers our inhibitions against acting in ways frowned on by society, including acts of aggression (Desmond, 1987; Taylor &amp; Leonard,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between alcohol and aggressive behavior is well known among researchers, and it appears even among people who have not been provoked and who do not usually behave aggressively when sober (Bailey &amp; Taylor, 1991; Bushman &amp; Cooper, 1990; White, 1997; Yudko, Blanchard, Henne, &amp; Blanchard, 1997). This might explain why fistfights frequently break out in bars and nightclubs and why family violence is often associated with alcohol abus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Donald, Zanna, &amp; Fong,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hman, 1993, 1997; Bushman &amp; Cooper, 1990)</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hman, 1993; Lipsey, Wilson, Cohen, &amp; Derzon, 1997; Taylor &amp; Leonard, 1983)</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rin, 1967; Hutchinson, 1983)</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owitz (1983)</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late 1960s and early 1970s, when tensions in the United States ran high over the war in Vietnam and racial injustice, national leaders worried about “the long, hot summer.” The phrase was a code for the fear that the summer’s heat would cause simmering tensions to explode. Their fears were justified. An analysis of disturbances in seventy-nine cities between 1967 and 1971 found that riots were far more likely to occur on hot days than on cold ones (Carlsmith &amp; Anderson, (1979) (see Figure 12.1). Similarly, in major American cities, from Houston, Texas, to Des Moines, Iowa, the hotter it is on a given day, the greater the likelihood that violent crimes will occur (Anderson &amp; Anderson, 1984; Harries &amp; Stadler, 1988).</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on should not be confused with assertiveness—even though most people loosely refer to others as “aggressive” if they stand up for their rights, write letters to the editor complaining about real or imagined injustices, or are real “go-get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a sexist society, a woman who simply speaks her mind or takes the initiative and invites a man to dinner might be called aggressive by s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instrumental aggression,</a:t>
            </a:r>
            <a:r>
              <a:rPr b="0" lang="en-US" sz="1200" spc="-1" strike="noStrike">
                <a:solidFill>
                  <a:srgbClr val="000000"/>
                </a:solidFill>
                <a:latin typeface="Arial"/>
              </a:rPr>
              <a:t> there is an intention to hurt the other person, but the hurting takes place as a means to some goal other than causing pain. For example, in a professional football game, a defensive lineman will usually do whatever it takes to thwart his opponent (the blocker) and tackle the ball carrier. This typically includes intentionally inflicting pain on his opponent if doing so is useful in helping him get the blocker out of the way so that he can get to the ball carrier. This is instrumental aggress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if he believes his opponent has been playing dirty, he might become angry and go out of his way to hurt his opponent, even if doing so does not increase his opportunity to tackle the ball carrier. This is hostile agg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on &amp; Richardson, 1994; Berkowitz, 1993; Gee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political philosopher Thomas Hobbes viewed human beings as naturally self-interested creatures who seek their own well being, even if this leads to aggressing against others.  Hobbes stated that life in a state of nature (i.e. without civil society) would be "solitary, poor, nasty, brutish, and short" (Leviathan, 1651). This leads to a general state of anxiety in which most fear a premature death at the hands of other people. Therefore, he argued, people join into society in order to gain security from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ntury later, Jean-Jacques Rousseau argued the opposite. Humans, he wrote in 1762, are by nature compassionate loners.  But, according to Rousseau, unlike animals, human behavior is not determined by instinct; human behavior is malleable, it changes with changes in the societies within which they li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e death instinct, Freud wrote: “It is at work in every living being and is striving to bring it to ruin and to reduce life to its original condition of inanimate matter” (p. 67). Freud believed that aggressive energy must come out somehow, lest it continue to build up and produce illness. Freud’s notion can best be characterized as a “hydraulic theory”—the analogy is to water pressure building up in a container: Unless energy is released, it will produce some sort of explo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reud, society performs an essential function in regulating these instincts and in helping people </a:t>
            </a:r>
            <a:r>
              <a:rPr b="0" i="1" lang="en-US" sz="1200" spc="-1" strike="noStrike">
                <a:solidFill>
                  <a:srgbClr val="000000"/>
                </a:solidFill>
                <a:latin typeface="Arial"/>
              </a:rPr>
              <a:t>sublimate</a:t>
            </a:r>
            <a:r>
              <a:rPr b="0" lang="en-US" sz="1200" spc="-1" strike="noStrike">
                <a:solidFill>
                  <a:srgbClr val="000000"/>
                </a:solidFill>
                <a:latin typeface="Arial"/>
              </a:rPr>
              <a:t> them, that is, turn the energy into acceptable or useful behavior. For example, Freud believed that the energy behind artistic creation or the innovations that built cities were sublimations of aggressive (or sexual) energ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ary  perspective receives tangential support from crime statistics which show that males are most likely to engage in violence during their peak reproductive years--their teens and twenties (Wilson and Daly, 1985; Geen, 1998).  Among these young males violence is typically initiated by seemingly trivial matters related to "respect."  For the males involved the stakes seem high:  they believe they are fighting for their  status in the group.  Jealousy is another major reason males aggress against each other and their mates (Wilson, Daly, &amp;Weghorst, 1982; Schützwohl,  2004).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experiment is charming, it fails to prove that aggressive behavior is not instinctive; it merely demonstrates that the aggressive instinct can be inhibited by early experience. What if an organism grows up without any contact with other organisms? Will it or won’t it show  aggressive tendencies? It turns out that rats raised in isolation (i.e., without any experience in fighting other rats) will attack a fellow rat when one is introduced into the cage; moreover, the isolated rats use the same pattern of threat and attack that experienced rats use (Eibl-Eibesfeldt, 1963). So even though aggressive behavior can be modified by experience (as shown by Kuo’s experiment), aggression apparently does not need to be learn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C7AF5-EB9B-47EE-BB75-A80896674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A36B-D22F-4374-9854-628C6FCC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D6CF2-9448-4ACF-8A1B-3957AF483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D3F4-8B79-4062-BA1F-3E18AD97F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45303-8D8B-4B08-BC64-D66721F90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E905-6F62-49D1-8FF4-AAC6B07DE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50DC-86FC-4C76-8E9C-29C931085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ECD3D-6EE8-4B0A-9576-AEAA00BDC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7C563-D1C3-4681-A400-1A6F15BDA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58D61-77D5-4204-9796-549C4B472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05795-916D-41FE-9CD8-5DDE4971C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D042-5739-4BA6-AB0C-E10BEDF8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8F386-7DB6-48B0-A7E3-3D325773F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99150-5690-402C-B9CA-5934C355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EDAEA-D45E-4075-9F96-54390699D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655BB-9A19-499F-AF63-BA9266006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38711-92AD-44AA-8760-65A8B0145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BB74-5440-4627-87F3-745FA63B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6C230-A6F8-42EE-9078-BF9F314C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DE23-E3F0-4EF9-80EF-73BED511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A62D-9791-4D90-AC05-1F6C3028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80FC-0C4C-449B-BE11-0CBCACBF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B6B9-3A90-4541-B754-A32C2FC9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A40B-4A58-447A-A000-3D9A4DEC7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B66F-10D1-475C-93C1-B6437DFFF76F}"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2C2A-9DA2-4F8E-858A-C35ACB8D1422}"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5562720" y="2438280"/>
            <a:ext cx="2722320" cy="3505320"/>
          </a:xfrm>
          <a:prstGeom prst="rect">
            <a:avLst/>
          </a:prstGeom>
          <a:ln w="0">
            <a:noFill/>
          </a:ln>
        </p:spPr>
      </p:pic>
      <p:pic>
        <p:nvPicPr>
          <p:cNvPr id="47" name="" descr=""/>
          <p:cNvPicPr/>
          <p:nvPr/>
        </p:nvPicPr>
        <p:blipFill>
          <a:blip r:embed="rId3"/>
          <a:stretch/>
        </p:blipFill>
        <p:spPr>
          <a:xfrm>
            <a:off x="0" y="0"/>
            <a:ext cx="533520" cy="685800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73-384)</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6" name="PlaceHolder 2"/>
          <p:cNvSpPr>
            <a:spLocks noGrp="1"/>
          </p:cNvSpPr>
          <p:nvPr>
            <p:ph/>
          </p:nvPr>
        </p:nvSpPr>
        <p:spPr>
          <a:xfrm>
            <a:off x="762120" y="1676520"/>
            <a:ext cx="8153280" cy="483048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ggression among the Lower Animals:</a:t>
            </a:r>
            <a:r>
              <a:rPr b="1" lang="en-US" sz="2400" spc="-1" strike="noStrike">
                <a:solidFill>
                  <a:srgbClr val="000000"/>
                </a:solidFill>
                <a:latin typeface="Arial Unicode MS"/>
              </a:rPr>
              <a: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impanzees are the only nonhuman species in which groups of male members hunt and kill other members of their own kind.</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onobos, on the other hand, are known as the “make love, not war” ape.  Prior to engaging in activities that could otherwise lead to conflict, bonobos engage in sex, This sexual activity functions to diffuse potential conflic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onobo are a rare exception, however. The near universality of aggression strongly suggests that aggressiveness has evolved and has been maintained because it has survival value. </a:t>
            </a:r>
            <a:endParaRPr b="0" lang="en-US" sz="2400" spc="-1" strike="noStrike">
              <a:solidFill>
                <a:srgbClr val="000000"/>
              </a:solidFill>
              <a:latin typeface="Arial Unicode MS"/>
            </a:endParaRPr>
          </a:p>
        </p:txBody>
      </p:sp>
      <p:pic>
        <p:nvPicPr>
          <p:cNvPr id="127" name="" descr=""/>
          <p:cNvPicPr/>
          <p:nvPr/>
        </p:nvPicPr>
        <p:blipFill>
          <a:blip r:embed="rId1"/>
          <a:stretch/>
        </p:blipFill>
        <p:spPr>
          <a:xfrm>
            <a:off x="7162920" y="876240"/>
            <a:ext cx="1585800" cy="1638360"/>
          </a:xfrm>
          <a:prstGeom prst="rect">
            <a:avLst/>
          </a:prstGeom>
          <a:ln w="0">
            <a:noFill/>
          </a:ln>
        </p:spPr>
      </p:pic>
      <p:sp>
        <p:nvSpPr>
          <p:cNvPr id="12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0"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ther or not aggressive action is actually expressed depends on a complex interplay betwee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nate tendencies,</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rious learned inhibitory responses, and</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ecise nature of the social situation. </a:t>
            </a:r>
            <a:endParaRPr b="0" lang="en-US" sz="2800" spc="-1" strike="noStrike">
              <a:solidFill>
                <a:srgbClr val="000000"/>
              </a:solidFill>
              <a:latin typeface="Arial Unicode MS"/>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2"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ross-cultural studies have found that human cultures vary widely in their degree of aggressiveness.</a:t>
            </a:r>
            <a:endParaRPr b="0" lang="en-US" sz="3200" spc="-1" strike="noStrike">
              <a:solidFill>
                <a:srgbClr val="000000"/>
              </a:solidFill>
              <a:latin typeface="Arial Unicode MS"/>
            </a:endParaRPr>
          </a:p>
        </p:txBody>
      </p:sp>
      <p:pic>
        <p:nvPicPr>
          <p:cNvPr id="133" name="" descr=""/>
          <p:cNvPicPr/>
          <p:nvPr/>
        </p:nvPicPr>
        <p:blipFill>
          <a:blip r:embed="rId1"/>
          <a:stretch/>
        </p:blipFill>
        <p:spPr>
          <a:xfrm>
            <a:off x="2955960" y="3276720"/>
            <a:ext cx="3902040" cy="2600280"/>
          </a:xfrm>
          <a:prstGeom prst="rect">
            <a:avLst/>
          </a:prstGeom>
          <a:ln w="0">
            <a:noFill/>
          </a:ln>
        </p:spPr>
      </p:pic>
      <p:sp>
        <p:nvSpPr>
          <p:cNvPr id="13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anges in Aggression across Tim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 given culture, changing social conditions frequently lead to striking changes in aggressive behavio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aggressiveness from previously peaceful people can come about when a social change produces increases in competition.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gionalism and Aggression</a:t>
            </a:r>
            <a:endParaRPr b="1" lang="en-US" sz="4800" spc="-1" strike="noStrike">
              <a:solidFill>
                <a:srgbClr val="000000"/>
              </a:solidFill>
              <a:latin typeface="Arial Narrow"/>
            </a:endParaRPr>
          </a:p>
        </p:txBody>
      </p:sp>
      <p:sp>
        <p:nvSpPr>
          <p:cNvPr id="13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gument-related homicide rates for white southern males are substantially higher than those for white northern males, especially in rural areas.</a:t>
            </a:r>
            <a:endParaRPr b="0" lang="en-US" sz="2800" spc="-1" strike="noStrike">
              <a:solidFill>
                <a:srgbClr val="000000"/>
              </a:solidFill>
              <a:latin typeface="Arial Unicode MS"/>
            </a:endParaRPr>
          </a:p>
        </p:txBody>
      </p:sp>
      <p:pic>
        <p:nvPicPr>
          <p:cNvPr id="139" name="" descr=""/>
          <p:cNvPicPr/>
          <p:nvPr/>
        </p:nvPicPr>
        <p:blipFill>
          <a:blip r:embed="rId1"/>
          <a:stretch/>
        </p:blipFill>
        <p:spPr>
          <a:xfrm>
            <a:off x="4800600" y="3591000"/>
            <a:ext cx="4114800" cy="2962080"/>
          </a:xfrm>
          <a:prstGeom prst="rect">
            <a:avLst/>
          </a:prstGeom>
          <a:ln w="0">
            <a:noFill/>
          </a:ln>
        </p:spPr>
      </p:pic>
      <p:sp>
        <p:nvSpPr>
          <p:cNvPr id="140" name=""/>
          <p:cNvSpPr/>
          <p:nvPr/>
        </p:nvSpPr>
        <p:spPr>
          <a:xfrm>
            <a:off x="914400" y="4343400"/>
            <a:ext cx="434340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utherners are more inclined to endorse violence for protection and in response to insults. </a:t>
            </a:r>
            <a:endParaRPr b="0" lang="en-US" sz="2800" spc="-1" strike="noStrike">
              <a:solidFill>
                <a:srgbClr val="000000"/>
              </a:solidFill>
              <a:latin typeface="Arial"/>
            </a:endParaRPr>
          </a:p>
        </p:txBody>
      </p:sp>
      <p:sp>
        <p:nvSpPr>
          <p:cNvPr id="14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3"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ggressive behaviors in human beings, as well as in the lower animals, are associated with an area in the core of the brain called the </a:t>
            </a:r>
            <a:r>
              <a:rPr b="1" lang="en-US" sz="2800" spc="-1" strike="noStrike">
                <a:solidFill>
                  <a:srgbClr val="000000"/>
                </a:solidFill>
                <a:latin typeface="Arial Unicode MS"/>
              </a:rPr>
              <a:t>amygdal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the amygdale is stimulated, docile organisms become viol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ilarly, when neural activity in that area is blocked, violent organisms become docile.</a:t>
            </a:r>
            <a:endParaRPr b="0" lang="en-US" sz="2800" spc="-1" strike="noStrike">
              <a:solidFill>
                <a:srgbClr val="000000"/>
              </a:solidFill>
              <a:latin typeface="Arial Unicode MS"/>
            </a:endParaRPr>
          </a:p>
        </p:txBody>
      </p:sp>
      <p:pic>
        <p:nvPicPr>
          <p:cNvPr id="144" name="" descr=""/>
          <p:cNvPicPr/>
          <p:nvPr/>
        </p:nvPicPr>
        <p:blipFill>
          <a:blip r:embed="rId1"/>
          <a:stretch/>
        </p:blipFill>
        <p:spPr>
          <a:xfrm>
            <a:off x="7620120" y="304920"/>
            <a:ext cx="1218960" cy="1218960"/>
          </a:xfrm>
          <a:prstGeom prst="rect">
            <a:avLst/>
          </a:prstGeom>
          <a:ln w="0">
            <a:noFill/>
          </a:ln>
        </p:spPr>
      </p:pic>
      <p:pic>
        <p:nvPicPr>
          <p:cNvPr id="145" name="" descr=""/>
          <p:cNvPicPr/>
          <p:nvPr/>
        </p:nvPicPr>
        <p:blipFill>
          <a:blip r:embed="rId2"/>
          <a:stretch/>
        </p:blipFill>
        <p:spPr>
          <a:xfrm>
            <a:off x="685800" y="304920"/>
            <a:ext cx="1219320" cy="1218960"/>
          </a:xfrm>
          <a:prstGeom prst="rect">
            <a:avLst/>
          </a:prstGeom>
          <a:ln w="0">
            <a:noFill/>
          </a:ln>
        </p:spPr>
      </p:pic>
      <p:sp>
        <p:nvSpPr>
          <p:cNvPr id="14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85800" y="304920"/>
            <a:ext cx="1238400" cy="1218960"/>
          </a:xfrm>
          <a:prstGeom prst="rect">
            <a:avLst/>
          </a:prstGeom>
          <a:ln w="0">
            <a:noFill/>
          </a:ln>
        </p:spPr>
      </p:pic>
      <p:pic>
        <p:nvPicPr>
          <p:cNvPr id="148" name="" descr=""/>
          <p:cNvPicPr/>
          <p:nvPr/>
        </p:nvPicPr>
        <p:blipFill>
          <a:blip r:embed="rId2"/>
          <a:stretch/>
        </p:blipFill>
        <p:spPr>
          <a:xfrm>
            <a:off x="7620120" y="304920"/>
            <a:ext cx="1238040" cy="1218960"/>
          </a:xfrm>
          <a:prstGeom prst="rect">
            <a:avLst/>
          </a:prstGeom>
          <a:ln w="0">
            <a:noFill/>
          </a:ln>
        </p:spPr>
      </p:pic>
      <p:sp>
        <p:nvSpPr>
          <p:cNvPr id="14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0" name="PlaceHolder 2"/>
          <p:cNvSpPr>
            <a:spLocks noGrp="1"/>
          </p:cNvSpPr>
          <p:nvPr>
            <p:ph/>
          </p:nvPr>
        </p:nvSpPr>
        <p:spPr>
          <a:xfrm>
            <a:off x="837720" y="202716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ertain chemicals have been shown to influence aggress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rotonin,</a:t>
            </a:r>
            <a:r>
              <a:rPr b="0" lang="en-US" sz="2800" spc="-1" strike="noStrike">
                <a:solidFill>
                  <a:srgbClr val="000000"/>
                </a:solidFill>
                <a:latin typeface="Arial Unicode MS"/>
              </a:rPr>
              <a:t> a chemical substance that occurs naturally in the midbrain, seems to </a:t>
            </a:r>
            <a:r>
              <a:rPr b="0" i="1" lang="en-US" sz="2800" spc="-1" strike="noStrike">
                <a:solidFill>
                  <a:srgbClr val="000000"/>
                </a:solidFill>
                <a:latin typeface="Arial Unicode MS"/>
              </a:rPr>
              <a:t>inhibit</a:t>
            </a:r>
            <a:r>
              <a:rPr b="0" lang="en-US" sz="2800" spc="-1" strike="noStrike">
                <a:solidFill>
                  <a:srgbClr val="000000"/>
                </a:solidFill>
                <a:latin typeface="Arial Unicode MS"/>
              </a:rPr>
              <a:t> impulsive aggression.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nimals, when the flow of serotonin is disrupted, increases in aggressive behavior frequently follow.</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olent criminals have particularly low levels of naturally produced serotonin.</a:t>
            </a:r>
            <a:endParaRPr b="0" lang="en-US" sz="2800" spc="-1" strike="noStrike">
              <a:solidFill>
                <a:srgbClr val="000000"/>
              </a:solidFill>
              <a:latin typeface="Arial Unicode MS"/>
            </a:endParaRPr>
          </a:p>
        </p:txBody>
      </p:sp>
      <p:sp>
        <p:nvSpPr>
          <p:cNvPr id="15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3"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o little serotonin can lead to increases in aggression, but so can too much </a:t>
            </a:r>
            <a:r>
              <a:rPr b="1" lang="en-US" sz="2800" spc="-1" strike="noStrike">
                <a:solidFill>
                  <a:srgbClr val="000000"/>
                </a:solidFill>
                <a:latin typeface="Arial Unicode MS"/>
              </a:rPr>
              <a:t>testosterone,</a:t>
            </a:r>
            <a:r>
              <a:rPr b="0" lang="en-US" sz="2800" spc="-1" strike="noStrike">
                <a:solidFill>
                  <a:srgbClr val="000000"/>
                </a:solidFill>
                <a:latin typeface="Arial Unicode MS"/>
              </a:rPr>
              <a:t> a male sex hormon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boratory animals injected with testosterone became more aggressive.</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urally occurring testosterone levels are significantly higher among violent criminals than nonviolent crimina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venile delinquents have higher leve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aggressive fraternities’ members have more.</a:t>
            </a:r>
            <a:endParaRPr b="0" lang="en-US" sz="2400" spc="-1" strike="noStrike">
              <a:solidFill>
                <a:srgbClr val="000000"/>
              </a:solidFill>
              <a:latin typeface="Arial Unicode MS"/>
            </a:endParaRPr>
          </a:p>
        </p:txBody>
      </p:sp>
      <p:pic>
        <p:nvPicPr>
          <p:cNvPr id="154" name="" descr=""/>
          <p:cNvPicPr/>
          <p:nvPr/>
        </p:nvPicPr>
        <p:blipFill>
          <a:blip r:embed="rId1"/>
          <a:stretch/>
        </p:blipFill>
        <p:spPr>
          <a:xfrm>
            <a:off x="914400" y="266760"/>
            <a:ext cx="1219320" cy="1562040"/>
          </a:xfrm>
          <a:prstGeom prst="rect">
            <a:avLst/>
          </a:prstGeom>
          <a:ln w="0">
            <a:noFill/>
          </a:ln>
        </p:spPr>
      </p:pic>
      <p:pic>
        <p:nvPicPr>
          <p:cNvPr id="155" name="" descr=""/>
          <p:cNvPicPr/>
          <p:nvPr/>
        </p:nvPicPr>
        <p:blipFill>
          <a:blip r:embed="rId2"/>
          <a:stretch/>
        </p:blipFill>
        <p:spPr>
          <a:xfrm flipH="1">
            <a:off x="7421040" y="228600"/>
            <a:ext cx="1189080" cy="1523880"/>
          </a:xfrm>
          <a:prstGeom prst="rect">
            <a:avLst/>
          </a:prstGeom>
          <a:ln w="0">
            <a:noFill/>
          </a:ln>
        </p:spPr>
      </p:pic>
      <p:sp>
        <p:nvSpPr>
          <p:cNvPr id="15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58" name="PlaceHolder 2"/>
          <p:cNvSpPr>
            <a:spLocks noGrp="1"/>
          </p:cNvSpPr>
          <p:nvPr>
            <p:ph/>
          </p:nvPr>
        </p:nvSpPr>
        <p:spPr>
          <a:xfrm>
            <a:off x="762120" y="1782720"/>
            <a:ext cx="8076960" cy="195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leanor Maccoby and Carol Jacklin (1974) demonstrated that boys appear to be more aggressive than girls.</a:t>
            </a:r>
            <a:endParaRPr b="0" lang="en-US" sz="2800" spc="-1" strike="noStrike">
              <a:solidFill>
                <a:srgbClr val="000000"/>
              </a:solidFill>
              <a:latin typeface="Arial Unicode MS"/>
            </a:endParaRPr>
          </a:p>
        </p:txBody>
      </p:sp>
      <p:pic>
        <p:nvPicPr>
          <p:cNvPr id="159" name="" descr=""/>
          <p:cNvPicPr/>
          <p:nvPr/>
        </p:nvPicPr>
        <p:blipFill>
          <a:blip r:embed="rId1"/>
          <a:stretch/>
        </p:blipFill>
        <p:spPr>
          <a:xfrm>
            <a:off x="5029200" y="3352680"/>
            <a:ext cx="3629160" cy="2562480"/>
          </a:xfrm>
          <a:prstGeom prst="rect">
            <a:avLst/>
          </a:prstGeom>
          <a:ln w="0">
            <a:noFill/>
          </a:ln>
        </p:spPr>
      </p:pic>
      <p:sp>
        <p:nvSpPr>
          <p:cNvPr id="160" name=""/>
          <p:cNvSpPr/>
          <p:nvPr/>
        </p:nvSpPr>
        <p:spPr>
          <a:xfrm>
            <a:off x="762120" y="3581280"/>
            <a:ext cx="411480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mong boys, there was far more “nonplayful” pushing, shoving, and hitting than among girls.</a:t>
            </a:r>
            <a:endParaRPr b="0" lang="en-US" sz="2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62"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research on gender differences is more complicated than it might seem on the surface. </a:t>
            </a:r>
            <a:endParaRPr b="0" lang="en-US" sz="2800" spc="-1" strike="noStrike">
              <a:solidFill>
                <a:srgbClr val="000000"/>
              </a:solidFill>
              <a:latin typeface="Arial Unicode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young boys tend to be more overtly aggressive than young girls (in the sense that they lash out directly at the target person), girls tend to express their aggressive feelings more covertly:</a:t>
            </a:r>
            <a:endParaRPr b="0" lang="en-US" sz="2800" spc="-1" strike="noStrike">
              <a:solidFill>
                <a:srgbClr val="000000"/>
              </a:solidFill>
              <a:latin typeface="Arial Unicode MS"/>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ssiping,</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gaging in more backbiting, and</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preading false rumors about the target person.</a:t>
            </a:r>
            <a:endParaRPr b="0" lang="en-US" sz="2400" spc="-1" strike="noStrike">
              <a:solidFill>
                <a:srgbClr val="000000"/>
              </a:solidFill>
              <a:latin typeface="Arial Unicode MS"/>
            </a:endParaRPr>
          </a:p>
        </p:txBody>
      </p:sp>
      <p:pic>
        <p:nvPicPr>
          <p:cNvPr id="163" name="" descr=""/>
          <p:cNvPicPr/>
          <p:nvPr/>
        </p:nvPicPr>
        <p:blipFill>
          <a:blip r:embed="rId1"/>
          <a:stretch/>
        </p:blipFill>
        <p:spPr>
          <a:xfrm>
            <a:off x="6477120" y="4703760"/>
            <a:ext cx="1676160" cy="1087560"/>
          </a:xfrm>
          <a:prstGeom prst="rect">
            <a:avLst/>
          </a:prstGeom>
          <a:ln w="0">
            <a:noFill/>
          </a:ln>
        </p:spPr>
      </p:pic>
      <p:sp>
        <p:nvSpPr>
          <p:cNvPr id="16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2</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418932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We Hurt Other People?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Can We Prevent It?</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4419720" y="4419720"/>
            <a:ext cx="4495680" cy="2209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Nothing is more costly, nothing is more sterile, than revenge.”</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Winston Church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6" name="PlaceHolder 2"/>
          <p:cNvSpPr>
            <a:spLocks noGrp="1"/>
          </p:cNvSpPr>
          <p:nvPr>
            <p:ph/>
          </p:nvPr>
        </p:nvSpPr>
        <p:spPr>
          <a:xfrm>
            <a:off x="762120" y="1523880"/>
            <a:ext cx="807696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x differences in aggressive behaviors tend to hold up across cultur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one study, teenagers from eleven different countries, mostly in Europe and Asia, read stories involving conflict among people and were asked to write their own ending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very one of the countries, young men showed a greater tendency toward violent solutions to conflict than young women did. </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within a given culture, men showed consistently higher levels of aggression than women, culture also played a major rol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women from Australia and New Zealand showed greater evidence of aggressiveness than men from Sweden and Korea did.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Violence Among Intimate Partners</a:t>
            </a:r>
            <a:endParaRPr b="1" lang="en-US" sz="4000" spc="-1" strike="noStrike">
              <a:solidFill>
                <a:srgbClr val="000000"/>
              </a:solidFill>
              <a:latin typeface="Arial Narrow"/>
            </a:endParaRPr>
          </a:p>
        </p:txBody>
      </p:sp>
      <p:sp>
        <p:nvSpPr>
          <p:cNvPr id="170"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22% of all violent crimes against women in a typical year  were committed by their intimate male partner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men, the figure is 3%.</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sbands are far more likely to murder their wives than vice versa. </a:t>
            </a:r>
            <a:endParaRPr b="0" lang="en-US" sz="28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2" name=""/>
          <p:cNvSpPr/>
          <p:nvPr/>
        </p:nvSpPr>
        <p:spPr>
          <a:xfrm>
            <a:off x="1981080" y="56386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Oh that wasn’t me talking, it was the alcohol talking.”</a:t>
            </a:r>
            <a:endParaRPr b="0" lang="en-US" sz="1800" spc="-1" strike="noStrike">
              <a:solidFill>
                <a:srgbClr val="000000"/>
              </a:solidFill>
              <a:latin typeface="Arial"/>
            </a:endParaRPr>
          </a:p>
        </p:txBody>
      </p:sp>
      <p:sp>
        <p:nvSpPr>
          <p:cNvPr id="173" name=""/>
          <p:cNvSpPr/>
          <p:nvPr/>
        </p:nvSpPr>
        <p:spPr>
          <a:xfrm>
            <a:off x="3809880" y="66135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pyright</a:t>
            </a:r>
            <a:r>
              <a:rPr b="0" i="1" lang="en-US" sz="1000" spc="-1" strike="noStrike">
                <a:solidFill>
                  <a:srgbClr val="000000"/>
                </a:solidFill>
                <a:latin typeface="Arial"/>
              </a:rPr>
              <a:t> The New Yorker.</a:t>
            </a:r>
            <a:endParaRPr b="0" lang="en-US" sz="1000" spc="-1" strike="noStrike">
              <a:solidFill>
                <a:srgbClr val="000000"/>
              </a:solidFill>
              <a:latin typeface="Arial"/>
            </a:endParaRPr>
          </a:p>
        </p:txBody>
      </p:sp>
      <p:pic>
        <p:nvPicPr>
          <p:cNvPr id="174" name="" descr=""/>
          <p:cNvPicPr/>
          <p:nvPr/>
        </p:nvPicPr>
        <p:blipFill>
          <a:blip r:embed="rId1"/>
          <a:stretch/>
        </p:blipFill>
        <p:spPr>
          <a:xfrm>
            <a:off x="2352600" y="1523880"/>
            <a:ext cx="4886280" cy="402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6" name="PlaceHolder 2"/>
          <p:cNvSpPr>
            <a:spLocks noGrp="1"/>
          </p:cNvSpPr>
          <p:nvPr>
            <p:ph/>
          </p:nvPr>
        </p:nvSpPr>
        <p:spPr>
          <a:xfrm>
            <a:off x="761760" y="2103480"/>
            <a:ext cx="800100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y can alcohol increase aggressive behavior? </a:t>
            </a:r>
            <a:endParaRPr b="0" lang="en-US" sz="28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cohol often serves as a disinhibitor—it reduces our social inhibitions, making us less cautious than we usually are.</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 appears to disrupt the way we usually process information. This means that intoxicated people often respond to the earliest and most obvious aspects of a social situation and tend to miss the subtleties. </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individuals ingest enough alcohol to make them legally drunk, they tend to respond more violently to provocations than those who have ingested little or no alcohol.</a:t>
            </a:r>
            <a:endParaRPr b="0" lang="en-US" sz="2400" spc="-1" strike="noStrike">
              <a:solidFill>
                <a:srgbClr val="000000"/>
              </a:solidFill>
              <a:latin typeface="Arial Unicode MS"/>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177" name="" descr=""/>
          <p:cNvPicPr/>
          <p:nvPr/>
        </p:nvPicPr>
        <p:blipFill>
          <a:blip r:embed="rId1"/>
          <a:stretch/>
        </p:blipFill>
        <p:spPr>
          <a:xfrm>
            <a:off x="7848720" y="4648320"/>
            <a:ext cx="936360" cy="1600200"/>
          </a:xfrm>
          <a:prstGeom prst="rect">
            <a:avLst/>
          </a:prstGeom>
          <a:ln w="0">
            <a:noFill/>
          </a:ln>
        </p:spPr>
      </p:pic>
      <p:sp>
        <p:nvSpPr>
          <p:cNvPr id="17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0" name="PlaceHolder 2"/>
          <p:cNvSpPr>
            <a:spLocks noGrp="1"/>
          </p:cNvSpPr>
          <p:nvPr>
            <p:ph/>
          </p:nvPr>
        </p:nvSpPr>
        <p:spPr>
          <a:xfrm>
            <a:off x="762120" y="1553760"/>
            <a:ext cx="8076960" cy="2560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an animal is in pain and cannot flee the scene, it will almost invariably attack; this is true of rats, mice, hamsters, foxes, monkeys, crayfish, snakes, raccoons, alligators, and a host of other creatures.</a:t>
            </a:r>
            <a:endParaRPr b="0" lang="en-US" sz="2800" spc="-1" strike="noStrike">
              <a:solidFill>
                <a:srgbClr val="000000"/>
              </a:solidFill>
              <a:latin typeface="Arial Unicode MS"/>
            </a:endParaRPr>
          </a:p>
        </p:txBody>
      </p:sp>
      <p:pic>
        <p:nvPicPr>
          <p:cNvPr id="181" name="" descr=""/>
          <p:cNvPicPr/>
          <p:nvPr/>
        </p:nvPicPr>
        <p:blipFill>
          <a:blip r:embed="rId1"/>
          <a:stretch/>
        </p:blipFill>
        <p:spPr>
          <a:xfrm>
            <a:off x="6197760" y="3886200"/>
            <a:ext cx="2260440" cy="1795320"/>
          </a:xfrm>
          <a:prstGeom prst="rect">
            <a:avLst/>
          </a:prstGeom>
          <a:ln w="0">
            <a:noFill/>
          </a:ln>
        </p:spPr>
      </p:pic>
      <p:sp>
        <p:nvSpPr>
          <p:cNvPr id="182" name=""/>
          <p:cNvSpPr/>
          <p:nvPr/>
        </p:nvSpPr>
        <p:spPr>
          <a:xfrm>
            <a:off x="838080" y="3809880"/>
            <a:ext cx="5410440" cy="2667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ose circumstances, animals will attack members of their own species, members of different species, or anything else in sight, including stuffed dolls and tennis balls. </a:t>
            </a:r>
            <a:endParaRPr b="0" lang="en-US" sz="2800" spc="-1" strike="noStrike">
              <a:solidFill>
                <a:srgbClr val="000000"/>
              </a:solidFill>
              <a:latin typeface="Arial"/>
            </a:endParaRPr>
          </a:p>
        </p:txBody>
      </p:sp>
      <p:sp>
        <p:nvSpPr>
          <p:cNvPr id="18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778360" y="2970360"/>
            <a:ext cx="2984760" cy="1449360"/>
          </a:xfrm>
          <a:prstGeom prst="rect">
            <a:avLst/>
          </a:prstGeom>
          <a:ln w="0">
            <a:noFill/>
          </a:ln>
        </p:spPr>
      </p:pic>
      <p:sp>
        <p:nvSpPr>
          <p:cNvPr id="1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6" name="PlaceHolder 2"/>
          <p:cNvSpPr>
            <a:spLocks noGrp="1"/>
          </p:cNvSpPr>
          <p:nvPr>
            <p:ph/>
          </p:nvPr>
        </p:nvSpPr>
        <p:spPr>
          <a:xfrm>
            <a:off x="761760" y="1782360"/>
            <a:ext cx="8381880" cy="492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s can act more aggressively when experiencing:</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t</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midity</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ir pollutio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ffensive odors</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87" name="" descr=""/>
          <p:cNvPicPr/>
          <p:nvPr/>
        </p:nvPicPr>
        <p:blipFill>
          <a:blip r:embed="rId2"/>
          <a:stretch/>
        </p:blipFill>
        <p:spPr>
          <a:xfrm>
            <a:off x="4419720" y="2247840"/>
            <a:ext cx="1955520" cy="1790640"/>
          </a:xfrm>
          <a:prstGeom prst="rect">
            <a:avLst/>
          </a:prstGeom>
          <a:ln w="0">
            <a:noFill/>
          </a:ln>
        </p:spPr>
      </p:pic>
      <p:pic>
        <p:nvPicPr>
          <p:cNvPr id="188" name="" descr=""/>
          <p:cNvPicPr/>
          <p:nvPr/>
        </p:nvPicPr>
        <p:blipFill>
          <a:blip r:embed="rId3"/>
          <a:stretch/>
        </p:blipFill>
        <p:spPr>
          <a:xfrm>
            <a:off x="5486400" y="4032360"/>
            <a:ext cx="1755720" cy="1911240"/>
          </a:xfrm>
          <a:prstGeom prst="rect">
            <a:avLst/>
          </a:prstGeom>
          <a:ln w="0">
            <a:noFill/>
          </a:ln>
        </p:spPr>
      </p:pic>
      <p:sp>
        <p:nvSpPr>
          <p:cNvPr id="18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85800" y="1766880"/>
            <a:ext cx="8153280" cy="4633920"/>
          </a:xfrm>
          <a:prstGeom prst="rect">
            <a:avLst/>
          </a:prstGeom>
          <a:ln w="0">
            <a:noFill/>
          </a:ln>
        </p:spPr>
      </p:pic>
      <p:sp>
        <p:nvSpPr>
          <p:cNvPr id="191" name=""/>
          <p:cNvSpPr/>
          <p:nvPr/>
        </p:nvSpPr>
        <p:spPr>
          <a:xfrm>
            <a:off x="797040" y="264960"/>
            <a:ext cx="811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ng, hot sum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er temperatures increase the likelihood that violent riots and other aggressive acts will occur,</a:t>
            </a:r>
            <a:endParaRPr b="0" lang="en-US" sz="1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66120" y="2960640"/>
            <a:ext cx="15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99" name="PlaceHolder 2"/>
          <p:cNvSpPr>
            <a:spLocks noGrp="1"/>
          </p:cNvSpPr>
          <p:nvPr>
            <p:ph/>
          </p:nvPr>
        </p:nvSpPr>
        <p:spPr>
          <a:xfrm>
            <a:off x="762120" y="1554120"/>
            <a:ext cx="7772400" cy="1874880"/>
          </a:xfrm>
          <a:prstGeom prst="rect">
            <a:avLst/>
          </a:prstGeom>
          <a:solidFill>
            <a:srgbClr val="660033"/>
          </a:solidFill>
          <a:ln w="28440">
            <a:solidFill>
              <a:srgbClr val="990033"/>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Unicode MS"/>
              </a:rPr>
              <a:t>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Unicode MS"/>
              </a:rPr>
              <a:t>Intentional behavior aimed at doing harm or causing pain to another person.</a:t>
            </a:r>
            <a:endParaRPr b="0" lang="en-US" sz="3200" spc="-1" strike="noStrike">
              <a:solidFill>
                <a:srgbClr val="000000"/>
              </a:solidFill>
              <a:latin typeface="Arial Unicode MS"/>
            </a:endParaRPr>
          </a:p>
        </p:txBody>
      </p:sp>
      <p:pic>
        <p:nvPicPr>
          <p:cNvPr id="100" name="" descr=""/>
          <p:cNvPicPr/>
          <p:nvPr/>
        </p:nvPicPr>
        <p:blipFill>
          <a:blip r:embed="rId1"/>
          <a:stretch/>
        </p:blipFill>
        <p:spPr>
          <a:xfrm>
            <a:off x="3124080" y="3276720"/>
            <a:ext cx="3353040" cy="2911320"/>
          </a:xfrm>
          <a:prstGeom prst="rect">
            <a:avLst/>
          </a:prstGeom>
          <a:ln w="0">
            <a:noFill/>
          </a:ln>
        </p:spPr>
      </p:pic>
      <p:sp>
        <p:nvSpPr>
          <p:cNvPr id="10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76520" y="1333440"/>
            <a:ext cx="6095880" cy="4381560"/>
          </a:xfrm>
          <a:prstGeom prst="rect">
            <a:avLst/>
          </a:prstGeom>
          <a:ln w="0">
            <a:noFill/>
          </a:ln>
        </p:spPr>
      </p:pic>
      <p:sp>
        <p:nvSpPr>
          <p:cNvPr id="10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4" name=""/>
          <p:cNvSpPr/>
          <p:nvPr/>
        </p:nvSpPr>
        <p:spPr>
          <a:xfrm>
            <a:off x="1143000" y="4724280"/>
            <a:ext cx="7467480" cy="1874880"/>
          </a:xfrm>
          <a:prstGeom prst="rect">
            <a:avLst/>
          </a:prstGeom>
          <a:solidFill>
            <a:srgbClr val="feeaa0"/>
          </a:solidFill>
          <a:ln w="28440">
            <a:solidFill>
              <a:srgbClr val="cc99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strumental Aggress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as a means to some goal other than causing pain. </a:t>
            </a:r>
            <a:endParaRPr b="0" lang="en-US" sz="3200" spc="-1" strike="noStrike">
              <a:solidFill>
                <a:srgbClr val="000000"/>
              </a:solidFill>
              <a:latin typeface="Arial"/>
            </a:endParaRPr>
          </a:p>
        </p:txBody>
      </p:sp>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7" name="PlaceHolder 2"/>
          <p:cNvSpPr>
            <a:spLocks noGrp="1"/>
          </p:cNvSpPr>
          <p:nvPr>
            <p:ph/>
          </p:nvPr>
        </p:nvSpPr>
        <p:spPr>
          <a:xfrm>
            <a:off x="1142640" y="1706400"/>
            <a:ext cx="7467480" cy="1874880"/>
          </a:xfrm>
          <a:prstGeom prst="rect">
            <a:avLst/>
          </a:prstGeom>
          <a:solidFill>
            <a:srgbClr val="eaf5f6"/>
          </a:solidFill>
          <a:ln w="28440">
            <a:solidFill>
              <a:srgbClr val="333399"/>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Hostile 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stemming from feelings of anger and aimed at inflicting pain.</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3048120" y="3284640"/>
            <a:ext cx="3733560" cy="3039840"/>
          </a:xfrm>
          <a:prstGeom prst="rect">
            <a:avLst/>
          </a:prstGeom>
          <a:ln w="0">
            <a:noFill/>
          </a:ln>
        </p:spPr>
      </p:pic>
      <p:sp>
        <p:nvSpPr>
          <p:cNvPr id="10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1" name="PlaceHolder 2"/>
          <p:cNvSpPr>
            <a:spLocks noGrp="1"/>
          </p:cNvSpPr>
          <p:nvPr>
            <p:ph/>
          </p:nvPr>
        </p:nvSpPr>
        <p:spPr>
          <a:xfrm>
            <a:off x="837720" y="156996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centuries, scientists, philosophers, and other serious thinkers have been arguing about the human capacity for aggress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are convinced that aggression is an inborn, instinctive human trait.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s are just as certain that aggressive behavior must be learned.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3" name="PlaceHolder 2"/>
          <p:cNvSpPr>
            <a:spLocks noGrp="1"/>
          </p:cNvSpPr>
          <p:nvPr>
            <p:ph/>
          </p:nvPr>
        </p:nvSpPr>
        <p:spPr>
          <a:xfrm>
            <a:off x="762120" y="1554120"/>
            <a:ext cx="8153280" cy="4998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reud elaborated on the more pessimistic view that brutish traits are part of human nature.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 theorized that humans are born with an instinct toward life, which he called </a:t>
            </a:r>
            <a:r>
              <a:rPr b="1" lang="en-US" sz="2800" spc="-1" strike="noStrike">
                <a:solidFill>
                  <a:srgbClr val="000000"/>
                </a:solidFill>
                <a:latin typeface="Arial Unicode MS"/>
              </a:rPr>
              <a:t>Eros,</a:t>
            </a:r>
            <a:r>
              <a:rPr b="0" lang="en-US" sz="2800" spc="-1" strike="noStrike">
                <a:solidFill>
                  <a:srgbClr val="000000"/>
                </a:solidFill>
                <a:latin typeface="Arial Unicode MS"/>
              </a:rPr>
              <a:t> and an equally powerful instinct toward death, which he called </a:t>
            </a:r>
            <a:r>
              <a:rPr b="1" lang="en-US" sz="2800" spc="-1" strike="noStrike">
                <a:solidFill>
                  <a:srgbClr val="000000"/>
                </a:solidFill>
                <a:latin typeface="Arial Unicode MS"/>
              </a:rPr>
              <a:t>Thanatos.</a:t>
            </a:r>
            <a:endParaRPr b="0" lang="en-US" sz="2800" spc="-1" strike="noStrike">
              <a:solidFill>
                <a:srgbClr val="000000"/>
              </a:solidFill>
              <a:latin typeface="Arial Unicode MS"/>
            </a:endParaRPr>
          </a:p>
        </p:txBody>
      </p:sp>
      <p:pic>
        <p:nvPicPr>
          <p:cNvPr id="114" name="" descr=""/>
          <p:cNvPicPr/>
          <p:nvPr/>
        </p:nvPicPr>
        <p:blipFill>
          <a:blip r:embed="rId1"/>
          <a:stretch/>
        </p:blipFill>
        <p:spPr>
          <a:xfrm>
            <a:off x="7162920" y="4572000"/>
            <a:ext cx="1796760" cy="1962000"/>
          </a:xfrm>
          <a:prstGeom prst="rect">
            <a:avLst/>
          </a:prstGeom>
          <a:ln w="0">
            <a:noFill/>
          </a:ln>
        </p:spPr>
      </p:pic>
      <p:pic>
        <p:nvPicPr>
          <p:cNvPr id="115" name="" descr=""/>
          <p:cNvPicPr/>
          <p:nvPr/>
        </p:nvPicPr>
        <p:blipFill>
          <a:blip r:embed="rId2"/>
          <a:stretch/>
        </p:blipFill>
        <p:spPr>
          <a:xfrm>
            <a:off x="685800" y="5135400"/>
            <a:ext cx="1981080" cy="157032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18" name="PlaceHolder 2"/>
          <p:cNvSpPr>
            <a:spLocks noGrp="1"/>
          </p:cNvSpPr>
          <p:nvPr>
            <p:ph/>
          </p:nvPr>
        </p:nvSpPr>
        <p:spPr>
          <a:xfrm>
            <a:off x="762120" y="2209680"/>
            <a:ext cx="8076960" cy="452592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he Evolutionary Argument</a:t>
            </a: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re theorized to aggress for two reasons:</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behave aggressively to establish dominance over other males. The idea here is that the female will choose the male who is most likely to provide the best genes and the greatest protection and resources for their offspring.</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ggress "jealously" in order to ensure that their mate(s) are not copulating with others. This ensures their paternity. </a:t>
            </a:r>
            <a:endParaRPr b="0" lang="en-US" sz="2400" spc="-1" strike="noStrike">
              <a:solidFill>
                <a:srgbClr val="000000"/>
              </a:solidFill>
              <a:latin typeface="Arial Unicode MS"/>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supporting the evolutionary perspective is provocative but inconclusive because it is impossible to conduct a definitive experiment.</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6400800" y="1062000"/>
            <a:ext cx="2743200" cy="1757520"/>
          </a:xfrm>
          <a:prstGeom prst="rect">
            <a:avLst/>
          </a:prstGeom>
          <a:ln w="0">
            <a:noFill/>
          </a:ln>
        </p:spPr>
      </p:pic>
      <p:sp>
        <p:nvSpPr>
          <p:cNvPr id="12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2" name="PlaceHolder 2"/>
          <p:cNvSpPr>
            <a:spLocks noGrp="1"/>
          </p:cNvSpPr>
          <p:nvPr>
            <p:ph/>
          </p:nvPr>
        </p:nvSpPr>
        <p:spPr>
          <a:xfrm>
            <a:off x="762120" y="1722600"/>
            <a:ext cx="8153280" cy="483048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 among the Lower Animals:</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assume that cats will instinctively stalk and kill rats. Kuo (1961) attempted to demonstrate that this was a myth. He performed a simple little experiment:</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He raised a kitten in the same cage with a rat. Not only did the cat refrain from attacking the rat, but the two became close companions. Moreover, when given the opportunity, the cat refused either to chase or to kill other rats; thus the benign behavior was not confined to this one buddy but generalized to rats the cat had never met.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7238880" y="801720"/>
            <a:ext cx="1905120" cy="1465200"/>
          </a:xfrm>
          <a:prstGeom prst="rect">
            <a:avLst/>
          </a:prstGeom>
          <a:ln w="0">
            <a:noFill/>
          </a:ln>
        </p:spPr>
      </p:pic>
      <p:sp>
        <p:nvSpPr>
          <p:cNvPr id="12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3-05T17:00:33Z</dcterms:modified>
  <cp:revision>204</cp:revision>
  <dc:subject/>
  <dc:title>Social Psychology</dc:title>
</cp:coreProperties>
</file>