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9"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move the slide</a:t>
            </a:r>
            <a:endParaRPr b="1" lang="en-US" sz="5400" spc="-1" strike="noStrike">
              <a:solidFill>
                <a:srgbClr val="000000"/>
              </a:solidFill>
              <a:latin typeface="Arial Narrow"/>
            </a:endParaRPr>
          </a:p>
        </p:txBody>
      </p:sp>
      <p:sp>
        <p:nvSpPr>
          <p:cNvPr id="10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2"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3"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3391-2C99-486D-88E1-E1580E10D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CF2A-A862-4B9A-B796-1BE81CA02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761B-A426-4EDC-88EA-1E293DA4E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NINGER, 194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Patterson (1974) measured the hostility of high school football players, rating them both one week before and one week after the football season. If it were true that the intense competitiveness and aggressive behavior that are part of playing football serve to reduce the tension caused by pent-up aggression, the players would be expected to exhibit a decline in hostility over the course of the season. Instead, the results showed that feelings of hostility </a:t>
            </a:r>
            <a:r>
              <a:rPr b="0" i="1" lang="en-US" sz="1200" spc="-1" strike="noStrike">
                <a:solidFill>
                  <a:srgbClr val="000000"/>
                </a:solidFill>
                <a:latin typeface="Arial"/>
              </a:rPr>
              <a:t>increased</a:t>
            </a:r>
            <a:r>
              <a:rPr b="0" lang="en-US" sz="1200" spc="-1" strike="noStrike">
                <a:solidFill>
                  <a:srgbClr val="000000"/>
                </a:solidFill>
                <a:latin typeface="Arial"/>
              </a:rPr>
              <a:t> significant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F356-FA14-4956-BA3F-958BC5D88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nadian sports psychologist tested this proposition by measuring the hostility of spectators at an especially violent hockey game (Russell, 1983). As the game progressed, the spectators became increasingly belligerent; toward the end of the final period, their level of hostility was extremely high and did not return to the pregame level until several hours after the game was ov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esults have been found among spectators at football games and wrestling matches (Arms, Russell, &amp; Sandilands, 1979; Branscombe &amp; Wann, 1992; Goldstein &amp; Arms, 1971).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9029-E191-4741-B557-5B6EFA390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en, 1998; Geen &amp; Quanty, 1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n experiment by Russell Geen and his associates (Geen, Stonner, &amp; Shope, 1975), college students were paired with another student who was actually a confederate of the experimenters. First, the student was angered by the confederate; during this phase, which involved the exchanging of opinions on various issues, the student was given phony electric shocks when his partner disagreed with his opinion. Next, during a bogus study of “the effects of punishment on learning,” the student acted as a teacher while the confederate served as learner. On the first learning task, some of the students were required to deliver electric shocks to the confederate each time he made a mistake; others merely recorded his errors. On the next task, all the students were given the opportunity to deliver shocks. If a cathartic effect were operating, we would expect the students who had previously given shocks to the confederate to administer fewer and less intense shocks the second time. This didn’t happen; in fact, those students who had previously delivered shocks to the confederate expressed even greater aggression when given the subsequent opportunity to attack hi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besen, Duncan, &amp; Konecni, 1975).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29D3-C8C0-4400-9A11-6A41ABE10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yourself in the experiments just described. After you’ve administered what you think are shocks to another person or expressed hostility against your ex-boss, it becomes easier to do so a second time. Aggressing the first time can reduce your inhibitions against committing other such actions; in a sense, the aggression is legitimized, making it easier to carry out such assaults. Further, and more important, the main thrust of the research on this issue indicates that committing an overt act of aggression against a person changes your feelings about that person, increasing your negative feelings toward the target and making future aggression against that person more like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57EF-ED5B-4E92-92B1-A2CC48B3B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s &amp; Jones, 1960; Glass, 196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FABC-6429-4DEA-B0B2-60AD4523F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deep breaths or engaging in a distracting activity (working a crossword puzzle, listening to soothing music, taking a bike ride, or even doing a good deed) are good ways of actively enabling the anger to fade away.  If this sounds suspiciously like something your grandmother could have told you, well, that’s because it i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C7D2-DCCB-44EF-8009-A067DDEF6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AFTER COUNTING TO TEN!) BY MAKING A CLEAR, CALM, AND SIMPLE STATEMENT INDICATING THAT YOU ARE FEELING ANGRY AND DESCRIBING, NONJUDGMENTALLY, PRECISELY WHAT YOUR FRIEND OR SPOUSE DID TO BRING ABOUT THOSE FEELINGS. SUCH A STATEMENT IN ITSELF WILL PROBABLY RELIEVE TENSION AND MAKE THE ANGERED PERSON FEEL BETTER. AT THE SAME TIME, BECAUSE YOU HAVEN’T ACTUALLY HARMED THE TARGET OF YOUR ANGER, SUCH A RESPONSE DOES NOT SET IN MOTION THE COGNITIVE PROCESSES THAT WOULD LEAD YOU TO JUSTIFY YOUR BEHAVIOR BY RIDICULING OR DEROGATING YOUR FRIEND. MOREOVER, WHEN SUCH FEELINGS ARE EXPRESSED AMONG FRIENDS OR ACQUAINTANCES IN A CLEAR, OPEN, NONPUNITIVE MANNER, GREATER MUTUAL UNDERSTANDING AND A STRENGTHENING OF THE FRIENDSHIP CAN RESULT. IT ALMOST SEEMS TOO SIMPLE. YET WE HAVE FOUND SUCH BEHAVIOR TO BE A REASONABLE OPTION THAT WILL HAVE MORE BENEFICIAL EFFECTS THAN SHOUTING, NAME-CALLING, AND THROWING DISHES, ON THE ONE HAND, OR SUFFERING IN SILENCE AS YOU GRIN AND BEAR IT, ON THE OTHER (ARONSON, 2003).</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2D9C-9E81-4D2F-AFB7-2A3ECD0CA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rite your “deepest thoughts and feelings” about the event that has distressed you.  Try to do this for 20 minutes a day for a few days, and then reread what you have written.  Can you see the situation differently?  Do solutions offer themselves that you hadn’t thought of?  In experiments with people undergoing a wide range of traumatic events, those who were induced to write their “deepest thoughts and feelings” about the event felt healthier and suffered fewer physical illnesses six months to a year later than either people who suffered in silence, who wrote about trivial topics, or who wrote about the details of the traumatic events without revealing their own underlying feeling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4F3A-EDAB-423E-9FC6-30DC9AF67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ARE TAKING A FRIEND TO A CONCERT THAT STARTS AT 8:00 P.M. SHE’S BEEN LOOKING FORWARD TO IT, AND YOU’VE ARRANGED TO BE AT HER HOUSE AT 7:30. YOU LEAVE YOUR HOUSE WITH BARELY ENOUGH TIME TO GET THERE AND DISCOVER THAT YOU HAVE A FLAT TIRE. BY THE TIME YOU CHANGE THE TIRE AND GET TO HER HOUSE, YOU ARE ALREADY TWENTY MINUTES LATE FOR THE CONCERT. IMAGINE HER RESPONSE IF YOU (A) CASUALLY WALK IN, SMILE, AND SAY, “HEY, IT PROBABLY WOULDN’T HAVE BEEN SUCH A GOOD CONCERT ANYWAY. LIGHTEN UP; IT’S NOT A BIG DEAL” OR (B) RUN IN CLEARLY UPSET, SHOW HER YOUR DIRTY HANDS, EXPLAIN WHAT HAPPENED, TELL HER YOU LEFT YOUR HOUSE IN TIME TO MAKE IT BUT GOT A FLAT, APOLOGIZE SINCERELY, AND VOW TO MAKE IT UP TO 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uld predict that your friend would be prone toward aggression in the first case but not in the second, and a host of experiments support our prediction (Baron, 1988, 1990; Ohbuchi &amp; Sato, 1994; Weiner, Amirkhan, Folkes, &amp; Verette, 1987). Typically, any apology sincerely given and in which the perpetrator took full responsibility was effective at reducing aggres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ACA8-3BC5-4A36-8407-6055EE6F9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CHILDREN WILL BE MORE AGGRESSIVE (TOWARD DOLLS AS WELL AS OTHER CHILDREN) IF THEY’VE SEEN PEOPLE BEHAVING AGGRESSIVELY IN SIMILAR SITUATIONS. WHAT IF WE REVERSE THINGS AND EXPOSE CHILDREN TO NONAGGRESSIVE MODELS—TO PEOPLE WHO, WHEN PROVOKED, EXPRESSED THEMSELVES IN A RESTRAINED, RATIONAL, PLEASANT MANNER? THIS HAS BEEN TESTED IN SEVERAL EXPERIMENTS (BARON, 1972; DONNERSTEIN &amp; DONNERSTEIN, 1976; VIDYASAGAR &amp; MISHRA, 1993) AND FOUND TO WORK. IN THOSE EXPERIMENTS, CHILDREN FIRST WATCHED YOUNGSTERS BEHAVING NONAGGRESSIVELY WHEN PROVOKED. LATER, WHEN THE CHILDREN WERE PUT IN A SITUATION IN WHICH THEY THEMSELVES WERE PROVOKED, THEY WERE MUCH LESS LIKELY TO RESPOND AGGRESSIVELY THAN CHILDREN WHO HAD NOT SEEN THE NONAGGRESSIVE MODE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D725-E73D-45EF-B58D-555B76FC4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C8FB-D61D-49E6-A810-673B9F5C4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son &amp; Carlsmith, 1963; Freedman, 196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CE38-C177-410D-90C6-A2D5A6A20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3320-C315-4B85-B00D-E71A54EF4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WER &amp; HILGARD, 198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AMERICAN CITIES, THE PROBABILITY THAT A PERSON WHO COMMITS A VIOLENT CRIME WILL BE APPREHENDED, CHARGED, TRIED, AND CONVICTED IS NOT HIGH. MOREOVER, GIVEN THE VOLUME OF CASES IN OUR COURTS, AS WELL AS THE NECESSARY CAUTIONS WITH WHICH THE CRIMINAL JUSTICE SYSTEM MUST OPERATE, PROMPTNESS IS ALMOST IMPOSSIBLE. TYPICALLY, PUNISHMENT IS DELAYED BY MONTHS OR EVEN YEARS. CONSEQUENTLY, IN THE COMPLEX WORLD OF CRIMINAL JUSTICE, SEVERE PUNISHMENT IS UNLIKELY TO HAVE THE KIND OF DETERRENT EFFECT THAT IT DOES IN THE CONTROLLED CONDITIONS OF THE LABORATOR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A307-33D3-447C-90AD-ABAA72BCC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F401-9074-4490-952F-640744396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2384-CE49-4FE3-91A9-7B8D8386C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Dollard, Doob, Miller, Mowrer, &amp; Sears, 1939; Freud, 193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DD2BF-305A-4143-B5EC-1AD355A1F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2D901-D007-46B0-85EE-57F625F27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0DFDDC-5E58-40DB-81B1-E1265B597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27BF9-F39C-4E01-9A5C-08D756B1A1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A49D3E-A6F1-482C-AD7E-92657F6D11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9F1D21-84A1-4653-8BA2-ADF6EF301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14BDE-AE22-4585-ADA0-CC012D591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4A596-CE82-4E58-95ED-5EDDAB323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827390-1949-4C2D-8FFC-6E5CB1E49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E507A4-70E7-4643-AEB9-6224B60F38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712494-78D1-4162-B291-E4FE057E1B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2C5965-E143-45BF-A558-117A70D9B2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7DEB0-18F2-4D5A-93AD-967D89828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E4BFA5-8859-4959-B78D-B3489ADC9F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436B02-6BAE-4787-9ED9-E28877C7FD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5C4202-A7D4-4218-B72C-87F135EC51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1A8ADD-55E7-4B2E-847D-3BA8A49B12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8E76BD-FFA7-4827-9D51-B0118A124B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19B79A-A418-4343-B1F3-A695AB6F92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9A3B08-BF69-418A-9A1E-F1790CB602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2ACE37-F8CF-4F6A-91DC-BCA82CB46E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A97696-0405-4B41-80A1-5536BBBD29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A06C3D-8AE9-433C-9462-1B2571FB45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6D4CA-1563-4241-825B-948EE47C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20ED97-BA02-4CFE-8141-B995A41443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150759-3A7B-4110-B9A1-631A78C63D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E85C26-2F31-465F-9C8C-85EB03ECAC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30DACB-82ED-4349-B609-5BB1DAE841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B8E803-6BEE-47E0-99C6-A78FCA295F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367BFA-B4E9-4BA0-8C50-1947413F17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8EFF49-EA26-4DF3-B707-1C54C6A5CB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79CD4C-24FC-4C64-976A-509226E6B7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95DE18-C331-414F-9DF8-11BD282FC3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A0BF20-9DA5-49DB-A962-3A47B8C05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7C91E-D740-4D89-A929-DD16BE261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233677-654A-432A-8D8B-FCECA345FB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EC26C7-119A-42D0-B84A-100F6A85B6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D545D7-67F4-4B23-A994-0224FB9F2A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0E2DCD-D56A-43BE-B2EA-DB79FB81B8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BC6A27-C624-489C-AD8F-BED34729FA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9AC82E-66A1-4362-862E-9FA364CA40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2966B4-F00B-4A15-A1C5-1E1B195B65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69374F-5712-4EF1-954C-9BF397438D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25DBCA-A1DA-4494-ABA5-D2E1ECAD46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D15695-A812-47F5-9BCE-A8AA15F77E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E00F0-3631-4581-86B2-5829B31D1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0D6478-A980-41A0-A0AC-135C5456FC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A8BDD0-1B86-47ED-B070-C9463450F5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63A5B7-C317-44FF-A56E-AEC25B28D0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F8F0DC-AC0D-4A26-9DF4-39F4CE5388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CE49E4-7D1B-41BA-83B7-8F616D1BDD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738CD6-B9B4-4CFE-8DB1-7C70B940F1D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6EAC4F-8142-4820-BF48-FFDF6416B7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EBB6BF-C7A0-47A1-A13D-32511CAB2E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C3F331-1303-4273-B57B-9BE822B15A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59CA99-4DDE-4507-B1A9-A5A33C9415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6F646-BFF3-4CC7-AAED-0EF14A2F5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136513D-FB1E-48D8-946A-6DF2932636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A87B80-9492-4918-9B09-C9A3B5B120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26D28B-3EB1-4A30-BB09-60F4181FEA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7823D2-DCD2-4734-8E9D-825FA191B9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2A1FD9-FEFE-4E43-A60A-8246D9BEC5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785B4C-B695-4DE6-ADDE-75D5574D3B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C84A8A-F604-4580-8EE6-5039582D81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7A98BB-04B5-4E06-ACBF-4BE0985E80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E371C6-8150-44F9-9AD0-1F45688D53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C646F4-8EE7-43A8-9A67-E0D6AD06E7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1B74F-EEF4-40E6-8497-7C5A7920A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918D4C-58D2-4CC0-9F56-D3A004A084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A8998E-20B9-4984-AE33-8065AEABE1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B9294D-7710-4658-B280-8B87A44FCD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52E46B-6F79-4BBA-9A3B-59B6A25299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C68D19-9911-4E2F-88FB-B2E8345A03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F06BEE-BD52-420B-98EC-0426C92C67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4C4FF7-3754-4143-991C-8661296E7D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7C5F4B1-9623-4E8B-ACCD-4D06640E04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B241B4-AF7E-471C-9423-B3677B31CC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14FCF-3266-40EB-9C4A-41FD75B02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47780-760F-4AEF-A873-73F273E09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0630A-CD0E-4879-A675-1ACE97D85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1305-6B49-4936-A7F9-03BA75267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D207F-CD2A-4651-BF9E-809BBB7AB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CEC21-561A-48C2-894E-3B4F0785C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698D4-7966-4D8E-89E7-9DD82D945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91F9E-B838-4A2D-A718-45C587BAD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A8133-85E2-4BE3-900E-9A42D41B9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755757-A997-457A-A8EC-5F081804F7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EC62C-4A92-42EF-8828-C2418623E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7660D-F9EB-4355-B8A4-8FC4AE724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7F12C-4E4D-4227-94D2-3458917FC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16010-A05D-4124-B2AD-BF4B6314C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B83D-76BF-42F6-B9B1-2C727AF9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43280-7520-48EC-ADFB-446E8B354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E14C9-4954-4670-AFAC-62B2E4CA0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1A7FD-831A-4B94-8C7B-8D1ACA937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3A559-B378-4CB9-BED2-12CFA238C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79D26-983B-4FEF-8FBC-18F2CC485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26A1B4-D85F-4F91-9A6D-39A1798B00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009B94-EE5B-4A25-BF27-51A3581480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D647C1-CCF1-498E-AE6D-F407C242F3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D837F-082C-4264-8520-EF2F1DAC8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7B7B7E-5C64-4431-9F54-A33E973AF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6613-FC2D-4DBF-8040-3A481803D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76D98-B2E2-4761-AD13-97B60DC76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AE6BC-02E7-4C75-A8A6-45FAA14B2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BA958-282B-40CE-A0BE-6D6B11F9F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5594D-FD0C-4070-A599-500CDCE54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030D0-3CCD-4E65-B325-463722E05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E4702-B629-4444-BC7F-ABB42BAD2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26776-F77A-45B3-B204-22292B6BB2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56C0FD-3593-4068-949E-C92B34CA3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C7989-879A-4517-BF96-EEEF6777FC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50EB60-5B0F-4C4C-A699-EA2A63222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5C86E-13A0-4A51-A783-293C8CCBA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74E315-B8EA-4235-9FB4-A9851E5CE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9507CF-559A-4805-B732-BE0A673E9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3081FC-B942-4B0D-B8DF-AC79139EC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4ADE9-D62F-4CDB-80E4-A96799DAE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55BB7-3726-40C0-95AB-59262AC41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662E0-CC58-4928-8E2B-A39C590EA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E941E-BE63-41D1-9ADF-BA80AE41AB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BE211-F725-47DC-B857-96B114CCF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452EBE-E81A-4DA2-B010-0C78B74BE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83E344-E110-4450-9217-408D1CCC6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49ECB-B71A-42CD-AE74-D882C4054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803334-415A-421A-8CEB-3C7D45FD18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9AF549-6465-44C9-A5E1-EBFC6CD615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3DB1E-6944-4A8F-A35E-A3C18FC8E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444E8-A787-4AAB-A328-75DC2B3AE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EA635F-7741-41E0-AD20-02D97EFA6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CC3D8A-232C-44FE-93AA-D8D4B587E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4E1C7F-5E9D-4D43-A5DF-35DE193AB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0A5BF-1172-42D7-B53F-0A4CB7CAB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84293-5469-459E-97D2-ABDE376636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F368D-6CB0-4422-8C04-DFD201C07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DD3E-0B73-4A8B-AC58-8EBBA60B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1ADDB-78A8-4BFD-B07E-37A05362F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F82A73-6D9F-4844-A322-D45C64D68C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166610-2468-4101-B170-2A773FD6CF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3CF89D-DC88-4960-A0D2-0ABA99EB2E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0BD3F2-70A0-4336-BEF9-6593433FFF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923B81-BC03-4C6C-8667-6899469E1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F09B1-7354-4C24-B78B-C0676420CE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056D82-1AAF-4A02-A1EA-1748CF08F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464D68-2BFA-40D7-A6C0-C1229EF21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B2A71-C0FD-4659-99E9-D43F42D38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A1B4-49C9-4AD3-94D2-304B7401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BE7A1-DB5C-4B7B-A7C6-FDCE6C9AD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94582-F715-42B7-A452-8E8FA76DA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59CB1D-B4AB-4162-96FC-AA4773C0E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B06914-E5EA-439B-8F29-2510222E7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D51A3B-534A-406C-BA63-6B81F0E810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07E1BB-FAFD-45BF-B440-EB91EEE060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51C43-D38F-4CFB-93A5-3EBC49AC14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C092E-D428-4525-A9EE-442CAD83C8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4DD3DD-29FC-41D3-AA90-0ED1B1F0EB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44834E-58B9-41DA-B7B2-7FE3609117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0EF6-76A4-4CD0-BEE1-489F9DBA7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91657E-925A-4BE6-973B-52C5163BC1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4BE74-FF1B-422B-ACCD-476A3A8DCD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FACDB5-D2A0-4F48-920E-3E9BD2DF4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A16A7-A755-48AC-9115-2C797E25B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3768DA-96FE-4523-B9D6-79A331BE4B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684B31-CA43-46AF-A757-4DA4762144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A96401-21DD-4CFA-910A-B45ABBD675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7AE375-37FC-4775-8891-57E4F3DC6F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A3A0B-FFDC-4314-A9A9-983EA30E18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BA827F-8C74-4E05-B9E6-982696087B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2D66-F3B4-41D2-96BB-22322EF94B42}"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Picture 11" descr="Aronson_spine"/>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17" name="Group 2"/>
          <p:cNvGrpSpPr/>
          <p:nvPr/>
        </p:nvGrpSpPr>
        <p:grpSpPr>
          <a:xfrm>
            <a:off x="3800520" y="1789200"/>
            <a:ext cx="5348160" cy="5056200"/>
            <a:chOff x="3800520" y="1789200"/>
            <a:chExt cx="5348160" cy="5056200"/>
          </a:xfrm>
        </p:grpSpPr>
        <p:sp>
          <p:nvSpPr>
            <p:cNvPr id="61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4"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CC20-8822-4DA9-B753-4BEA957634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93" name="Group 2"/>
          <p:cNvGrpSpPr/>
          <p:nvPr/>
        </p:nvGrpSpPr>
        <p:grpSpPr>
          <a:xfrm>
            <a:off x="3800520" y="1789200"/>
            <a:ext cx="5348160" cy="5056200"/>
            <a:chOff x="3800520" y="1789200"/>
            <a:chExt cx="5348160" cy="5056200"/>
          </a:xfrm>
        </p:grpSpPr>
        <p:sp>
          <p:nvSpPr>
            <p:cNvPr id="69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30"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2C1B-EFEA-4CD5-93B3-D3F1F0CF48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9" name="Group 2"/>
          <p:cNvGrpSpPr/>
          <p:nvPr/>
        </p:nvGrpSpPr>
        <p:grpSpPr>
          <a:xfrm>
            <a:off x="3800520" y="1789200"/>
            <a:ext cx="5348160" cy="5056200"/>
            <a:chOff x="3800520" y="1789200"/>
            <a:chExt cx="5348160" cy="5056200"/>
          </a:xfrm>
        </p:grpSpPr>
        <p:sp>
          <p:nvSpPr>
            <p:cNvPr id="77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06"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5740-FE28-41D9-9042-BD6667F5E9D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45" name="Group 2"/>
          <p:cNvGrpSpPr/>
          <p:nvPr/>
        </p:nvGrpSpPr>
        <p:grpSpPr>
          <a:xfrm>
            <a:off x="3800520" y="1789200"/>
            <a:ext cx="5348160" cy="5056200"/>
            <a:chOff x="3800520" y="1789200"/>
            <a:chExt cx="5348160" cy="5056200"/>
          </a:xfrm>
        </p:grpSpPr>
        <p:sp>
          <p:nvSpPr>
            <p:cNvPr id="84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82"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E0A7-C9E4-4C75-9413-11342EB2E9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21" name="Group 2"/>
          <p:cNvGrpSpPr/>
          <p:nvPr/>
        </p:nvGrpSpPr>
        <p:grpSpPr>
          <a:xfrm>
            <a:off x="3800520" y="1789200"/>
            <a:ext cx="5348160" cy="5056200"/>
            <a:chOff x="3800520" y="1789200"/>
            <a:chExt cx="5348160" cy="5056200"/>
          </a:xfrm>
        </p:grpSpPr>
        <p:sp>
          <p:nvSpPr>
            <p:cNvPr id="92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9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8" name="PlaceHolder 3"/>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PlaceHolder 4"/>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5"/>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97F9-F411-4A82-999E-4B66B2EC49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3800520" y="1789200"/>
            <a:ext cx="5348160" cy="5056200"/>
            <a:chOff x="3800520" y="1789200"/>
            <a:chExt cx="5348160" cy="5056200"/>
          </a:xfrm>
        </p:grpSpPr>
        <p:sp>
          <p:nvSpPr>
            <p:cNvPr id="4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9"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6AAD-4B26-4A02-B78E-DC5164C51A2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5" descr="Aronson_cover"/>
          <p:cNvPicPr/>
          <p:nvPr/>
        </p:nvPicPr>
        <p:blipFill>
          <a:blip r:embed="rId2"/>
          <a:stretch/>
        </p:blipFill>
        <p:spPr>
          <a:xfrm>
            <a:off x="5562720" y="2438280"/>
            <a:ext cx="2722320" cy="3505320"/>
          </a:xfrm>
          <a:prstGeom prst="rect">
            <a:avLst/>
          </a:prstGeom>
          <a:ln w="0">
            <a:noFill/>
          </a:ln>
        </p:spPr>
      </p:pic>
      <p:pic>
        <p:nvPicPr>
          <p:cNvPr id="119" name="Picture 16" descr="Aronson_spine"/>
          <p:cNvPicPr/>
          <p:nvPr/>
        </p:nvPicPr>
        <p:blipFill>
          <a:blip r:embed="rId3"/>
          <a:stretch/>
        </p:blipFill>
        <p:spPr>
          <a:xfrm>
            <a:off x="0" y="0"/>
            <a:ext cx="533520" cy="6858000"/>
          </a:xfrm>
          <a:prstGeom prst="rect">
            <a:avLst/>
          </a:prstGeom>
          <a:ln w="0">
            <a:noFill/>
          </a:ln>
        </p:spPr>
      </p:pic>
      <p:sp>
        <p:nvSpPr>
          <p:cNvPr id="12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2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122" name="PlaceHolder 3"/>
          <p:cNvSpPr>
            <a:spLocks noGrp="1"/>
          </p:cNvSpPr>
          <p:nvPr>
            <p:ph type="dt" idx="7"/>
          </p:nvPr>
        </p:nvSpPr>
        <p:spPr>
          <a:xfrm>
            <a:off x="762120" y="6171840"/>
            <a:ext cx="2286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8"/>
          </p:nvPr>
        </p:nvSpPr>
        <p:spPr>
          <a:xfrm>
            <a:off x="3428640" y="61718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603C-6CCB-4C0E-9A09-A9BB3CF1D897}"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3800520" y="1789200"/>
            <a:ext cx="5348160" cy="5056200"/>
            <a:chOff x="3800520" y="1789200"/>
            <a:chExt cx="5348160" cy="5056200"/>
          </a:xfrm>
        </p:grpSpPr>
        <p:sp>
          <p:nvSpPr>
            <p:cNvPr id="16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8"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84DD-AF75-4EB1-95C3-74985F7104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37" name="Group 2"/>
          <p:cNvGrpSpPr/>
          <p:nvPr/>
        </p:nvGrpSpPr>
        <p:grpSpPr>
          <a:xfrm>
            <a:off x="3800520" y="1789200"/>
            <a:ext cx="5348160" cy="5056200"/>
            <a:chOff x="3800520" y="1789200"/>
            <a:chExt cx="5348160" cy="5056200"/>
          </a:xfrm>
        </p:grpSpPr>
        <p:sp>
          <p:nvSpPr>
            <p:cNvPr id="23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4"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E713-615D-418E-BE0D-E4C7AA8AF96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13" name="Group 2"/>
          <p:cNvGrpSpPr/>
          <p:nvPr/>
        </p:nvGrpSpPr>
        <p:grpSpPr>
          <a:xfrm>
            <a:off x="3800520" y="1789200"/>
            <a:ext cx="5348160" cy="5056200"/>
            <a:chOff x="3800520" y="1789200"/>
            <a:chExt cx="5348160" cy="5056200"/>
          </a:xfrm>
        </p:grpSpPr>
        <p:sp>
          <p:nvSpPr>
            <p:cNvPr id="31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21D3-2C6B-4B85-837C-93103E9CC2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89" name="Group 2"/>
          <p:cNvGrpSpPr/>
          <p:nvPr/>
        </p:nvGrpSpPr>
        <p:grpSpPr>
          <a:xfrm>
            <a:off x="3800520" y="1789200"/>
            <a:ext cx="5348160" cy="5056200"/>
            <a:chOff x="3800520" y="1789200"/>
            <a:chExt cx="5348160" cy="5056200"/>
          </a:xfrm>
        </p:grpSpPr>
        <p:sp>
          <p:nvSpPr>
            <p:cNvPr id="39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4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6"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D141-73A4-44BA-AF3E-7F790D8D3E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65" name="Group 2"/>
          <p:cNvGrpSpPr/>
          <p:nvPr/>
        </p:nvGrpSpPr>
        <p:grpSpPr>
          <a:xfrm>
            <a:off x="3800520" y="1789200"/>
            <a:ext cx="5348160" cy="5056200"/>
            <a:chOff x="3800520" y="1789200"/>
            <a:chExt cx="5348160" cy="5056200"/>
          </a:xfrm>
        </p:grpSpPr>
        <p:sp>
          <p:nvSpPr>
            <p:cNvPr id="46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2"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AEC5-5FF6-47B8-81A8-C8216E5B5A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41" name="Group 2"/>
          <p:cNvGrpSpPr/>
          <p:nvPr/>
        </p:nvGrpSpPr>
        <p:grpSpPr>
          <a:xfrm>
            <a:off x="3800520" y="1789200"/>
            <a:ext cx="5348160" cy="5056200"/>
            <a:chOff x="3800520" y="1789200"/>
            <a:chExt cx="5348160" cy="5056200"/>
          </a:xfrm>
        </p:grpSpPr>
        <p:sp>
          <p:nvSpPr>
            <p:cNvPr id="5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78"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C736-D2BF-4426-81A9-33761EAB5CC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14400" y="380520"/>
            <a:ext cx="6477120" cy="16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97-409)</a:t>
            </a:r>
            <a:endParaRPr b="1" lang="en-US" sz="5600" spc="-1" strike="noStrike">
              <a:solidFill>
                <a:srgbClr val="000000"/>
              </a:solidFill>
              <a:latin typeface="Arial Narrow"/>
            </a:endParaRPr>
          </a:p>
        </p:txBody>
      </p:sp>
      <p:sp>
        <p:nvSpPr>
          <p:cNvPr id="1005" name="PlaceHolder 2"/>
          <p:cNvSpPr>
            <a:spLocks noGrp="1"/>
          </p:cNvSpPr>
          <p:nvPr>
            <p:ph type="subTitle"/>
          </p:nvPr>
        </p:nvSpPr>
        <p:spPr>
          <a:xfrm>
            <a:off x="990360" y="2362320"/>
            <a:ext cx="3809880" cy="403848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0" lang="en-US" sz="2400" spc="-1" strike="noStrike">
              <a:solidFill>
                <a:srgbClr val="000000"/>
              </a:solidFill>
              <a:latin typeface="Arial Unicode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0" lang="en-US" sz="2400" spc="-1" strike="noStrike">
              <a:solidFill>
                <a:srgbClr val="000000"/>
              </a:solidFill>
              <a:latin typeface="Arial Unicode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0" lang="en-US" sz="40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0" lang="en-US" sz="2400" spc="-1" strike="noStrike">
              <a:solidFill>
                <a:srgbClr val="000000"/>
              </a:solidFill>
              <a:latin typeface="Arial Unicode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006" name="Text Box 4"/>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27" name="PlaceHolder 2"/>
          <p:cNvSpPr>
            <a:spLocks noGrp="1"/>
          </p:cNvSpPr>
          <p:nvPr>
            <p:ph/>
          </p:nvPr>
        </p:nvSpPr>
        <p:spPr>
          <a:xfrm>
            <a:off x="762120" y="1981080"/>
            <a:ext cx="8076960" cy="464832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frustrated or angry, many of us do feel less tense after blowing off steam by yelling, cursing, or perhaps even hitting someone.</a:t>
            </a:r>
            <a:endParaRPr b="0" lang="en-US" sz="2800" spc="-1" strike="noStrike">
              <a:solidFill>
                <a:srgbClr val="000000"/>
              </a:solidFill>
              <a:latin typeface="Arial Unicode MS"/>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does aggression reduce the need for further aggression? Does playing competitive games, for example, serve as a harmless outlet for aggressive energies?</a:t>
            </a:r>
            <a:endParaRPr b="0" lang="en-US" sz="2800" spc="-1" strike="noStrike">
              <a:solidFill>
                <a:srgbClr val="000000"/>
              </a:solidFill>
              <a:latin typeface="Arial Unicode MS"/>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33264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rally, the answer is no.  In fact, the reverse is true: competitive games often make participants and observers more aggressive. </a:t>
            </a:r>
            <a:endParaRPr b="0" lang="en-US" sz="2800" spc="-1" strike="noStrike">
              <a:solidFill>
                <a:srgbClr val="000000"/>
              </a:solidFill>
              <a:latin typeface="Arial Unicode MS"/>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29" name="PlaceHolder 2"/>
          <p:cNvSpPr>
            <a:spLocks noGrp="1"/>
          </p:cNvSpPr>
          <p:nvPr>
            <p:ph/>
          </p:nvPr>
        </p:nvSpPr>
        <p:spPr>
          <a:xfrm>
            <a:off x="762120" y="2179800"/>
            <a:ext cx="80769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at about watching aggressive games? Will that reduce aggressive behavior?</a:t>
            </a:r>
            <a:endParaRPr b="0" lang="en-US" sz="2800" spc="-1" strike="noStrike">
              <a:solidFill>
                <a:srgbClr val="000000"/>
              </a:solidFill>
              <a:latin typeface="Arial Unicode MS"/>
            </a:endParaRPr>
          </a:p>
        </p:txBody>
      </p:sp>
      <p:pic>
        <p:nvPicPr>
          <p:cNvPr id="1030" name="Picture 4" descr=""/>
          <p:cNvPicPr/>
          <p:nvPr/>
        </p:nvPicPr>
        <p:blipFill>
          <a:blip r:embed="rId1"/>
          <a:stretch/>
        </p:blipFill>
        <p:spPr>
          <a:xfrm>
            <a:off x="5334120" y="3886200"/>
            <a:ext cx="3066840" cy="2209680"/>
          </a:xfrm>
          <a:prstGeom prst="rect">
            <a:avLst/>
          </a:prstGeom>
          <a:ln w="0">
            <a:noFill/>
          </a:ln>
        </p:spPr>
      </p:pic>
      <p:sp>
        <p:nvSpPr>
          <p:cNvPr id="1031" name="Rectangle 5"/>
          <p:cNvSpPr/>
          <p:nvPr/>
        </p:nvSpPr>
        <p:spPr>
          <a:xfrm>
            <a:off x="762120" y="3673440"/>
            <a:ext cx="4419360" cy="303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s with participating in an aggressive sport, watching one also increases aggressive behavior</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Effects of Aggressive Acts on Subsequent Aggression </a:t>
            </a:r>
            <a:endParaRPr b="1" lang="en-US" sz="4000" spc="-1" strike="noStrike">
              <a:solidFill>
                <a:srgbClr val="000000"/>
              </a:solidFill>
              <a:latin typeface="Arial Narrow"/>
            </a:endParaRPr>
          </a:p>
        </p:txBody>
      </p:sp>
      <p:sp>
        <p:nvSpPr>
          <p:cNvPr id="1033" name="PlaceHolder 2"/>
          <p:cNvSpPr>
            <a:spLocks noGrp="1"/>
          </p:cNvSpPr>
          <p:nvPr>
            <p:ph/>
          </p:nvPr>
        </p:nvSpPr>
        <p:spPr>
          <a:xfrm>
            <a:off x="762120" y="1951200"/>
            <a:ext cx="80769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nally, does direct aggression against the source of your anger reduce further aggression? Again, the answer is no. </a:t>
            </a:r>
            <a:endParaRPr b="0" lang="en-US" sz="3200" spc="-1" strike="noStrike">
              <a:solidFill>
                <a:srgbClr val="000000"/>
              </a:solidFill>
              <a:latin typeface="Arial Unicode MS"/>
            </a:endParaRPr>
          </a:p>
        </p:txBody>
      </p:sp>
      <p:sp>
        <p:nvSpPr>
          <p:cNvPr id="1034" name="Rectangle 5"/>
          <p:cNvSpPr/>
          <p:nvPr/>
        </p:nvSpPr>
        <p:spPr>
          <a:xfrm>
            <a:off x="1143000" y="3673440"/>
            <a:ext cx="7620120" cy="3032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people commit acts of aggression, such acts increase the tendency toward future aggression. </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tside the lab, in the real world, we see the same phenomenon: Verbal acts of aggression are followed by further attacks.</a:t>
            </a:r>
            <a:endParaRPr b="0" lang="en-US" sz="28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aming the Victim of Our Aggression</a:t>
            </a:r>
            <a:endParaRPr b="1" lang="en-US" sz="3600" spc="-1" strike="noStrike">
              <a:solidFill>
                <a:srgbClr val="000000"/>
              </a:solidFill>
              <a:latin typeface="Arial Narrow"/>
            </a:endParaRPr>
          </a:p>
        </p:txBody>
      </p:sp>
      <p:sp>
        <p:nvSpPr>
          <p:cNvPr id="1036" name="PlaceHolder 2"/>
          <p:cNvSpPr>
            <a:spLocks noGrp="1"/>
          </p:cNvSpPr>
          <p:nvPr>
            <p:ph/>
          </p:nvPr>
        </p:nvSpPr>
        <p:spPr>
          <a:xfrm>
            <a:off x="762120" y="1752120"/>
            <a:ext cx="8153280" cy="4953240"/>
          </a:xfrm>
          <a:prstGeom prst="rect">
            <a:avLst/>
          </a:prstGeom>
          <a:noFill/>
          <a:ln w="0">
            <a:noFill/>
          </a:ln>
        </p:spPr>
        <p:txBody>
          <a:bodyPr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somebody angers us, venting our hostility against that person does seem to relieve tension and make us feel better, at least temporarily—assuming the person we vent on doesn’t decide to vent back on us. </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feeling better” should not be confused with a reduction in hostility. </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ith human beings, aggression is dependent not merely on tensions—what a person feels—but also on what a person thinks. </a:t>
            </a:r>
            <a:endParaRPr b="0" lang="en-US" sz="28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laming the Victim of Our Aggression</a:t>
            </a:r>
            <a:endParaRPr b="1" lang="en-US" sz="3600" spc="-1" strike="noStrike">
              <a:solidFill>
                <a:srgbClr val="000000"/>
              </a:solidFill>
              <a:latin typeface="Arial Narrow"/>
            </a:endParaRPr>
          </a:p>
        </p:txBody>
      </p:sp>
      <p:sp>
        <p:nvSpPr>
          <p:cNvPr id="1038" name="PlaceHolder 2"/>
          <p:cNvSpPr>
            <a:spLocks noGrp="1"/>
          </p:cNvSpPr>
          <p:nvPr>
            <p:ph/>
          </p:nvPr>
        </p:nvSpPr>
        <p:spPr>
          <a:xfrm>
            <a:off x="837720" y="1706040"/>
            <a:ext cx="8077320" cy="4923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 participants who inflicted either psychological or physical harm on an innocent person who had done them no prior harm then derogated their victims, convincing themselves they were not nice people and therefore deserved what they got. </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reduces dissonance, all right—and it also sets the stage for further aggression, for once a person has succeeded in derogating someone, it makes it easier to do further harm to the victim in the future. </a:t>
            </a:r>
            <a:endParaRPr b="0" lang="en-US" sz="2800" spc="-1" strike="noStrike">
              <a:solidFill>
                <a:srgbClr val="000000"/>
              </a:solidFill>
              <a:latin typeface="Arial Unicode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What Are We Supposed to Do with Our Anger?</a:t>
            </a:r>
            <a:endParaRPr b="1" lang="en-US" sz="4400" spc="-1" strike="noStrike">
              <a:solidFill>
                <a:srgbClr val="000000"/>
              </a:solidFill>
              <a:latin typeface="Arial Narrow"/>
            </a:endParaRPr>
          </a:p>
        </p:txBody>
      </p:sp>
      <p:sp>
        <p:nvSpPr>
          <p:cNvPr id="1040" name="PlaceHolder 2"/>
          <p:cNvSpPr>
            <a:spLocks noGrp="1"/>
          </p:cNvSpPr>
          <p:nvPr>
            <p:ph/>
          </p:nvPr>
        </p:nvSpPr>
        <p:spPr>
          <a:xfrm>
            <a:off x="761760" y="3962160"/>
            <a:ext cx="6553080" cy="2057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Actively enabling” means using such simple devices as counting to ten before shooting your mouth off.</a:t>
            </a:r>
            <a:endParaRPr b="0" lang="en-US" sz="3200" spc="-1" strike="noStrike">
              <a:solidFill>
                <a:srgbClr val="000000"/>
              </a:solidFill>
              <a:latin typeface="Arial Unicode MS"/>
            </a:endParaRPr>
          </a:p>
        </p:txBody>
      </p:sp>
      <p:pic>
        <p:nvPicPr>
          <p:cNvPr id="1041" name="Picture 4" descr="j0423836[1]"/>
          <p:cNvPicPr/>
          <p:nvPr/>
        </p:nvPicPr>
        <p:blipFill>
          <a:blip r:embed="rId1"/>
          <a:stretch/>
        </p:blipFill>
        <p:spPr>
          <a:xfrm>
            <a:off x="7207200" y="4952880"/>
            <a:ext cx="1936800" cy="1905120"/>
          </a:xfrm>
          <a:prstGeom prst="rect">
            <a:avLst/>
          </a:prstGeom>
          <a:ln w="0">
            <a:noFill/>
          </a:ln>
        </p:spPr>
      </p:pic>
      <p:pic>
        <p:nvPicPr>
          <p:cNvPr id="1042" name="Picture 5" descr="j0423850[1]"/>
          <p:cNvPicPr/>
          <p:nvPr/>
        </p:nvPicPr>
        <p:blipFill>
          <a:blip r:embed="rId2"/>
          <a:stretch/>
        </p:blipFill>
        <p:spPr>
          <a:xfrm>
            <a:off x="609480" y="914400"/>
            <a:ext cx="1616040" cy="1758960"/>
          </a:xfrm>
          <a:prstGeom prst="rect">
            <a:avLst/>
          </a:prstGeom>
          <a:ln w="0">
            <a:noFill/>
          </a:ln>
        </p:spPr>
      </p:pic>
      <p:pic>
        <p:nvPicPr>
          <p:cNvPr id="1043" name="Picture 6" descr="j0423846[1]"/>
          <p:cNvPicPr/>
          <p:nvPr/>
        </p:nvPicPr>
        <p:blipFill>
          <a:blip r:embed="rId3"/>
          <a:stretch/>
        </p:blipFill>
        <p:spPr>
          <a:xfrm>
            <a:off x="1219320" y="1949400"/>
            <a:ext cx="1803240" cy="1860480"/>
          </a:xfrm>
          <a:prstGeom prst="rect">
            <a:avLst/>
          </a:prstGeom>
          <a:ln w="0">
            <a:noFill/>
          </a:ln>
        </p:spPr>
      </p:pic>
      <p:pic>
        <p:nvPicPr>
          <p:cNvPr id="1044" name="Picture 7" descr="j0424452[1]"/>
          <p:cNvPicPr/>
          <p:nvPr/>
        </p:nvPicPr>
        <p:blipFill>
          <a:blip r:embed="rId4"/>
          <a:stretch/>
        </p:blipFill>
        <p:spPr>
          <a:xfrm>
            <a:off x="6324480" y="685800"/>
            <a:ext cx="2590920" cy="2114640"/>
          </a:xfrm>
          <a:prstGeom prst="rect">
            <a:avLst/>
          </a:prstGeom>
          <a:ln w="0">
            <a:noFill/>
          </a:ln>
        </p:spPr>
      </p:pic>
      <p:sp>
        <p:nvSpPr>
          <p:cNvPr id="1045" name="Rectangle 8"/>
          <p:cNvSpPr/>
          <p:nvPr/>
        </p:nvSpPr>
        <p:spPr>
          <a:xfrm>
            <a:off x="3048120" y="2438280"/>
            <a:ext cx="5562360" cy="1905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t is possible to control our anger by actively enabling it to dissipate.</a:t>
            </a:r>
            <a:endParaRPr b="0" lang="en-US" sz="3200" spc="-1" strike="noStrike">
              <a:solidFill>
                <a:srgbClr val="000000"/>
              </a:solidFill>
              <a:latin typeface="Arial"/>
            </a:endParaRPr>
          </a:p>
        </p:txBody>
      </p:sp>
      <p:sp>
        <p:nvSpPr>
          <p:cNvPr id="1046" name="Text Box 9"/>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enting versus Self-Awareness </a:t>
            </a:r>
            <a:endParaRPr b="1" lang="en-US" sz="4400" spc="-1" strike="noStrike">
              <a:solidFill>
                <a:srgbClr val="000000"/>
              </a:solidFill>
              <a:latin typeface="Arial Narrow"/>
            </a:endParaRPr>
          </a:p>
        </p:txBody>
      </p:sp>
      <p:sp>
        <p:nvSpPr>
          <p:cNvPr id="1048" name="PlaceHolder 2"/>
          <p:cNvSpPr>
            <a:spLocks noGrp="1"/>
          </p:cNvSpPr>
          <p:nvPr>
            <p:ph/>
          </p:nvPr>
        </p:nvSpPr>
        <p:spPr>
          <a:xfrm>
            <a:off x="837720" y="2103480"/>
            <a:ext cx="807732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your close friend or spouse does something that makes you angry, you may want to express that anger in a way that helps you gain insight into yourself and the dynamics of the relationship.</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for that to happen, the anger must be expressed in a nonviolent and non-demeaning way. </a:t>
            </a:r>
            <a:endParaRPr b="0" lang="en-US" sz="2800" spc="-1" strike="noStrike">
              <a:solidFill>
                <a:srgbClr val="000000"/>
              </a:solidFill>
              <a:latin typeface="Arial Unicode MS"/>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enting versus Self-Awareness </a:t>
            </a:r>
            <a:endParaRPr b="1" lang="en-US" sz="4400" spc="-1" strike="noStrike">
              <a:solidFill>
                <a:srgbClr val="000000"/>
              </a:solidFill>
              <a:latin typeface="Arial Narrow"/>
            </a:endParaRPr>
          </a:p>
        </p:txBody>
      </p:sp>
      <p:sp>
        <p:nvSpPr>
          <p:cNvPr id="1050" name="PlaceHolder 2"/>
          <p:cNvSpPr>
            <a:spLocks noGrp="1"/>
          </p:cNvSpPr>
          <p:nvPr>
            <p:ph/>
          </p:nvPr>
        </p:nvSpPr>
        <p:spPr>
          <a:xfrm>
            <a:off x="837720" y="2103480"/>
            <a:ext cx="807732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it is probably best to reveal your anger to the friend who provoked it, at least if you are hoping to resolve the problem between you, sometimes it is helpful to write down your feelings in a journal.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nefits of “opening up” are due not simply to venting of feeling but primarily to the insights and self-awareness that usually accompany such self-disclosure (Pennebaker, 1990). </a:t>
            </a:r>
            <a:endParaRPr b="0" lang="en-US" sz="28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Defusing Anger through Apology</a:t>
            </a:r>
            <a:endParaRPr b="1" lang="en-US" sz="4000" spc="-1" strike="noStrike">
              <a:solidFill>
                <a:srgbClr val="000000"/>
              </a:solidFill>
              <a:latin typeface="Arial Narrow"/>
            </a:endParaRPr>
          </a:p>
        </p:txBody>
      </p:sp>
      <p:sp>
        <p:nvSpPr>
          <p:cNvPr id="1052" name="PlaceHolder 2"/>
          <p:cNvSpPr>
            <a:spLocks noGrp="1"/>
          </p:cNvSpPr>
          <p:nvPr>
            <p:ph/>
          </p:nvPr>
        </p:nvSpPr>
        <p:spPr>
          <a:xfrm>
            <a:off x="762120" y="1554120"/>
            <a:ext cx="807696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e way to reduce aggression is for the individual who caused the frustration to take responsibility for the action, apologize for it, and indicate that it is unlikely to happen again.</a:t>
            </a: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Oops! My bad!”</a:t>
            </a:r>
            <a:endParaRPr b="0" lang="en-US" sz="3200" spc="-1" strike="noStrike">
              <a:solidFill>
                <a:srgbClr val="000000"/>
              </a:solidFill>
              <a:latin typeface="Arial Unicode M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Modeling of </a:t>
            </a:r>
            <a:br>
              <a:rPr sz="4400"/>
            </a:br>
            <a:r>
              <a:rPr b="1" lang="en-US" sz="4400" spc="-1" strike="noStrike">
                <a:solidFill>
                  <a:srgbClr val="000000"/>
                </a:solidFill>
                <a:latin typeface="Arial Narrow"/>
              </a:rPr>
              <a:t>Nonaggressive Behavior</a:t>
            </a:r>
            <a:endParaRPr b="1" lang="en-US" sz="4400" spc="-1" strike="noStrike">
              <a:solidFill>
                <a:srgbClr val="000000"/>
              </a:solidFill>
              <a:latin typeface="Arial Narrow"/>
            </a:endParaRPr>
          </a:p>
        </p:txBody>
      </p:sp>
      <p:sp>
        <p:nvSpPr>
          <p:cNvPr id="1054" name="PlaceHolder 2"/>
          <p:cNvSpPr>
            <a:spLocks noGrp="1"/>
          </p:cNvSpPr>
          <p:nvPr>
            <p:ph/>
          </p:nvPr>
        </p:nvSpPr>
        <p:spPr>
          <a:xfrm>
            <a:off x="762120" y="1874880"/>
            <a:ext cx="807696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ing works with nonaggressive behavior too.</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children see adults, when provoked, express themselves in calm, respectful manner, children subsequently handle their own frustrations with less aggression.</a:t>
            </a:r>
            <a:endParaRPr b="0" lang="en-US" sz="2800" spc="-1" strike="noStrike">
              <a:solidFill>
                <a:srgbClr val="000000"/>
              </a:solidFill>
              <a:latin typeface="Arial Unicode MS"/>
            </a:endParaRPr>
          </a:p>
        </p:txBody>
      </p:sp>
      <p:pic>
        <p:nvPicPr>
          <p:cNvPr id="1055" name="Picture 4" descr="j0423860[1]"/>
          <p:cNvPicPr/>
          <p:nvPr/>
        </p:nvPicPr>
        <p:blipFill>
          <a:blip r:embed="rId1"/>
          <a:stretch/>
        </p:blipFill>
        <p:spPr>
          <a:xfrm>
            <a:off x="6635880" y="4708440"/>
            <a:ext cx="1670040" cy="1844640"/>
          </a:xfrm>
          <a:prstGeom prst="rect">
            <a:avLst/>
          </a:prstGeom>
          <a:ln w="0">
            <a:noFill/>
          </a:ln>
        </p:spPr>
      </p:pic>
      <p:sp>
        <p:nvSpPr>
          <p:cNvPr id="1056" name="Text Box 6"/>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4"/>
          <p:cNvSpPr/>
          <p:nvPr/>
        </p:nvSpPr>
        <p:spPr>
          <a:xfrm>
            <a:off x="685800" y="274680"/>
            <a:ext cx="815328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Last Class</a:t>
            </a:r>
            <a:endParaRPr b="0" lang="en-US" sz="5400" spc="-1" strike="noStrike">
              <a:solidFill>
                <a:srgbClr val="000000"/>
              </a:solidFill>
              <a:latin typeface="Arial"/>
            </a:endParaRPr>
          </a:p>
        </p:txBody>
      </p:sp>
      <p:sp>
        <p:nvSpPr>
          <p:cNvPr id="1008" name="Rectangle 5"/>
          <p:cNvSpPr/>
          <p:nvPr/>
        </p:nvSpPr>
        <p:spPr>
          <a:xfrm>
            <a:off x="762120" y="1600200"/>
            <a:ext cx="8153280" cy="495288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II.</a:t>
            </a:r>
            <a:r>
              <a:rPr b="0" lang="en-US" sz="2800" spc="-1" strike="noStrike">
                <a:solidFill>
                  <a:srgbClr val="000000"/>
                </a:solidFill>
                <a:latin typeface="Arial Unicode MS"/>
              </a:rPr>
              <a:t>	</a:t>
            </a:r>
            <a:r>
              <a:rPr b="1" lang="en-US" sz="2800" spc="-1" strike="noStrike">
                <a:solidFill>
                  <a:srgbClr val="f1740d"/>
                </a:solidFill>
                <a:latin typeface="Arial Unicode MS"/>
              </a:rPr>
              <a:t>Social Situations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 </a:t>
            </a:r>
            <a:r>
              <a:rPr b="0" lang="en-US" sz="2800" spc="-1" strike="noStrike">
                <a:solidFill>
                  <a:srgbClr val="000000"/>
                </a:solidFill>
                <a:latin typeface="Arial Unicode MS"/>
              </a:rPr>
              <a:t>	</a:t>
            </a:r>
            <a:r>
              <a:rPr b="1" lang="en-US" sz="2800" spc="-1" strike="noStrike">
                <a:solidFill>
                  <a:srgbClr val="33cc33"/>
                </a:solidFill>
                <a:latin typeface="Arial Unicode MS"/>
              </a:rPr>
              <a:t>Frustration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B. </a:t>
            </a:r>
            <a:r>
              <a:rPr b="0" lang="en-US" sz="2800" spc="-1" strike="noStrike">
                <a:solidFill>
                  <a:srgbClr val="000000"/>
                </a:solidFill>
                <a:latin typeface="Arial Unicode MS"/>
              </a:rPr>
              <a:t>	</a:t>
            </a:r>
            <a:r>
              <a:rPr b="1" lang="en-US" sz="2800" spc="-1" strike="noStrike">
                <a:solidFill>
                  <a:srgbClr val="33cc33"/>
                </a:solidFill>
                <a:latin typeface="Arial Unicode MS"/>
              </a:rPr>
              <a:t>Being Provoked and Reciprocating</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C. </a:t>
            </a:r>
            <a:r>
              <a:rPr b="0" lang="en-US" sz="2800" spc="-1" strike="noStrike">
                <a:solidFill>
                  <a:srgbClr val="000000"/>
                </a:solidFill>
                <a:latin typeface="Arial Unicode MS"/>
              </a:rPr>
              <a:t>	</a:t>
            </a:r>
            <a:r>
              <a:rPr b="1" lang="en-US" sz="2800" spc="-1" strike="noStrike">
                <a:solidFill>
                  <a:srgbClr val="33cc33"/>
                </a:solidFill>
                <a:latin typeface="Arial Unicode MS"/>
              </a:rPr>
              <a:t>Aggressive Objects as Cues</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D.</a:t>
            </a:r>
            <a:r>
              <a:rPr b="1" lang="en-US" sz="2800" spc="-1" strike="noStrike">
                <a:solidFill>
                  <a:srgbClr val="33cc33"/>
                </a:solidFill>
                <a:latin typeface="Arial Unicode MS"/>
              </a:rPr>
              <a:t>	</a:t>
            </a:r>
            <a:r>
              <a:rPr b="1" lang="en-US" sz="2800" spc="-1" strike="noStrike">
                <a:solidFill>
                  <a:srgbClr val="33cc33"/>
                </a:solidFill>
                <a:latin typeface="Arial Unicode MS"/>
              </a:rPr>
              <a:t>Imitation and Aggressio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E.</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Violence in the Media</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F.</a:t>
            </a:r>
            <a:r>
              <a:rPr b="1" lang="en-US" sz="2800" spc="-1" strike="noStrike">
                <a:solidFill>
                  <a:srgbClr val="33cc33"/>
                </a:solidFill>
                <a:latin typeface="Arial Unicode MS"/>
              </a:rPr>
              <a:t>	</a:t>
            </a:r>
            <a:r>
              <a:rPr b="1" lang="en-US" sz="2800" spc="-1" strike="noStrike">
                <a:solidFill>
                  <a:srgbClr val="33cc33"/>
                </a:solidFill>
                <a:latin typeface="Arial Unicode MS"/>
              </a:rPr>
              <a:t>Does Violence Sell?</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rPr>
              <a:t>	</a:t>
            </a:r>
            <a:r>
              <a:rPr b="1" lang="en-US" sz="2800" spc="-1" strike="noStrike">
                <a:solidFill>
                  <a:srgbClr val="33cc33"/>
                </a:solidFill>
                <a:latin typeface="Arial Unicode MS"/>
              </a:rPr>
              <a:t>	</a:t>
            </a:r>
            <a:r>
              <a:rPr b="0" lang="en-US" sz="2800" spc="-1" strike="noStrike">
                <a:solidFill>
                  <a:srgbClr val="000000"/>
                </a:solidFill>
                <a:latin typeface="Arial Unicode MS"/>
              </a:rPr>
              <a:t>G.</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Violent Pornography and Violence</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	</a:t>
            </a:r>
            <a:r>
              <a:rPr b="1" lang="en-US" sz="2800" spc="-1" strike="noStrike">
                <a:solidFill>
                  <a:srgbClr val="33cc33"/>
                </a:solidFill>
                <a:latin typeface="Arial Unicode MS"/>
              </a:rPr>
              <a:t>against Women</a:t>
            </a: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raining in Communication and Problem-Solving Skills</a:t>
            </a:r>
            <a:endParaRPr b="1" lang="en-US" sz="4400" spc="-1" strike="noStrike">
              <a:solidFill>
                <a:srgbClr val="000000"/>
              </a:solidFill>
              <a:latin typeface="Arial Narrow"/>
            </a:endParaRPr>
          </a:p>
        </p:txBody>
      </p:sp>
      <p:sp>
        <p:nvSpPr>
          <p:cNvPr id="1058" name="PlaceHolder 2"/>
          <p:cNvSpPr>
            <a:spLocks noGrp="1"/>
          </p:cNvSpPr>
          <p:nvPr>
            <p:ph/>
          </p:nvPr>
        </p:nvSpPr>
        <p:spPr>
          <a:xfrm>
            <a:off x="762120" y="2179800"/>
            <a:ext cx="8153280" cy="40687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eeling angry is part of being huma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roblem is the </a:t>
            </a:r>
            <a:r>
              <a:rPr b="0" i="1" lang="en-US" sz="2800" spc="-1" strike="noStrike">
                <a:solidFill>
                  <a:srgbClr val="000000"/>
                </a:solidFill>
                <a:latin typeface="Arial Unicode MS"/>
              </a:rPr>
              <a:t>expression of anger</a:t>
            </a:r>
            <a:r>
              <a:rPr b="0" lang="en-US" sz="2800" spc="-1" strike="noStrike">
                <a:solidFill>
                  <a:srgbClr val="000000"/>
                </a:solidFill>
                <a:latin typeface="Arial Unicode MS"/>
              </a:rPr>
              <a:t> in violent or cruel ways</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mal training programs can be an effective means for reducing aggression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raining in Communication and Problem-Solving Skills</a:t>
            </a:r>
            <a:endParaRPr b="1" lang="en-US" sz="4400" spc="-1" strike="noStrike">
              <a:solidFill>
                <a:srgbClr val="000000"/>
              </a:solidFill>
              <a:latin typeface="Arial Narrow"/>
            </a:endParaRPr>
          </a:p>
        </p:txBody>
      </p:sp>
      <p:sp>
        <p:nvSpPr>
          <p:cNvPr id="1060" name="PlaceHolder 2"/>
          <p:cNvSpPr>
            <a:spLocks noGrp="1"/>
          </p:cNvSpPr>
          <p:nvPr>
            <p:ph/>
          </p:nvPr>
        </p:nvSpPr>
        <p:spPr>
          <a:xfrm>
            <a:off x="762120" y="2027160"/>
            <a:ext cx="81532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mal Training Technique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mmunicating anger or criticism in constructive way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egotiating and compromising when conflicts occur</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ing more sensitive to the needs and desires of others</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Building Empathy</a:t>
            </a:r>
            <a:endParaRPr b="1" lang="en-US" sz="4400" spc="-1" strike="noStrike">
              <a:solidFill>
                <a:srgbClr val="000000"/>
              </a:solidFill>
              <a:latin typeface="Arial Narrow"/>
            </a:endParaRPr>
          </a:p>
        </p:txBody>
      </p:sp>
      <p:sp>
        <p:nvSpPr>
          <p:cNvPr id="1062" name="PlaceHolder 2"/>
          <p:cNvSpPr>
            <a:spLocks noGrp="1"/>
          </p:cNvSpPr>
          <p:nvPr>
            <p:ph/>
          </p:nvPr>
        </p:nvSpPr>
        <p:spPr>
          <a:xfrm>
            <a:off x="762120" y="2103480"/>
            <a:ext cx="8153280" cy="4525920"/>
          </a:xfrm>
          <a:prstGeom prst="rect">
            <a:avLst/>
          </a:prstGeom>
          <a:noFill/>
          <a:ln w="0">
            <a:noFill/>
          </a:ln>
        </p:spPr>
        <p:txBody>
          <a:bodyPr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is difficult to inflict pain on a stranger without dehumanizing the victim</a:t>
            </a:r>
            <a:endParaRPr b="0" lang="en-US" sz="2800" spc="-1" strike="noStrike">
              <a:solidFill>
                <a:srgbClr val="000000"/>
              </a:solidFill>
              <a:latin typeface="Arial Unicode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ilding empathy among people (</a:t>
            </a:r>
            <a:r>
              <a:rPr b="0" i="1" lang="en-US" sz="2800" spc="-1" strike="noStrike">
                <a:solidFill>
                  <a:srgbClr val="000000"/>
                </a:solidFill>
                <a:latin typeface="Arial Unicode MS"/>
              </a:rPr>
              <a:t>putting</a:t>
            </a:r>
            <a:r>
              <a:rPr b="0" lang="en-US" sz="2800" spc="-1" strike="noStrike">
                <a:solidFill>
                  <a:srgbClr val="000000"/>
                </a:solidFill>
                <a:latin typeface="Arial Unicode MS"/>
              </a:rPr>
              <a:t> </a:t>
            </a:r>
            <a:r>
              <a:rPr b="0" i="1" lang="en-US" sz="2800" spc="-1" strike="noStrike">
                <a:solidFill>
                  <a:srgbClr val="000000"/>
                </a:solidFill>
                <a:latin typeface="Arial Unicode MS"/>
              </a:rPr>
              <a:t>oneself in the shoes of another person and</a:t>
            </a:r>
            <a:r>
              <a:rPr b="0" lang="en-US" sz="2800" spc="-1" strike="noStrike">
                <a:solidFill>
                  <a:srgbClr val="000000"/>
                </a:solidFill>
                <a:latin typeface="Arial Unicode MS"/>
              </a:rPr>
              <a:t> </a:t>
            </a:r>
            <a:r>
              <a:rPr b="0" i="1" lang="en-US" sz="2800" spc="-1" strike="noStrike">
                <a:solidFill>
                  <a:srgbClr val="000000"/>
                </a:solidFill>
                <a:latin typeface="Arial Unicode MS"/>
              </a:rPr>
              <a:t>vicariously experiencing some of the same</a:t>
            </a:r>
            <a:r>
              <a:rPr b="0" lang="en-US" sz="2800" spc="-1" strike="noStrike">
                <a:solidFill>
                  <a:srgbClr val="000000"/>
                </a:solidFill>
                <a:latin typeface="Arial Unicode MS"/>
              </a:rPr>
              <a:t> </a:t>
            </a:r>
            <a:r>
              <a:rPr b="0" i="1" lang="en-US" sz="2800" spc="-1" strike="noStrike">
                <a:solidFill>
                  <a:srgbClr val="000000"/>
                </a:solidFill>
                <a:latin typeface="Arial Unicode MS"/>
              </a:rPr>
              <a:t>feelings that person is feeling</a:t>
            </a:r>
            <a:r>
              <a:rPr b="0" lang="en-US" sz="2800" spc="-1" strike="noStrike">
                <a:solidFill>
                  <a:srgbClr val="000000"/>
                </a:solidFill>
                <a:latin typeface="Arial Unicode MS"/>
              </a:rPr>
              <a:t>) makes aggressive acts more difficult to commit</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685440"/>
            <a:ext cx="7772400" cy="2895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The Southern Poverty </a:t>
            </a:r>
            <a:br>
              <a:rPr sz="4800"/>
            </a:br>
            <a:r>
              <a:rPr b="0" lang="en-US" sz="4800" spc="-1" strike="noStrike">
                <a:solidFill>
                  <a:srgbClr val="dbbd71"/>
                </a:solidFill>
                <a:latin typeface="Arial"/>
              </a:rPr>
              <a:t>Law Center:</a:t>
            </a:r>
            <a:br>
              <a:rPr sz="4800"/>
            </a:br>
            <a:br>
              <a:rPr sz="4800"/>
            </a:br>
            <a:r>
              <a:rPr b="1" lang="en-US" sz="4800" spc="-1" strike="noStrike">
                <a:solidFill>
                  <a:srgbClr val="dbbd71"/>
                </a:solidFill>
                <a:latin typeface="Arial"/>
              </a:rPr>
              <a:t>How to Reduce Bullying</a:t>
            </a:r>
            <a:endParaRPr b="0" lang="en-US" sz="4800" spc="-1" strike="noStrike">
              <a:solidFill>
                <a:srgbClr val="dbbd71"/>
              </a:solidFill>
              <a:latin typeface="Arial"/>
            </a:endParaRPr>
          </a:p>
        </p:txBody>
      </p:sp>
      <p:sp>
        <p:nvSpPr>
          <p:cNvPr id="1064" name="PlaceHolder 2"/>
          <p:cNvSpPr>
            <a:spLocks noGrp="1"/>
          </p:cNvSpPr>
          <p:nvPr>
            <p:ph type="subTitle"/>
          </p:nvPr>
        </p:nvSpPr>
        <p:spPr>
          <a:xfrm>
            <a:off x="1371600" y="495252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outhern Poverty Law Center is a nonprofit civil rights organization dedicated to fighting hate and bigotry, and to seeking justice for the most vulnerable members of society. </a:t>
            </a:r>
            <a:br>
              <a:rPr sz="2000"/>
            </a:br>
            <a:br>
              <a:rPr sz="2000"/>
            </a:br>
            <a:endParaRPr b="0" lang="en-US" sz="2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One</a:t>
            </a:r>
            <a:endParaRPr b="0" lang="en-US" sz="4400" spc="-1" strike="noStrike">
              <a:solidFill>
                <a:srgbClr val="dbbd71"/>
              </a:solidFill>
              <a:latin typeface="Arial"/>
            </a:endParaRPr>
          </a:p>
        </p:txBody>
      </p:sp>
      <p:sp>
        <p:nvSpPr>
          <p:cNvPr id="1066"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now about the issue and believe it is a problem</a:t>
            </a: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Tahoma"/>
              </a:rPr>
              <a:t>(</a:t>
            </a:r>
            <a:r>
              <a:rPr b="0" i="1" lang="en-US" sz="4400" spc="-1" strike="noStrike">
                <a:solidFill>
                  <a:srgbClr val="cc9900"/>
                </a:solidFill>
                <a:latin typeface="Tahoma"/>
              </a:rPr>
              <a:t>Bully</a:t>
            </a:r>
            <a:r>
              <a:rPr b="0" lang="en-US" sz="4400" spc="-1" strike="noStrike">
                <a:solidFill>
                  <a:srgbClr val="cc9900"/>
                </a:solidFill>
                <a:latin typeface="Tahoma"/>
              </a:rPr>
              <a:t> DV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What is Bullying?</a:t>
            </a:r>
            <a:endParaRPr b="0" lang="en-US" sz="4400" spc="-1" strike="noStrike">
              <a:solidFill>
                <a:srgbClr val="dbbd71"/>
              </a:solidFill>
              <a:latin typeface="Arial"/>
            </a:endParaRPr>
          </a:p>
        </p:txBody>
      </p:sp>
      <p:sp>
        <p:nvSpPr>
          <p:cNvPr id="10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your own words, how would you define bully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Indiana Law </a:t>
            </a:r>
            <a:r>
              <a:rPr b="0" lang="en-US" sz="4400" spc="-1" strike="noStrike">
                <a:solidFill>
                  <a:srgbClr val="dbbd71"/>
                </a:solidFill>
                <a:latin typeface="Arial"/>
              </a:rPr>
              <a:t>(HEA 1423)</a:t>
            </a:r>
            <a:endParaRPr b="0" lang="en-US" sz="4400" spc="-1" strike="noStrike">
              <a:solidFill>
                <a:srgbClr val="dbbd71"/>
              </a:solidFill>
              <a:latin typeface="Arial"/>
            </a:endParaRPr>
          </a:p>
        </p:txBody>
      </p:sp>
      <p:sp>
        <p:nvSpPr>
          <p:cNvPr id="1070" name=""/>
          <p:cNvSpPr txBox="1"/>
          <p:nvPr/>
        </p:nvSpPr>
        <p:spPr>
          <a:xfrm>
            <a:off x="228600" y="1512360"/>
            <a:ext cx="8763120" cy="5334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vert (intentional), unwanted, </a:t>
            </a:r>
            <a:r>
              <a:rPr b="0" lang="en-US" sz="2800" spc="-1" strike="noStrike" u="sng">
                <a:solidFill>
                  <a:srgbClr val="ffffff"/>
                </a:solidFill>
                <a:uFillTx/>
                <a:latin typeface="Tahoma"/>
              </a:rPr>
              <a:t>repeated</a:t>
            </a:r>
            <a:r>
              <a:rPr b="0" lang="en-US" sz="2800" spc="-1" strike="noStrike">
                <a:solidFill>
                  <a:srgbClr val="ffffff"/>
                </a:solidFill>
                <a:latin typeface="Tahoma"/>
              </a:rPr>
              <a:t> acts or gestures including:</a:t>
            </a:r>
            <a:endParaRPr b="0" lang="en-US" sz="2800" spc="-1" strike="noStrike">
              <a:solidFill>
                <a:srgbClr val="ffffff"/>
              </a:solidFill>
              <a:latin typeface="Tahoma"/>
            </a:endParaRPr>
          </a:p>
          <a:p>
            <a:pP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bal or written communication or images transmitted in any manner (including digitally or electronically)</a:t>
            </a:r>
            <a:endParaRPr b="0" lang="en-US" sz="2800" spc="-1" strike="noStrike">
              <a:solidFill>
                <a:srgbClr val="ffffff"/>
              </a:solidFill>
              <a:latin typeface="Tahoma"/>
            </a:endParaRPr>
          </a:p>
          <a:p>
            <a:pP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al acts committed by a student or group of students against another student with the intent to</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ass, ridicule, humiliate, intimidate or harm the targeted student an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for the targeted student an objectively hostile school environ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ypes of Bullying</a:t>
            </a:r>
            <a:endParaRPr b="0" lang="en-US" sz="4400" spc="-1" strike="noStrike">
              <a:solidFill>
                <a:srgbClr val="dbbd71"/>
              </a:solidFill>
              <a:latin typeface="Arial"/>
            </a:endParaRPr>
          </a:p>
        </p:txBody>
      </p:sp>
      <p:sp>
        <p:nvSpPr>
          <p:cNvPr id="1072"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ysic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Relational</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or Written Commun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Physical Bullying</a:t>
            </a:r>
            <a:endParaRPr b="0" lang="en-US" sz="4400" spc="-1" strike="noStrike">
              <a:solidFill>
                <a:srgbClr val="dbbd71"/>
              </a:solidFill>
              <a:latin typeface="Arial"/>
            </a:endParaRPr>
          </a:p>
        </p:txBody>
      </p:sp>
      <p:sp>
        <p:nvSpPr>
          <p:cNvPr id="1074" name=""/>
          <p:cNvSpPr txBox="1"/>
          <p:nvPr/>
        </p:nvSpPr>
        <p:spPr>
          <a:xfrm>
            <a:off x="457200" y="1600200"/>
            <a:ext cx="8229600" cy="50292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tting/kicking/pinch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tt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pping/push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ing or breaking someone’s thing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mean or rude hand gestur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Verbal Bullying</a:t>
            </a:r>
            <a:endParaRPr b="0" lang="en-US" sz="4400" spc="-1" strike="noStrike">
              <a:solidFill>
                <a:srgbClr val="dbbd71"/>
              </a:solidFill>
              <a:latin typeface="Arial"/>
            </a:endParaRPr>
          </a:p>
        </p:txBody>
      </p:sp>
      <p:sp>
        <p:nvSpPr>
          <p:cNvPr id="1076" name=""/>
          <p:cNvSpPr txBox="1"/>
          <p:nvPr/>
        </p:nvSpPr>
        <p:spPr>
          <a:xfrm>
            <a:off x="457200" y="1599840"/>
            <a:ext cx="8229600" cy="480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s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call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appropriate sexual comment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untin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ause har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How to Reduce Aggression</a:t>
            </a:r>
            <a:endParaRPr b="1" lang="en-US" sz="5400" spc="-1" strike="noStrike">
              <a:solidFill>
                <a:srgbClr val="000000"/>
              </a:solidFill>
              <a:latin typeface="Arial Narrow"/>
            </a:endParaRPr>
          </a:p>
        </p:txBody>
      </p:sp>
      <p:sp>
        <p:nvSpPr>
          <p:cNvPr id="1010" name="PlaceHolder 2"/>
          <p:cNvSpPr>
            <a:spLocks noGrp="1"/>
          </p:cNvSpPr>
          <p:nvPr>
            <p:ph/>
          </p:nvPr>
        </p:nvSpPr>
        <p:spPr>
          <a:xfrm>
            <a:off x="762120" y="2103480"/>
            <a:ext cx="807696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Stop hitting your brother!”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a:t>
            </a:r>
            <a:r>
              <a:rPr b="0" i="1" lang="en-US" sz="2800" spc="-1" strike="noStrike">
                <a:solidFill>
                  <a:srgbClr val="000000"/>
                </a:solidFill>
                <a:latin typeface="Arial Unicode MS"/>
              </a:rPr>
              <a:t>Turn off the TV and go to your room!”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ying to curb the aggressive behavior of their children, most parents use some form of punishmen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deny privileges; others use force.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ow well does punishment work? </a:t>
            </a:r>
            <a:endParaRPr b="0" lang="en-US" sz="2800" spc="-1" strike="noStrike">
              <a:solidFill>
                <a:srgbClr val="000000"/>
              </a:solidFill>
              <a:latin typeface="Arial Unicode MS"/>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ocial/Relational Bullying</a:t>
            </a:r>
            <a:endParaRPr b="0" lang="en-US" sz="4400" spc="-1" strike="noStrike">
              <a:solidFill>
                <a:srgbClr val="dbbd71"/>
              </a:solidFill>
              <a:latin typeface="Arial"/>
            </a:endParaRPr>
          </a:p>
        </p:txBody>
      </p:sp>
      <p:sp>
        <p:nvSpPr>
          <p:cNvPr id="1078" name=""/>
          <p:cNvSpPr txBox="1"/>
          <p:nvPr/>
        </p:nvSpPr>
        <p:spPr>
          <a:xfrm>
            <a:off x="457200" y="18284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ving someone out on purpos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lling others not to be friends with someo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rumors about someo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barrassing someone in publ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Electronic (Cyber) Bullying</a:t>
            </a:r>
            <a:endParaRPr b="0" lang="en-US" sz="4400" spc="-1" strike="noStrike">
              <a:solidFill>
                <a:srgbClr val="dbbd71"/>
              </a:solidFill>
              <a:latin typeface="Arial"/>
            </a:endParaRPr>
          </a:p>
        </p:txBody>
      </p:sp>
      <p:sp>
        <p:nvSpPr>
          <p:cNvPr id="1080" name=""/>
          <p:cNvSpPr txBox="1"/>
          <p:nvPr/>
        </p:nvSpPr>
        <p:spPr>
          <a:xfrm>
            <a:off x="457200" y="18284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n text messages or email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mors and/or embarrassing pictures/videos sent by email or posted on social networking site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fake profi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Bullying By The Numbers</a:t>
            </a:r>
            <a:endParaRPr b="0" lang="en-US" sz="4400" spc="-1" strike="noStrike">
              <a:solidFill>
                <a:srgbClr val="dbbd71"/>
              </a:solidFill>
              <a:latin typeface="Arial"/>
            </a:endParaRPr>
          </a:p>
        </p:txBody>
      </p:sp>
      <p:sp>
        <p:nvSpPr>
          <p:cNvPr id="1082" name="PlaceHolder 2"/>
          <p:cNvSpPr>
            <a:spLocks noGrp="1"/>
          </p:cNvSpPr>
          <p:nvPr>
            <p:ph/>
          </p:nvPr>
        </p:nvSpPr>
        <p:spPr>
          <a:xfrm>
            <a:off x="457200" y="2174760"/>
            <a:ext cx="8229600" cy="453096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0,000… Estimated number of U.S. students who skip school daily to avoid being bulli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 Students who report being bullied at school during the school yea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Gay or lesbian students who report being bulli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Bullying By The Numbers</a:t>
            </a:r>
            <a:endParaRPr b="0" lang="en-US" sz="4400" spc="-1" strike="noStrike">
              <a:solidFill>
                <a:srgbClr val="dbbd71"/>
              </a:solidFill>
              <a:latin typeface="Arial"/>
            </a:endParaRPr>
          </a:p>
        </p:txBody>
      </p:sp>
      <p:sp>
        <p:nvSpPr>
          <p:cNvPr id="1084" name="PlaceHolder 2"/>
          <p:cNvSpPr>
            <a:spLocks noGrp="1"/>
          </p:cNvSpPr>
          <p:nvPr>
            <p:ph/>
          </p:nvPr>
        </p:nvSpPr>
        <p:spPr>
          <a:xfrm>
            <a:off x="457200" y="202212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0%... Teachers surveyed who say that educators “almost always” intervene when bullying occu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 9th graders who believe their teachers are interested in trying to stop bullying</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6%... Bullying victims who believe school professionals responded poorly to the bullying they observ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bbd71"/>
                </a:solidFill>
                <a:latin typeface="Arial"/>
              </a:rPr>
              <a:t>Facts and Myths About Bullies</a:t>
            </a:r>
            <a:endParaRPr b="0" lang="en-US" sz="4000" spc="-1" strike="noStrike">
              <a:solidFill>
                <a:srgbClr val="dbbd71"/>
              </a:solidFill>
              <a:latin typeface="Arial"/>
            </a:endParaRPr>
          </a:p>
        </p:txBody>
      </p:sp>
      <p:sp>
        <p:nvSpPr>
          <p:cNvPr id="1086" name="PlaceHolder 2"/>
          <p:cNvSpPr>
            <a:spLocks noGrp="1"/>
          </p:cNvSpPr>
          <p:nvPr>
            <p:ph/>
          </p:nvPr>
        </p:nvSpPr>
        <p:spPr>
          <a:xfrm>
            <a:off x="457200" y="17226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RUE OR FALS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arly one-third of American teens are involved in bullying.</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wer than 10% of American teens admit to bullying other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tudents who bully are insecure.</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e bullies are not usually bigger or physically stronger than their peer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ies have trouble making friends.</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llies do poorly in school compared to students who do not bull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llies discontinue aggressive behavior in adulthoo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Two</a:t>
            </a:r>
            <a:endParaRPr b="0" lang="en-US" sz="4400" spc="-1" strike="noStrike">
              <a:solidFill>
                <a:srgbClr val="dbbd71"/>
              </a:solidFill>
              <a:latin typeface="Arial"/>
            </a:endParaRPr>
          </a:p>
        </p:txBody>
      </p:sp>
      <p:sp>
        <p:nvSpPr>
          <p:cNvPr id="1088"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dentify the needs of your school or communit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Step Three</a:t>
            </a:r>
            <a:endParaRPr b="0" lang="en-US" sz="4400" spc="-1" strike="noStrike">
              <a:solidFill>
                <a:srgbClr val="dbbd71"/>
              </a:solidFill>
              <a:latin typeface="Arial"/>
            </a:endParaRPr>
          </a:p>
        </p:txBody>
      </p:sp>
      <p:sp>
        <p:nvSpPr>
          <p:cNvPr id="1090" name=""/>
          <p:cNvSpPr txBox="1"/>
          <p:nvPr/>
        </p:nvSpPr>
        <p:spPr>
          <a:xfrm>
            <a:off x="457200" y="2057040"/>
            <a:ext cx="8229600" cy="40734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velop an Action Pla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Norway Study</a:t>
            </a:r>
            <a:br>
              <a:rPr sz="4400"/>
            </a:br>
            <a:r>
              <a:rPr b="0" lang="en-US" sz="3200" spc="-1" strike="noStrike">
                <a:solidFill>
                  <a:srgbClr val="dbbd71"/>
                </a:solidFill>
                <a:latin typeface="Arial"/>
              </a:rPr>
              <a:t>(P. 398)</a:t>
            </a:r>
            <a:endParaRPr b="0" lang="en-US" sz="3200" spc="-1" strike="noStrike">
              <a:solidFill>
                <a:srgbClr val="dbbd71"/>
              </a:solidFill>
              <a:latin typeface="Arial"/>
            </a:endParaRPr>
          </a:p>
        </p:txBody>
      </p:sp>
      <p:sp>
        <p:nvSpPr>
          <p:cNvPr id="1092" name=""/>
          <p:cNvSpPr txBox="1"/>
          <p:nvPr/>
        </p:nvSpPr>
        <p:spPr>
          <a:xfrm>
            <a:off x="457200" y="1600200"/>
            <a:ext cx="8229600" cy="502920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sychologist Dan Olweus (1991) curbed bullying in Norway by:</a:t>
            </a:r>
            <a:br>
              <a:rPr sz="2800"/>
            </a:br>
            <a:endParaRPr b="0" lang="en-US" sz="32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eying all 90,000 schoolchildren </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data (that bullying was serious and widespread), communitywide meetings were held to explain the problem</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 discussed ways to prevent bullying</a:t>
            </a:r>
            <a:endParaRPr b="0" lang="en-US" sz="2800" spc="-1" strike="noStrike">
              <a:solidFill>
                <a:srgbClr val="ffffff"/>
              </a:solidFill>
              <a:latin typeface="Tahoma"/>
            </a:endParaRPr>
          </a:p>
          <a:p>
            <a:pPr marL="585000" indent="-585000">
              <a:lnSpc>
                <a:spcPct val="9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selors intervened using a combination of mild punishments and intensive therapy with the bully and counseling with his/her parents</a:t>
            </a:r>
            <a:endParaRPr b="0" lang="en-US" sz="2800" spc="-1" strike="noStrike">
              <a:solidFill>
                <a:srgbClr val="ffffff"/>
              </a:solidFill>
              <a:latin typeface="Tahoma"/>
            </a:endParaRPr>
          </a:p>
          <a:p>
            <a:pPr marL="585000" indent="-5850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sources</a:t>
            </a:r>
            <a:endParaRPr b="0" lang="en-US" sz="4400" spc="-1" strike="noStrike">
              <a:solidFill>
                <a:srgbClr val="dbbd71"/>
              </a:solidFill>
              <a:latin typeface="Arial"/>
            </a:endParaRPr>
          </a:p>
        </p:txBody>
      </p:sp>
      <p:sp>
        <p:nvSpPr>
          <p:cNvPr id="1094" name="PlaceHolder 2"/>
          <p:cNvSpPr>
            <a:spLocks noGrp="1"/>
          </p:cNvSpPr>
          <p:nvPr>
            <p:ph/>
          </p:nvPr>
        </p:nvSpPr>
        <p:spPr>
          <a:xfrm>
            <a:off x="151920" y="1523880"/>
            <a:ext cx="8534520" cy="51818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Youth Inf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ullyinginfo .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fe Schools Coali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afeschoolscoalition.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es for Children</a:t>
            </a:r>
            <a:br>
              <a:rPr sz="3200"/>
            </a:br>
            <a:r>
              <a:rPr b="0" lang="en-US" sz="3200" spc="-1" strike="noStrike">
                <a:solidFill>
                  <a:srgbClr val="ffffff"/>
                </a:solidFill>
                <a:latin typeface="Tahoma"/>
              </a:rPr>
              <a:t>cfchildren.or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Resources</a:t>
            </a:r>
            <a:endParaRPr b="0" lang="en-US" sz="4400" spc="-1" strike="noStrike">
              <a:solidFill>
                <a:srgbClr val="dbbd71"/>
              </a:solidFill>
              <a:latin typeface="Arial"/>
            </a:endParaRPr>
          </a:p>
        </p:txBody>
      </p:sp>
      <p:sp>
        <p:nvSpPr>
          <p:cNvPr id="1096" name=""/>
          <p:cNvSpPr txBox="1"/>
          <p:nvPr/>
        </p:nvSpPr>
        <p:spPr>
          <a:xfrm>
            <a:off x="75960" y="1600200"/>
            <a:ext cx="89154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y, Lesbian and Straight Education Network</a:t>
            </a:r>
            <a:br>
              <a:rPr sz="2800"/>
            </a:br>
            <a:r>
              <a:rPr b="0" lang="en-US" sz="3200" spc="-1" strike="noStrike">
                <a:solidFill>
                  <a:srgbClr val="ffffff"/>
                </a:solidFill>
                <a:latin typeface="Tahoma"/>
              </a:rPr>
              <a:t>glsen.org</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ully Project</a:t>
            </a:r>
            <a:br>
              <a:rPr sz="3200"/>
            </a:br>
            <a:r>
              <a:rPr b="0" lang="en-US" sz="3200" spc="-1" strike="noStrike">
                <a:solidFill>
                  <a:srgbClr val="ffffff"/>
                </a:solidFill>
                <a:latin typeface="Tahoma"/>
              </a:rPr>
              <a:t>thebullyproject.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Does Punishing Aggression</a:t>
            </a:r>
            <a:br>
              <a:rPr sz="4400"/>
            </a:br>
            <a:r>
              <a:rPr b="1" lang="en-US" sz="4400" spc="-1" strike="noStrike">
                <a:solidFill>
                  <a:srgbClr val="33cc33"/>
                </a:solidFill>
                <a:latin typeface="Arial Narrow"/>
              </a:rPr>
              <a:t>Reduce Aggressive Behavior?</a:t>
            </a:r>
            <a:endParaRPr b="1" lang="en-US" sz="4400" spc="-1" strike="noStrike">
              <a:solidFill>
                <a:srgbClr val="000000"/>
              </a:solidFill>
              <a:latin typeface="Arial Narrow"/>
            </a:endParaRPr>
          </a:p>
        </p:txBody>
      </p:sp>
      <p:sp>
        <p:nvSpPr>
          <p:cNvPr id="1012" name="PlaceHolder 2"/>
          <p:cNvSpPr>
            <a:spLocks noGrp="1"/>
          </p:cNvSpPr>
          <p:nvPr>
            <p:ph/>
          </p:nvPr>
        </p:nvSpPr>
        <p:spPr>
          <a:xfrm>
            <a:off x="762120" y="2103480"/>
            <a:ext cx="807696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f punishment takes the form of an aggressive act, the punishers are actually </a:t>
            </a:r>
            <a:r>
              <a:rPr b="0" lang="en-US" sz="2400" spc="-1" strike="noStrike" u="sng">
                <a:solidFill>
                  <a:srgbClr val="000000"/>
                </a:solidFill>
                <a:uFillTx/>
                <a:latin typeface="Arial Unicode MS"/>
              </a:rPr>
              <a:t>modeling</a:t>
            </a:r>
            <a:r>
              <a:rPr b="0" lang="en-US" sz="2400" spc="-1" strike="noStrike">
                <a:solidFill>
                  <a:srgbClr val="000000"/>
                </a:solidFill>
                <a:latin typeface="Arial Unicode MS"/>
              </a:rPr>
              <a:t> aggressive behavior for the person whose aggressive behavior they are trying to stamp out and might induce that person to imitate their action. </a:t>
            </a:r>
            <a:endParaRPr b="0" lang="en-US" sz="2400" spc="-1" strike="noStrike">
              <a:solidFill>
                <a:srgbClr val="000000"/>
              </a:solidFill>
              <a:latin typeface="Arial Unicode MS"/>
            </a:endParaRPr>
          </a:p>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ral experiments demonstrated that threat of relatively severe punishment does not make committing a transgression less appealing to a preschooler. </a:t>
            </a:r>
            <a:endParaRPr b="0" lang="en-US" sz="2400" spc="-1" strike="noStrike">
              <a:solidFill>
                <a:srgbClr val="000000"/>
              </a:solidFill>
              <a:latin typeface="Arial Unicode MS"/>
            </a:endParaRPr>
          </a:p>
          <a:p>
            <a:pPr marL="318960" indent="-31896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n the other hand, the threat of mild punishment—of a degree just powerful enough to get the child to stop the undesired activity temporarily—leads the child to try to justify his or her restraint and, as a result, can make the behavior less appealing.</a:t>
            </a:r>
            <a:endParaRPr b="0" lang="en-US" sz="2400" spc="-1" strike="noStrike">
              <a:solidFill>
                <a:srgbClr val="000000"/>
              </a:solidFill>
              <a:latin typeface="Arial Unicode M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End</a:t>
            </a:r>
            <a:endParaRPr b="0" lang="en-US" sz="4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Using Punishment on Violent Adults </a:t>
            </a:r>
            <a:endParaRPr b="1" lang="en-US" sz="4000" spc="-1" strike="noStrike">
              <a:solidFill>
                <a:srgbClr val="000000"/>
              </a:solidFill>
              <a:latin typeface="Arial Narrow"/>
            </a:endParaRPr>
          </a:p>
        </p:txBody>
      </p:sp>
      <p:sp>
        <p:nvSpPr>
          <p:cNvPr id="1014" name="PlaceHolder 2"/>
          <p:cNvSpPr>
            <a:spLocks noGrp="1"/>
          </p:cNvSpPr>
          <p:nvPr>
            <p:ph/>
          </p:nvPr>
        </p:nvSpPr>
        <p:spPr>
          <a:xfrm>
            <a:off x="762120" y="1554120"/>
            <a:ext cx="49528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es the threat of harsh punishments for violent crimes make such crimes less likely? </a:t>
            </a:r>
            <a:endParaRPr b="0" lang="en-US" sz="2800" spc="-1" strike="noStrike">
              <a:solidFill>
                <a:srgbClr val="000000"/>
              </a:solidFill>
              <a:latin typeface="Arial Unicode MS"/>
            </a:endParaRPr>
          </a:p>
        </p:txBody>
      </p:sp>
      <p:pic>
        <p:nvPicPr>
          <p:cNvPr id="1015" name="Picture 5" descr="j0287178[1]"/>
          <p:cNvPicPr/>
          <p:nvPr/>
        </p:nvPicPr>
        <p:blipFill>
          <a:blip r:embed="rId1"/>
          <a:stretch/>
        </p:blipFill>
        <p:spPr>
          <a:xfrm>
            <a:off x="5715000" y="1298520"/>
            <a:ext cx="2803680" cy="2282760"/>
          </a:xfrm>
          <a:prstGeom prst="rect">
            <a:avLst/>
          </a:prstGeom>
          <a:ln w="0">
            <a:noFill/>
          </a:ln>
        </p:spPr>
      </p:pic>
      <p:sp>
        <p:nvSpPr>
          <p:cNvPr id="1016" name="Rectangle 6"/>
          <p:cNvSpPr/>
          <p:nvPr/>
        </p:nvSpPr>
        <p:spPr>
          <a:xfrm>
            <a:off x="762120" y="3733920"/>
            <a:ext cx="81532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people who are about to commit violent crimes say to themselves, “I’d better not do this because if i get caught, I’m going to jail for a long time; I might even be execute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cientific evidence is mixed. </a:t>
            </a:r>
            <a:endParaRPr b="0" lang="en-US" sz="2800" spc="-1" strike="noStrike">
              <a:solidFill>
                <a:srgbClr val="000000"/>
              </a:solidFill>
              <a:latin typeface="Arial"/>
            </a:endParaRPr>
          </a:p>
        </p:txBody>
      </p:sp>
      <p:sp>
        <p:nvSpPr>
          <p:cNvPr id="1017" name="Text Box 7"/>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Using Punishment on Violent Adults</a:t>
            </a:r>
            <a:endParaRPr b="1" lang="en-US" sz="4000" spc="-1" strike="noStrike">
              <a:solidFill>
                <a:srgbClr val="000000"/>
              </a:solidFill>
              <a:latin typeface="Arial Narrow"/>
            </a:endParaRPr>
          </a:p>
        </p:txBody>
      </p:sp>
      <p:sp>
        <p:nvSpPr>
          <p:cNvPr id="1019" name="PlaceHolder 2"/>
          <p:cNvSpPr>
            <a:spLocks noGrp="1"/>
          </p:cNvSpPr>
          <p:nvPr>
            <p:ph/>
          </p:nvPr>
        </p:nvSpPr>
        <p:spPr>
          <a:xfrm>
            <a:off x="837720" y="2027160"/>
            <a:ext cx="80773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boratory experiments indicate that punishment can indeed act as a deterrent if two “ideal conditions” are me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ust be promp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ust be unavoidabl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e real world, these ideal conditions are almost never met, especially in a complex society with a high crime rate and a slow criminal justice system like our own. </a:t>
            </a:r>
            <a:endParaRPr b="0" lang="en-US" sz="2800" spc="-1" strike="noStrike">
              <a:solidFill>
                <a:srgbClr val="000000"/>
              </a:solidFill>
              <a:latin typeface="Arial Unicode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0" name="Picture 5" descr="Fig12-03"/>
          <p:cNvPicPr/>
          <p:nvPr/>
        </p:nvPicPr>
        <p:blipFill>
          <a:blip r:embed="rId1"/>
          <a:stretch/>
        </p:blipFill>
        <p:spPr>
          <a:xfrm>
            <a:off x="685800" y="380880"/>
            <a:ext cx="8153280" cy="4052880"/>
          </a:xfrm>
          <a:prstGeom prst="rect">
            <a:avLst/>
          </a:prstGeom>
          <a:ln w="0">
            <a:noFill/>
          </a:ln>
        </p:spPr>
      </p:pic>
      <p:sp>
        <p:nvSpPr>
          <p:cNvPr id="1021" name="Rectangle 6"/>
          <p:cNvSpPr/>
          <p:nvPr/>
        </p:nvSpPr>
        <p:spPr>
          <a:xfrm>
            <a:off x="838080" y="4587840"/>
            <a:ext cx="8077320" cy="211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uring the past thirty years, the homicide rate in the United States has fluctuated between 6 and 10 murders per year for every 100,000 people in the population.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statistic is striking when one compares it to other industrialized countries like Germany, England, and France, where the homicide rate has remained stable at less than 1 per 100,000. </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atharsis and Aggression</a:t>
            </a:r>
            <a:endParaRPr b="1" lang="en-US" sz="5400" spc="-1" strike="noStrike">
              <a:solidFill>
                <a:srgbClr val="000000"/>
              </a:solidFill>
              <a:latin typeface="Arial Narrow"/>
            </a:endParaRPr>
          </a:p>
        </p:txBody>
      </p:sp>
      <p:sp>
        <p:nvSpPr>
          <p:cNvPr id="1023" name="PlaceHolder 2"/>
          <p:cNvSpPr>
            <a:spLocks noGrp="1"/>
          </p:cNvSpPr>
          <p:nvPr>
            <p:ph/>
          </p:nvPr>
        </p:nvSpPr>
        <p:spPr>
          <a:xfrm>
            <a:off x="762120" y="2103480"/>
            <a:ext cx="81532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ventional wisdom suggests that one way to reduce feelings of aggression is to do something aggressiv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Get it out of your system” has been a common piece of advice.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is common belief is based on an oversimplification of the psychoanalytic notion of </a:t>
            </a:r>
            <a:r>
              <a:rPr b="1" lang="en-US" sz="2800" spc="-1" strike="noStrike">
                <a:solidFill>
                  <a:srgbClr val="000000"/>
                </a:solidFill>
                <a:latin typeface="Arial Unicode MS"/>
              </a:rPr>
              <a:t>catharsis</a:t>
            </a:r>
            <a:r>
              <a:rPr b="0" lang="en-US" sz="2800" spc="-1" strike="noStrike">
                <a:solidFill>
                  <a:srgbClr val="000000"/>
                </a:solidFill>
                <a:latin typeface="Arial Unicode MS"/>
              </a:rPr>
              <a:t>.</a:t>
            </a:r>
            <a:endParaRPr b="0" lang="en-US" sz="28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Catharsis and Aggression</a:t>
            </a:r>
            <a:endParaRPr b="1" lang="en-US" sz="5400" spc="-1" strike="noStrike">
              <a:solidFill>
                <a:srgbClr val="000000"/>
              </a:solidFill>
              <a:latin typeface="Arial Narrow"/>
            </a:endParaRPr>
          </a:p>
        </p:txBody>
      </p:sp>
      <p:sp>
        <p:nvSpPr>
          <p:cNvPr id="1025" name="PlaceHolder 2"/>
          <p:cNvSpPr>
            <a:spLocks noGrp="1"/>
          </p:cNvSpPr>
          <p:nvPr>
            <p:ph/>
          </p:nvPr>
        </p:nvSpPr>
        <p:spPr>
          <a:xfrm>
            <a:off x="838080" y="2209680"/>
            <a:ext cx="7925040" cy="4267440"/>
          </a:xfrm>
          <a:prstGeom prst="rect">
            <a:avLst/>
          </a:prstGeom>
          <a:solidFill>
            <a:srgbClr val="c6dbc3"/>
          </a:solidFill>
          <a:ln w="38160">
            <a:solidFill>
              <a:srgbClr val="000000"/>
            </a:solidFill>
            <a:miter/>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Catharsis</a:t>
            </a:r>
            <a:endParaRPr b="0" lang="en-US" sz="3200" spc="-1" strike="noStrike">
              <a:solidFill>
                <a:srgbClr val="000000"/>
              </a:solidFill>
              <a:latin typeface="Arial Unicode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notion that “blowing off steam”—by performing an aggressive act, watching others engage in aggressive behaviors, or engaging in a fantasy of aggression—relieves built-up aggressive energies and hence reduces the likelihood of further aggressive behavior. </a:t>
            </a:r>
            <a:endParaRPr b="0" lang="en-US" sz="32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Mark</cp:lastModifiedBy>
  <cp:lastPrinted>2013-04-17T13:16:17Z</cp:lastPrinted>
  <dcterms:modified xsi:type="dcterms:W3CDTF">2014-04-19T13:26:08Z</dcterms:modified>
  <cp:revision>224</cp:revision>
  <dc:subject/>
  <dc:title>Social Psychology</dc:title>
</cp:coreProperties>
</file>